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995-5E88-4C19-A745-37724F5A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45B-BCEA-4DF7-A055-2BDCE748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D0A-1E7C-40AB-A09F-D0FF4B3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D0A-55EA-48B3-8417-B4A67EBD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726-F0FE-4CBB-B3B5-75F6C45B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38B1-5A92-4977-9E15-6C65A491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6A8-2C7C-4899-8D9D-071A9CF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FCA2-49A6-4272-AC1E-FF86768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56F7-3C2A-4800-8F6E-556500F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13F7-F698-43D5-A08E-A7151A6C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1F94-3EC5-4C00-8082-DAD5AA21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AFF-8868-4EA2-AE3A-FE1BBDF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5B54-8814-495A-ACAC-35E638D0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ED2-87FF-471D-A53B-1A572D8C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6CCE-D421-42F7-B579-BB4AECDD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6D1-CF52-4C94-8D8E-C52F4E67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9571-D683-4F88-A90A-CEAA45E1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3E0-9649-4A75-810A-4D4A74AE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1AC-26F6-4818-B241-0461745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BFA-F299-4035-85D3-CFF7C55E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47A-80A5-4A5D-A6A9-7DA77D07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D64-2378-4261-9863-6F21411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77D-17E3-44B4-9BCB-883849D3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26B-CAD7-483E-8620-424A6BD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ED12-78A2-4FFB-AE47-4DB94528B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3F8C-6003-4A74-B231-3AA604045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ект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утбольный мяч и все, что с ним связа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 подготов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заков Ник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2 «Б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Школа №1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ранов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Творческая работа</a:t>
            </a:r>
            <a:br>
              <a:rPr sz="1400"/>
            </a:br>
            <a:br>
              <a:rPr sz="1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ихотворения о футбо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 Акинфеев отличный игро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рота свои запрет на зам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йский фанат его полюбил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зря он – вратарь номер оди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атари на п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ень важные игр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отбивают сложные мя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них надеются все футболис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ни не пропустили гол быстр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стихов:  Рузаков Ник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Моё увлечение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4419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470400" cy="462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зультат проекта : кни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84320" cy="3844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19720" y="2666880"/>
            <a:ext cx="42480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нимайтесь футболом с самого раннего детства 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1865160"/>
            <a:ext cx="6400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Футбольный        и всё, что с ним связано». 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 проекта: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знать как появился футбольный мяч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зучить историю футбольных побед нашей сборно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оздать книгу « Футбольный мяч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990720" cy="74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00400" y="2100240"/>
            <a:ext cx="5181480" cy="4757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1522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c984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45c984"/>
                </a:solidFill>
                <a:latin typeface="Arial"/>
              </a:rPr>
              <a:t>Исторические сведения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 «футбол» зародилась в очень давние времена (до нашей эр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тайцы любили игру «Тсу Чу», в которой мячи животного происхождения загонялись в сеть, натянутую между двумя шес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81520" y="914400"/>
            <a:ext cx="3843360" cy="563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ревние греки и римляне также имели игру, суть которой сводилась к ударам ногами по мячу и переносам кожаной сфер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ые мячи появились в средние века. Люди брали свиные пузыри и пытались раздуть их до большого шара. С помощью ног и рук они пытались удержать шар в воздух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038480" cy="3355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620120" cy="6451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819520" y="4568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1872 году было достигнуто соглашение, что мяч для игры в футбо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817"/>
                </a:solidFill>
                <a:latin typeface="Arial"/>
              </a:rPr>
              <a:t>«должен быть сферическим с окружностью 27-28 дюймов (68,6-71,1 см)»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Этот стандарт не меняется на протяжении ста сорока лет и остается в сегодняшних правилах Международной федерации футбола (ФИФ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32000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временный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утбольный мяч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уже не просто «предмет сферической формы для игры в футбол». В нем сбалансирован целый комплекс технологических хитростей, где учтен целый ряд факторов, влияющих на игру – от возраста игроков до покрытия, на котором будет проходить иг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годня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утбольный мяч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остоит из трех слоев – покрышка, внутреннее покрытие из многослойной материи и каучуковая камера, удерживающая воздух. Скрепляются эти слои специализированным шовным материалом, обычно это нить из полиэст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419360" cy="4238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00600" y="24120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038480" cy="2790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Исследовательская работа.</a:t>
            </a:r>
            <a:br>
              <a:rPr sz="1800"/>
            </a:br>
            <a:r>
              <a:rPr b="0" lang="en-US" sz="1800" spc="-1" strike="noStrike">
                <a:solidFill>
                  <a:srgbClr val="e2349c"/>
                </a:solidFill>
                <a:latin typeface="Arial"/>
              </a:rPr>
              <a:t>Наша сборная на чемпионате Европы занимала:</a:t>
            </a:r>
            <a:br>
              <a:rPr sz="1800"/>
            </a:br>
            <a:r>
              <a:rPr b="0" lang="en-US" sz="1800" spc="-1" strike="noStrike">
                <a:solidFill>
                  <a:srgbClr val="e2349c"/>
                </a:solidFill>
                <a:latin typeface="Arial"/>
              </a:rPr>
              <a:t>       1 место - СССР - 1960 г.           </a:t>
            </a:r>
            <a:br>
              <a:rPr sz="1800"/>
            </a:br>
            <a:r>
              <a:rPr b="0" lang="en-US" sz="1800" spc="-1" strike="noStrike">
                <a:solidFill>
                  <a:srgbClr val="e2349c"/>
                </a:solidFill>
                <a:latin typeface="Arial"/>
              </a:rPr>
              <a:t>       2 место - СССР - 1964, 1972, 1988 гг.</a:t>
            </a:r>
            <a:br>
              <a:rPr sz="1800"/>
            </a:br>
            <a:r>
              <a:rPr b="0" lang="en-US" sz="1800" spc="-1" strike="noStrike">
                <a:solidFill>
                  <a:srgbClr val="e2349c"/>
                </a:solidFill>
                <a:latin typeface="Arial"/>
              </a:rPr>
              <a:t>       3 место - Россия - 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02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876920" y="1447920"/>
            <a:ext cx="4267080" cy="3085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Arial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</a:rPr>
              <a:t>Творческая работа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0T10:48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