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FD4-1E3B-4B35-96D9-6EA29BB4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9EA-7D86-4F8C-B85C-FFFAAC2C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044-4ADD-4EA5-B70A-9E7E10F1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D40-09E3-4626-BBDB-C21A8D6E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D31F-35DB-4113-A70E-6F445BD2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62AB-DC33-4D60-AC4A-B71D2337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CB5D-AC6E-4222-8C0B-B4B78FE0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6A81-9988-47A0-ACEA-3B201069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E9A1-7CC6-4A7C-9EDF-BEEC2CBA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248B-9E04-46EA-B06A-BA9D6F0B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5B32-720F-4360-B7F0-624DA7C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45D-5704-4C9C-8E3B-426E06D5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5E0E-2F6D-4AF9-AF8F-99C7698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D21E-71E4-408E-ADD0-1F1222C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CB2E-D618-4B18-A8D4-C3F777AC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B196-7CAC-4C3A-B774-4E06C0B2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283F-7977-4E77-A3E9-AC393DEF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1ED-8C7B-47B9-AF8D-B674A10C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527-1D7D-482E-9BC3-70236C4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28F-B9E3-4739-B66D-559DBC8B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3B6-2099-441E-A92E-E7EE1EAD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CF7-E605-4262-B38B-4AE6DCC6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3AB-64E1-4B83-9E48-E7350B57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287-77EC-4537-AD55-0CFEE32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57C5-23BE-41D1-AA38-027CCF00BE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921B-B9D7-486A-A365-466270AFA3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Тема урока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7720" y="25909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Гигиенический режим сна- составляющая здорового образа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езентацию подготовил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читель биологии МОУ «СОШ № 67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ировского райо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.Сарат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Щекотурова Ю.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ТЕОРИЯ СН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 - это торможение клеток коры больших полушарий головного мозга нейронов),выработка гипнотоксинов, отравляющих  на время клетки головного мозга. Во время сна активность головного мозга не прекращается, а лишь перестраив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- это защитное приспособление организма от переутом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ТЕОРИЯ СН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время сна клетки головного мозга восстанавливают свою работоспособ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 сна находится в среднем мозг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атор, вызывающий развитие сонного состояния- серотон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ушение центра сна приводит к уменьшению количества серотонина и человек лишается возможности засып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800dc"/>
                </a:solidFill>
                <a:latin typeface="Tahoma"/>
              </a:rPr>
              <a:t>Виды снов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омпенсационные сны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Творческ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Фактическ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Повторяющиеся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Физиологическ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Предупреждающ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Осознанны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Экспрессивны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Вещие с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Рисунок 3" descr="7976fa8c83.jpg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336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0dc"/>
                </a:solidFill>
                <a:latin typeface="Tahoma"/>
              </a:rPr>
              <a:t>СКОЛЬКО СНОВ МЫ ВИДИМ ЗА НОЧЬ?</a:t>
            </a:r>
            <a:br>
              <a:rPr sz="2800"/>
            </a:br>
            <a:r>
              <a:rPr b="1" i="1" lang="ru-RU" sz="2800" spc="-1" strike="noStrike">
                <a:solidFill>
                  <a:srgbClr val="3800dc"/>
                </a:solidFill>
                <a:latin typeface="Tahoma"/>
              </a:rPr>
              <a:t> ПОЧЕМУ МЫ НЕ ЗАПОМИНАЕМ СНЫ?</a:t>
            </a:r>
            <a:br>
              <a:rPr sz="24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ночь мы видим в среднем 4-5 сн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человек просыпается, около 95% снов исчезают. Это происходит потому, что сны откладывают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время в кратковременной памяти, а химическое вещество, необходимое, чтобы запечатлеть и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олговременной памяти, - серотонин - отключено во время сновиден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ще всего мы запоминаем сны, которые видим в момент пробуждения, или те, которые нас сильн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угали или потряс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Нарушения сн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1.Летаргический со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2.Лунат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3.Бессонниц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4.Гиперсом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ГИГИЕНА СН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родолжительность сна - не менее 8 ч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еред сном проветривать комна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не есть на ноч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ложиться спать в одно и тоже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исключить воздействие раздражителей(шум, яркий свет, громкая музы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удобная кровать с жестким матрац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плоская подушка или отсутствие ее со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ahoma"/>
              </a:rPr>
              <a:t>Что такое сновидения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Содержимое 3" descr="171adc4bbe.jpg"/>
          <p:cNvPicPr/>
          <p:nvPr/>
        </p:nvPicPr>
        <p:blipFill>
          <a:blip r:embed="rId1"/>
          <a:stretch/>
        </p:blipFill>
        <p:spPr>
          <a:xfrm>
            <a:off x="6172200" y="14479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3"/>
          <p:cNvSpPr/>
          <p:nvPr/>
        </p:nvSpPr>
        <p:spPr>
          <a:xfrm>
            <a:off x="533520" y="1295280"/>
            <a:ext cx="5181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М. Сеченов – </a:t>
            </a: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«сновидения –  небывалая комбинация бывалых впечатлений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видим сновидения в фа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19200" indent="-2419200" algn="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строго  с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e0ab2"/>
                </a:solidFill>
                <a:uFillTx/>
                <a:latin typeface="Times New Roman"/>
              </a:rPr>
              <a:t>Закреплени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Что такое сон? Почему он необходи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Что помогает наступлению с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чему недосыпание отрицательно сказывается на здоровье челове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В какую стадию сна бывают сновид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Что происходит во время с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Чем быстрый сон отличается от медленного с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чить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§ 28, подготовить сообщения или презентации на те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Бессонница, причины ее возникнов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Летаргический с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Луна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иперсом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.ШЕКСПИ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рачующий бальзам больной душ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-это чудо матери- прир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уснейшее из блюд в земном пиру»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Определение с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ahoma"/>
              </a:rPr>
              <a:t>СОН – это физиологическое состояние мозга и организма человека, а также животных, внешне характеризующееся обездвиженностью организма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9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ahoma"/>
              </a:rPr>
              <a:t>Потребность во сн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Новорожденные- 16- 20 часов в сут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1 год – 14-15 ча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6-9 лет – 11-12 ча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14-18 лет – 9-10 ча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Взрослые – 7-8 ча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737300"/>
                </a:solidFill>
                <a:uFillTx/>
                <a:latin typeface="Tahoma"/>
              </a:rPr>
              <a:t>Значение сн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1. Понижается обмен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2.Снижается частота сердечных сокращ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3.Дыхание поверхностное и ред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4.Снижается температура 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5.Повышается работоспосо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37300"/>
                </a:solidFill>
                <a:latin typeface="Tahoma"/>
              </a:rPr>
              <a:t>6.В процессе сна создается чувство бодр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17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5-08T13:51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