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B29-48C9-483E-8D0A-AC1A4071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C4C-CF5D-4230-A744-1499EAD2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B35-9A8B-4B38-B967-094CFF7F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F91-2AB0-4574-A859-A5455F9E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E817-8477-4C16-88D8-6BFF9C45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7736-E51C-4899-947D-653D521B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B0A0-BFF7-4964-95B2-22C7A2A6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8D6D-2638-4ED5-88F0-EE2820E3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24AA-C08C-4010-9F11-E5A5F617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DF60-92CE-474D-B5A7-BE8771D8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0F55-CF04-4993-80CC-0AEC06DA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02B-4F0F-4EF0-A280-37929109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3837-8FF5-460F-BEAB-54217A41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0454-A500-4BFB-B2A4-76725C53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D9D3-7CF4-45C1-A8C5-1567F43C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CC48-694F-4A7F-83E2-BDB83060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E739-53FA-4A89-9F69-13AE9E5F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837-56C4-4AFB-BC94-60B48763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357-1846-406D-A70C-E8F30F70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0C8-C80C-404F-AE29-A36A30FE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F02-B4E3-49DD-8845-0892FEFD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548-370E-4F7B-99C0-DA82182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A6E-C4D9-4468-8532-FB00D5B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061-25C5-4401-A0F3-FDAFDDDD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0F3D-0C65-4B7F-B6E5-2A50C11DE8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6D93-DEC3-4B58-8592-46A8A60DA7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Тема урока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7720" y="25909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Гигиенический режим сна- составляющая здорового образа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езентацию подготовил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читель биологии МОУ «СОШ № 67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ировского райо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.Сарат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Щекотурова Ю.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ТЕОРИЯ СН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 - это торможение клеток коры больших полушарий головного мозга нейронов),выработка гипнотоксинов, отравляющих  на время клетки головного мозга. Во время сна активность головного мозга не прекращается, а лишь перестраив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- это защитное приспособление организма от переутом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ТЕОРИЯ СН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время сна клетки головного мозга восстанавливают свою работоспособ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 сна находится в среднем мозг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атор, вызывающий развитие сонного состояния- серотон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ушение центра сна приводит к уменьшению количества серотонина и человек лишается возможности засып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800dc"/>
                </a:solidFill>
                <a:latin typeface="Tahoma"/>
              </a:rPr>
              <a:t>Виды снов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омпенсационные сны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Творческ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Фактическ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Повторяющиеся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Физиологическ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Предупреждающ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Осознанны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Экспрессивны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Вещ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Рисунок 3" descr="7976fa8c83.jpg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336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0dc"/>
                </a:solidFill>
                <a:latin typeface="Tahoma"/>
              </a:rPr>
              <a:t>СКОЛЬКО СНОВ МЫ ВИДИМ ЗА НОЧЬ?</a:t>
            </a:r>
            <a:br>
              <a:rPr sz="2800"/>
            </a:br>
            <a:r>
              <a:rPr b="1" i="1" lang="ru-RU" sz="2800" spc="-1" strike="noStrike">
                <a:solidFill>
                  <a:srgbClr val="3800dc"/>
                </a:solidFill>
                <a:latin typeface="Tahoma"/>
              </a:rPr>
              <a:t> ПОЧЕМУ МЫ НЕ ЗАПОМИНАЕМ СНЫ?</a:t>
            </a:r>
            <a:br>
              <a:rPr sz="24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ночь мы видим в среднем 4-5 сн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человек просыпается, около 95% снов исчезают. Это происходит потому, что сны откладывают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время в кратковременной памяти, а химическое вещество, необходимое, чтобы запечатлеть и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олговременной памяти, - серотонин - отключено во время сновиден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ще всего мы запоминаем сны, которые видим в момент пробуждения, или те, которые нас сильн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угали или потряс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Нарушения сн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1.Летаргический со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2.Лунат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3.Бессонниц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4.Гиперсом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ГИГИЕНА СН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родолжительность сна - не менее 8 ч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еред сном проветривать комна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не есть на ноч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ложиться спать в одно и тоже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исключить воздействие раздражителей(шум, яркий свет, громкая музы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удобная кровать с жестким матрац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плоская подушка или отсутствие ее со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ahoma"/>
              </a:rPr>
              <a:t>Что такое сновидения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Содержимое 3" descr="171adc4bbe.jpg"/>
          <p:cNvPicPr/>
          <p:nvPr/>
        </p:nvPicPr>
        <p:blipFill>
          <a:blip r:embed="rId1"/>
          <a:stretch/>
        </p:blipFill>
        <p:spPr>
          <a:xfrm>
            <a:off x="6172200" y="14479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3"/>
          <p:cNvSpPr/>
          <p:nvPr/>
        </p:nvSpPr>
        <p:spPr>
          <a:xfrm>
            <a:off x="533520" y="1295280"/>
            <a:ext cx="5181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М. Сеченов – </a:t>
            </a: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«сновидения –  небывалая комбинация бывалых впечатлений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видим сновидения в фа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строго  с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e0ab2"/>
                </a:solidFill>
                <a:uFillTx/>
                <a:latin typeface="Times New Roman"/>
              </a:rPr>
              <a:t>Закреплени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Что такое сон? Почему он необходи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Что помогает наступлению с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чему недосыпание отрицательно сказывается на здоровье челове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В какую стадию сна бывают сновид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Что происходит во время с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Чем быстрый сон отличается от медленного с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чить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§ 28, подготовить сообщения или презентации на те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Бессонница, причины ее возникнов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Летаргический с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Луна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иперсом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.ШЕКСПИ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рачующий бальзам больной душ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-это чудо матери- прир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уснейшее из блюд в земном пиру»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Определение с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ahoma"/>
              </a:rPr>
              <a:t>СОН – это физиологическое состояние мозга и организма человека, а также животных, внешне характеризующееся обездвиженностью организма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9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ahoma"/>
              </a:rPr>
              <a:t>Потребность во сн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Новорожденные- 16- 20 часов в сут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1 год – 14-15 ча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6-9 лет – 11-12 ча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14-18 лет – 9-10 ча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Взрослые – 7-8 ча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737300"/>
                </a:solidFill>
                <a:uFillTx/>
                <a:latin typeface="Tahoma"/>
              </a:rPr>
              <a:t>Значение сн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1. Понижается обмен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2.Снижается частота сердечных сокращ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3.Дыхание поверхностное и ред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4.Снижается температура 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5.Повышается работоспосо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6.В процессе сна создается чувство бодр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17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5-08T13:51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