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B52-1C9C-4361-8C9C-B1D6CA20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AA3-1704-4DB4-A3AF-617F5E5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6BF-53CD-4AD4-B234-128AED62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E4D-2F01-4AD5-9C97-76CD3259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5AFD-6CE2-4304-B1BF-09C7D804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3C3E-D5A3-4946-9DF7-521E892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9A32-ACEB-4D93-B685-7EBF934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B3B-6C5F-4FF3-8362-F0EFBEEC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A913-95C1-4F63-8575-79053FF4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909-4252-4FE0-B34A-A3AFC47B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50CF-BE11-4AAF-AD2F-83C4BC7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0C8-D211-44B2-A3DF-9532178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E85-9A83-4F34-BAB6-F34D95C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59F3-B38D-4EEE-A718-BECE9D2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D42-F5CE-4DCE-B5DD-D03ED80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670-94F5-4EAB-947A-00B25717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12D2-862F-448D-98D1-1429FCAB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38C-DD44-4DE3-8202-090334C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0BC-C04A-4986-AE92-B690FF10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C6B-50B0-49C7-B11D-5842F6BD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2F1-9674-4F9D-A3B9-7F91874B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CD-441A-47BE-ABFA-C1D5631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575-F3F5-404A-B3B1-9C380D7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8B0-C9BC-4A3F-9E6C-55F905E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E14-AFE5-45AD-8D66-F726CBD019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2680" y="513000"/>
                  <a:ext cx="4312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9560" y="275760"/>
                  <a:ext cx="8092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9040" y="1416240"/>
                  <a:ext cx="2710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0800"/>
                  <a:ext cx="2901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3200" y="206280"/>
                  <a:ext cx="2872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49D-CD2F-450F-9E87-9F2BB1C15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чевое развитие детей раннего возраста в ситуации общения и сотруднич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полнила: воспитатель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ервой квалификационной категории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з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ДОУ Центр развития ребёнка – детский сад № 1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. Дзержинск, 2009 год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руктура планиро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Содержимое 5" descr=""/>
          <p:cNvPicPr/>
          <p:nvPr/>
        </p:nvPicPr>
        <p:blipFill>
          <a:blip r:embed="rId1"/>
          <a:stretch/>
        </p:blipFill>
        <p:spPr>
          <a:xfrm>
            <a:off x="669960" y="1792440"/>
            <a:ext cx="7718400" cy="3700440"/>
          </a:xfrm>
          <a:prstGeom prst="rect">
            <a:avLst/>
          </a:prstGeom>
          <a:ln w="0">
            <a:noFill/>
          </a:ln>
        </p:spPr>
      </p:pic>
      <p:sp>
        <p:nvSpPr>
          <p:cNvPr id="191" name="Скругленный прямоугольник 6"/>
          <p:cNvSpPr/>
          <p:nvPr/>
        </p:nvSpPr>
        <p:spPr>
          <a:xfrm>
            <a:off x="6215040" y="2071800"/>
            <a:ext cx="2298600" cy="220644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2" name="Группа 7"/>
          <p:cNvGrpSpPr/>
          <p:nvPr/>
        </p:nvGrpSpPr>
        <p:grpSpPr>
          <a:xfrm>
            <a:off x="6643800" y="4071960"/>
            <a:ext cx="1915920" cy="762120"/>
            <a:chOff x="6643800" y="4071960"/>
            <a:chExt cx="1915920" cy="762120"/>
          </a:xfrm>
        </p:grpSpPr>
        <p:sp>
          <p:nvSpPr>
            <p:cNvPr id="193" name="Скругленный прямоугольник 8"/>
            <p:cNvSpPr/>
            <p:nvPr/>
          </p:nvSpPr>
          <p:spPr>
            <a:xfrm>
              <a:off x="6643800" y="4071960"/>
              <a:ext cx="1915920" cy="762120"/>
            </a:xfrm>
            <a:prstGeom prst="roundRect">
              <a:avLst>
                <a:gd name="adj" fmla="val 10000"/>
              </a:avLst>
            </a:prstGeom>
            <a:solidFill>
              <a:srgbClr val="ffef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Скругленный прямоугольник 4"/>
            <p:cNvSpPr/>
            <p:nvPr/>
          </p:nvSpPr>
          <p:spPr>
            <a:xfrm>
              <a:off x="6665760" y="4093920"/>
              <a:ext cx="18716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48240" bIns="482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Box 10"/>
          <p:cNvSpPr/>
          <p:nvPr/>
        </p:nvSpPr>
        <p:spPr>
          <a:xfrm>
            <a:off x="642960" y="250020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дивидуальная рабо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6786720" y="4286160"/>
            <a:ext cx="20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остоя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6429240" y="221472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овые ситу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сматривание кни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сценирование сказ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Выгнутая вверх стрелка 14"/>
          <p:cNvSpPr/>
          <p:nvPr/>
        </p:nvSpPr>
        <p:spPr>
          <a:xfrm>
            <a:off x="6072120" y="1643040"/>
            <a:ext cx="2357640" cy="500040"/>
          </a:xfrm>
          <a:custGeom>
            <a:avLst/>
            <a:gdLst>
              <a:gd name="textAreaLeft" fmla="*/ 542520 w 2357640"/>
              <a:gd name="textAreaRight" fmla="*/ 1752480 w 23576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1" hR="21600" stAng="10800000" swAng="5400000"/>
                <a:lnTo>
                  <a:pt x="11086" y="0"/>
                </a:lnTo>
                <a:arcTo wR="9941" hR="21600" stAng="-5400000" swAng="3642403"/>
                <a:lnTo>
                  <a:pt x="21284" y="16200"/>
                </a:lnTo>
                <a:lnTo>
                  <a:pt x="20455" y="21600"/>
                </a:lnTo>
                <a:lnTo>
                  <a:pt x="18993" y="16200"/>
                </a:lnTo>
                <a:lnTo>
                  <a:pt x="19566" y="16200"/>
                </a:lnTo>
                <a:arcTo wR="9941" hR="21600" stAng="-1757597" swAng="-3551157"/>
                <a:lnTo>
                  <a:pt x="10514" y="36"/>
                </a:lnTo>
                <a:arcTo wR="9941" hR="21600" stAng="-5491246" swAng="-5308754"/>
                <a:close/>
              </a:path>
              <a:path fill="darkenLess" w="21600" h="21600">
                <a:moveTo>
                  <a:pt x="0" y="21600"/>
                </a:moveTo>
                <a:arcTo wR="9941" hR="21600" stAng="10800000" swAng="5400000"/>
                <a:lnTo>
                  <a:pt x="9941" y="0"/>
                </a:lnTo>
                <a:arcTo wR="9941" hR="21600" stAng="-5400000" swAng="91246"/>
                <a:lnTo>
                  <a:pt x="10514" y="36"/>
                </a:lnTo>
                <a:arcTo wR="9941" hR="21600" stAng="-5491246" swAng="-5308754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3071880" y="2643120"/>
            <a:ext cx="285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щ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зцы фра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тор пройденн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просно-ответная реч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3" descr="D:\Фотографии\Ранний возраст\IMG_0813.jpg"/>
          <p:cNvPicPr/>
          <p:nvPr/>
        </p:nvPicPr>
        <p:blipFill>
          <a:blip r:embed="rId2"/>
          <a:stretch/>
        </p:blipFill>
        <p:spPr>
          <a:xfrm>
            <a:off x="1928880" y="4786200"/>
            <a:ext cx="2995560" cy="1841760"/>
          </a:xfrm>
          <a:prstGeom prst="rect">
            <a:avLst/>
          </a:prstGeom>
          <a:ln w="0">
            <a:noFill/>
          </a:ln>
        </p:spPr>
      </p:pic>
      <p:pic>
        <p:nvPicPr>
          <p:cNvPr id="201" name="Содержимое 7" descr="IMG_0822.jpg"/>
          <p:cNvPicPr/>
          <p:nvPr/>
        </p:nvPicPr>
        <p:blipFill>
          <a:blip r:embed="rId3"/>
          <a:stretch/>
        </p:blipFill>
        <p:spPr>
          <a:xfrm>
            <a:off x="5143680" y="4857840"/>
            <a:ext cx="2755800" cy="1757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стема управления игруш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говор с игрушк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Содержимое 6" descr="IMG_0733.jpg"/>
          <p:cNvPicPr/>
          <p:nvPr/>
        </p:nvPicPr>
        <p:blipFill>
          <a:blip r:embed="rId1"/>
          <a:stretch/>
        </p:blipFill>
        <p:spPr>
          <a:xfrm>
            <a:off x="4857840" y="2000160"/>
            <a:ext cx="3000240" cy="2251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42848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юд с игрушк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Содержимое 7" descr="IMG_0732.jpg"/>
          <p:cNvPicPr/>
          <p:nvPr/>
        </p:nvPicPr>
        <p:blipFill>
          <a:blip r:embed="rId2"/>
          <a:stretch/>
        </p:blipFill>
        <p:spPr>
          <a:xfrm>
            <a:off x="571680" y="185724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6" descr="IMG_0737.jpg"/>
          <p:cNvPicPr/>
          <p:nvPr/>
        </p:nvPicPr>
        <p:blipFill>
          <a:blip r:embed="rId3"/>
          <a:stretch/>
        </p:blipFill>
        <p:spPr>
          <a:xfrm>
            <a:off x="2428920" y="4500720"/>
            <a:ext cx="4397400" cy="200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-571680"/>
            <a:ext cx="785808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спользование программ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. Ф. Сорокиной «Развитие творческих способностей у детей от 1года до 3 лет средствами кукольного театра»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8" descr="C:\Documents and Settings\Администратор\Мои документы\Фотография\Пасхальные мотивы\IMG_0310.jpg"/>
          <p:cNvPicPr/>
          <p:nvPr/>
        </p:nvPicPr>
        <p:blipFill>
          <a:blip r:embed="rId1"/>
          <a:stretch/>
        </p:blipFill>
        <p:spPr>
          <a:xfrm>
            <a:off x="5429160" y="1928880"/>
            <a:ext cx="2992680" cy="224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Администратор\Мои документы\Фотография\Пасхальные мотивы\IMG_0312.jpg"/>
          <p:cNvPicPr/>
          <p:nvPr/>
        </p:nvPicPr>
        <p:blipFill>
          <a:blip r:embed="rId2"/>
          <a:stretch/>
        </p:blipFill>
        <p:spPr>
          <a:xfrm>
            <a:off x="1928880" y="4429080"/>
            <a:ext cx="3214800" cy="2193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Администратор\Мои документы\Фотография\Пасхальные мотивы\IMG_0309.jpg"/>
          <p:cNvPicPr/>
          <p:nvPr/>
        </p:nvPicPr>
        <p:blipFill>
          <a:blip r:embed="rId3"/>
          <a:stretch/>
        </p:blipFill>
        <p:spPr>
          <a:xfrm>
            <a:off x="5429160" y="4357800"/>
            <a:ext cx="3071880" cy="2303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928800" y="1857240"/>
            <a:ext cx="50734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уются в работ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тешки, песенки, сказ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личные виды кукольных театр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Участие детей в 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а работы по проблеме речевого развит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тей раннего возра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едагогический проце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826920" y="2205000"/>
            <a:ext cx="763272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ка к занятия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2000" y="2997360"/>
            <a:ext cx="7632720" cy="433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едение занятий по подгрупп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79280" y="3716280"/>
            <a:ext cx="7561440" cy="4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слеживание динамики работы детей на первое полугод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116000" y="4437000"/>
            <a:ext cx="755964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ление плана работы на второе полугод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50920" y="5157720"/>
            <a:ext cx="756108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бота по план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116000" y="5950080"/>
            <a:ext cx="784872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слеживание динамики развития и индивидуальных качеств  дет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572000" y="2637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572000" y="3429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57200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72000" y="4797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572000" y="5589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357200"/>
            <a:ext cx="37720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уются форм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кетиро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глядная информ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стие родителей в изготовление игровых пособий по данной тем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лечение родителей в совместные театрализованные представл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Содержимое 4" descr="IMG_0741.jpg"/>
          <p:cNvPicPr/>
          <p:nvPr/>
        </p:nvPicPr>
        <p:blipFill>
          <a:blip r:embed="rId1"/>
          <a:stretch/>
        </p:blipFill>
        <p:spPr>
          <a:xfrm>
            <a:off x="4429080" y="1214280"/>
            <a:ext cx="3772080" cy="282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D:\Фотографии\Ранний возраст\IMG_0752.jpg"/>
          <p:cNvPicPr/>
          <p:nvPr/>
        </p:nvPicPr>
        <p:blipFill>
          <a:blip r:embed="rId2"/>
          <a:stretch/>
        </p:blipFill>
        <p:spPr>
          <a:xfrm>
            <a:off x="4429080" y="4214880"/>
            <a:ext cx="3786120" cy="235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заимодействие со специалиста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14240" y="1500120"/>
            <a:ext cx="5616720" cy="785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Адаптационный пери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педагог-психолог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. воспитатель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714240" y="2500200"/>
            <a:ext cx="5572440" cy="928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Диагностический пери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педагог-психолог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-логопед, ст. воспитатель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357720" y="3643200"/>
            <a:ext cx="52862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Воспитательно-образовательный процес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педагог-психолог, ст. воспитатель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000160" y="5572080"/>
            <a:ext cx="4254480" cy="10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ое просвещени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консультации, семинары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еседы, анализ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8" descr="D:\Фотографии\Моя работа Дс 127\Аттестация\ноябрь 2007 038.jpg"/>
          <p:cNvPicPr/>
          <p:nvPr/>
        </p:nvPicPr>
        <p:blipFill>
          <a:blip r:embed="rId1"/>
          <a:stretch/>
        </p:blipFill>
        <p:spPr>
          <a:xfrm>
            <a:off x="6500880" y="1357200"/>
            <a:ext cx="2216160" cy="2000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D:\Фотографии\Моя работа Дс 127\Аттестация\ноябрь 2007 021.jpg"/>
          <p:cNvPicPr/>
          <p:nvPr/>
        </p:nvPicPr>
        <p:blipFill>
          <a:blip r:embed="rId2"/>
          <a:stretch/>
        </p:blipFill>
        <p:spPr>
          <a:xfrm>
            <a:off x="285840" y="364320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D:\Фотографии\Моя работа Дс 127\Аттестация\ноябрь 2007 041.jpg"/>
          <p:cNvPicPr/>
          <p:nvPr/>
        </p:nvPicPr>
        <p:blipFill>
          <a:blip r:embed="rId3"/>
          <a:stretch/>
        </p:blipFill>
        <p:spPr>
          <a:xfrm>
            <a:off x="6500880" y="4929120"/>
            <a:ext cx="2359080" cy="1714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зультативность рабо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85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ль: анализ показателей нервно-психического развит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по К. Л. Печор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1 –пассивная речь (норм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2 – активная речь (норм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3 – игра (норм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4 – движения (норм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3565440" y="268200"/>
            <a:ext cx="5127840" cy="586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840" y="272520"/>
            <a:ext cx="3251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3143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Качественно-количественная оценка психического развития детей за 2008-2009 г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–первая группа разви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-вторая группа разви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 – третья группа разви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–четвёртая группа разви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Содержимое 4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6132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28800"/>
            <a:ext cx="40402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высился интерес детей к выражению своих мыс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642960"/>
            <a:ext cx="404172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цесс формирования социально-коммуникативных умений происходит лег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Содержимое 10" descr="IMG_0835.jpg"/>
          <p:cNvPicPr/>
          <p:nvPr/>
        </p:nvPicPr>
        <p:blipFill>
          <a:blip r:embed="rId1"/>
          <a:stretch/>
        </p:blipFill>
        <p:spPr>
          <a:xfrm>
            <a:off x="357120" y="2786040"/>
            <a:ext cx="4040280" cy="2643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D:\Фотографии\Ранний возраст\IMG_0816.jpg"/>
          <p:cNvPicPr/>
          <p:nvPr/>
        </p:nvPicPr>
        <p:blipFill>
          <a:blip r:embed="rId2"/>
          <a:stretch/>
        </p:blipFill>
        <p:spPr>
          <a:xfrm>
            <a:off x="4714920" y="2857680"/>
            <a:ext cx="3786120" cy="2571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ие на воспитател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узину Елену Владимиров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Образование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-  Дзержинский педагогический колледж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Специальность по диплому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– воспитател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Первая квалификационная категория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год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КПК  (ранний возраст)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– 2008 год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Педагогический стаж работы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л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Стаж работы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в данной должност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л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Участие в выставке дидактического пособия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– МДОУ, 2008 год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Награждена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Почётной грамотой УДДУ г. Дзержинска 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Содержимое 5" descr="IMG_0747.jpg"/>
          <p:cNvPicPr/>
          <p:nvPr/>
        </p:nvPicPr>
        <p:blipFill>
          <a:blip r:embed="rId1"/>
          <a:stretch/>
        </p:blipFill>
        <p:spPr>
          <a:xfrm>
            <a:off x="285840" y="1785960"/>
            <a:ext cx="4000320" cy="36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етский сад реализует программу «Крох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840" y="1828800"/>
            <a:ext cx="400068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бое внимание в программе обращено на развитие у детей зачат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бознательност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остоятельност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тивности, инициатив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муникативност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посылок к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ворчеств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Содержимое 4" descr="IMG_0739.jpg"/>
          <p:cNvPicPr/>
          <p:nvPr/>
        </p:nvPicPr>
        <p:blipFill>
          <a:blip r:embed="rId1"/>
          <a:stretch/>
        </p:blipFill>
        <p:spPr>
          <a:xfrm>
            <a:off x="4610160" y="1857240"/>
            <a:ext cx="3771720" cy="4357800"/>
          </a:xfrm>
          <a:prstGeom prst="rect">
            <a:avLst/>
          </a:prstGeom>
          <a:ln w="0">
            <a:noFill/>
          </a:ln>
        </p:spPr>
      </p:pic>
      <p:sp>
        <p:nvSpPr>
          <p:cNvPr id="159" name="Солнце 5"/>
          <p:cNvSpPr/>
          <p:nvPr/>
        </p:nvSpPr>
        <p:spPr>
          <a:xfrm>
            <a:off x="3786120" y="5572080"/>
            <a:ext cx="1357560" cy="100008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687096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за для становления личности, формирования у него социально-коммуникативных ум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1071720" y="1773360"/>
            <a:ext cx="3000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чевое    развит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9" descr="C:\Documents and Settings\Администратор\Мои документы\Фотография\Пасхальные мотивы\IMG_0314.jpg"/>
          <p:cNvPicPr/>
          <p:nvPr/>
        </p:nvPicPr>
        <p:blipFill>
          <a:blip r:embed="rId1"/>
          <a:stretch/>
        </p:blipFill>
        <p:spPr>
          <a:xfrm>
            <a:off x="4500720" y="1857240"/>
            <a:ext cx="3929040" cy="407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блако 6"/>
          <p:cNvSpPr/>
          <p:nvPr/>
        </p:nvSpPr>
        <p:spPr>
          <a:xfrm>
            <a:off x="357120" y="214200"/>
            <a:ext cx="1785960" cy="928800"/>
          </a:xfrm>
          <a:prstGeom prst="pie">
            <a:avLst/>
          </a:prstGeom>
          <a:solidFill>
            <a:srgbClr val="00b0f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направлена на овладение детьми способами общ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одержимое 6" descr="IMG_0729.jpg"/>
          <p:cNvPicPr/>
          <p:nvPr/>
        </p:nvPicPr>
        <p:blipFill>
          <a:blip r:embed="rId1"/>
          <a:stretch/>
        </p:blipFill>
        <p:spPr>
          <a:xfrm>
            <a:off x="285840" y="185724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8" descr="IMG_0738.jpg"/>
          <p:cNvPicPr/>
          <p:nvPr/>
        </p:nvPicPr>
        <p:blipFill>
          <a:blip r:embed="rId2"/>
          <a:stretch/>
        </p:blipFill>
        <p:spPr>
          <a:xfrm>
            <a:off x="4786200" y="1857240"/>
            <a:ext cx="317340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D:\Фотографии\Ранний возраст\IMG_0840.jpg"/>
          <p:cNvPicPr/>
          <p:nvPr/>
        </p:nvPicPr>
        <p:blipFill>
          <a:blip r:embed="rId3"/>
          <a:stretch/>
        </p:blipFill>
        <p:spPr>
          <a:xfrm>
            <a:off x="1857240" y="4286160"/>
            <a:ext cx="3000600" cy="210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D:\Фотографии\Ранний возраст\IMG_0839.jpg"/>
          <p:cNvPicPr/>
          <p:nvPr/>
        </p:nvPicPr>
        <p:blipFill>
          <a:blip r:embed="rId4"/>
          <a:stretch/>
        </p:blipFill>
        <p:spPr>
          <a:xfrm>
            <a:off x="5429160" y="4286160"/>
            <a:ext cx="3000600" cy="2152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30081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ап диагност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3257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одика К. Л. Печо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пределить уровень развития каждого ребёнка, установить правильность медико-педагогических воздействий, условий воспит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1 –пассивная речь (норма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2 – активная речь (норма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3 – игра (норма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4 – движения (норм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Содержимое 7" descr=""/>
          <p:cNvPicPr/>
          <p:nvPr/>
        </p:nvPicPr>
        <p:blipFill>
          <a:blip r:embed="rId1"/>
          <a:stretch/>
        </p:blipFill>
        <p:spPr>
          <a:xfrm>
            <a:off x="3638520" y="208080"/>
            <a:ext cx="5292720" cy="5864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6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6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ап диагност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186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одика К. Л. Печо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выявить степень опережения или задержки в развитии  ребёнка, определить количество выполняемых заданий, соответственно показател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Содержимое 4" descr=""/>
          <p:cNvPicPr/>
          <p:nvPr/>
        </p:nvPicPr>
        <p:blipFill>
          <a:blip r:embed="rId1"/>
          <a:stretch/>
        </p:blipFill>
        <p:spPr>
          <a:xfrm>
            <a:off x="3565440" y="268200"/>
            <a:ext cx="5127840" cy="586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9680" y="1357200"/>
            <a:ext cx="81867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новные задач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речев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формировать интерес к активному взаимодействию со взрослыми и другими детьм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поддерживать стремление ребёнка высказываться по собственной инициативе, включаться в расска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В общен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- поддерживать и развивать самостоятельность в действиях с предметами, развивать способность не мешать при этом другим детям, поощрять элементарные взаимодействия между детьми по поводу игровых материа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В игр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- содействовать появлению «игр рядом» и элементарного игрового взаимодействия (вдвоём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В театрализован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– поддерживать и стимулировать инициативные игровые действия с персонажами кукольных театр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14200" y="285480"/>
            <a:ext cx="77155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ль: формировать предпосылки речевой деятельности детей раннего возраста через ситуации общения и сотрудниче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6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6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6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держание рабо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2050920" y="1773360"/>
            <a:ext cx="2016360" cy="1726920"/>
          </a:xfrm>
          <a:prstGeom prst="ellipse">
            <a:avLst/>
          </a:prstGeom>
          <a:solidFill>
            <a:srgbClr val="c7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(составление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спективн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лана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268360" y="4508640"/>
            <a:ext cx="2016360" cy="1726920"/>
          </a:xfrm>
          <a:prstGeom prst="ellipse">
            <a:avLst/>
          </a:prstGeom>
          <a:solidFill>
            <a:srgbClr val="96d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 специалист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(педагог-психолог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итель-логопед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5148360" y="4437000"/>
            <a:ext cx="2016000" cy="1727280"/>
          </a:xfrm>
          <a:prstGeom prst="ellipse">
            <a:avLst/>
          </a:prstGeom>
          <a:solidFill>
            <a:srgbClr val="a8da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(планир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аботы п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заимодействию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5003640" y="1773360"/>
            <a:ext cx="2016360" cy="1726920"/>
          </a:xfrm>
          <a:prstGeom prst="ellipse">
            <a:avLst/>
          </a:prstGeom>
          <a:solidFill>
            <a:srgbClr val="c0e0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едагог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(согласование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аботы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3635280" y="1484280"/>
            <a:ext cx="2305080" cy="79056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6588000" y="3068640"/>
            <a:ext cx="936720" cy="1800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5"/>
          <p:cNvSpPr/>
          <p:nvPr/>
        </p:nvSpPr>
        <p:spPr>
          <a:xfrm rot="5400000">
            <a:off x="4236840" y="4987800"/>
            <a:ext cx="885960" cy="2232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394560 h 2232000"/>
              <a:gd name="textAreaBottom" fmla="*/ 15969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2" stAng="-5400000" swAng="5400000"/>
                <a:lnTo>
                  <a:pt x="21600" y="11634"/>
                </a:lnTo>
                <a:arcTo wR="21600" hR="7642" stAng="0" swAng="2701181"/>
                <a:lnTo>
                  <a:pt x="7200" y="21163"/>
                </a:lnTo>
                <a:lnTo>
                  <a:pt x="0" y="17280"/>
                </a:lnTo>
                <a:lnTo>
                  <a:pt x="7200" y="12523"/>
                </a:lnTo>
                <a:lnTo>
                  <a:pt x="7200" y="14847"/>
                </a:lnTo>
                <a:arcTo wR="21600" hR="7642" stAng="2701181" swAng="-2373083"/>
                <a:lnTo>
                  <a:pt x="20850" y="9638"/>
                </a:lnTo>
                <a:arcTo wR="21600" hR="7642" stAng="-328097" swAng="-5071903"/>
                <a:close/>
              </a:path>
              <a:path fill="darkenLess" w="21600" h="21600">
                <a:moveTo>
                  <a:pt x="0" y="0"/>
                </a:moveTo>
                <a:arcTo wR="21600" hR="7642" stAng="-5400000" swAng="5400000"/>
                <a:lnTo>
                  <a:pt x="21600" y="11634"/>
                </a:lnTo>
                <a:arcTo wR="21600" hR="7642" stAng="0" swAng="-328097"/>
                <a:lnTo>
                  <a:pt x="20850" y="9638"/>
                </a:lnTo>
                <a:arcTo wR="21600" hR="7642" stAng="-328097" swAng="-5071903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6"/>
          <p:cNvSpPr/>
          <p:nvPr/>
        </p:nvSpPr>
        <p:spPr>
          <a:xfrm rot="10599000">
            <a:off x="1331280" y="2862360"/>
            <a:ext cx="1245960" cy="2232000"/>
          </a:xfrm>
          <a:custGeom>
            <a:avLst/>
            <a:gdLst>
              <a:gd name="textAreaLeft" fmla="*/ 166680 w 1245960"/>
              <a:gd name="textAreaRight" fmla="*/ 1079280 w 1245960"/>
              <a:gd name="textAreaTop" fmla="*/ 394560 h 2232000"/>
              <a:gd name="textAreaBottom" fmla="*/ 15969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2" stAng="-5400000" swAng="5400000"/>
                <a:lnTo>
                  <a:pt x="21600" y="11634"/>
                </a:lnTo>
                <a:arcTo wR="21600" hR="7642" stAng="0" swAng="2701181"/>
                <a:lnTo>
                  <a:pt x="7200" y="21163"/>
                </a:lnTo>
                <a:lnTo>
                  <a:pt x="0" y="17280"/>
                </a:lnTo>
                <a:lnTo>
                  <a:pt x="7200" y="12523"/>
                </a:lnTo>
                <a:lnTo>
                  <a:pt x="7200" y="14847"/>
                </a:lnTo>
                <a:arcTo wR="21600" hR="7642" stAng="2701181" swAng="-2373083"/>
                <a:lnTo>
                  <a:pt x="20850" y="9638"/>
                </a:lnTo>
                <a:arcTo wR="21600" hR="7642" stAng="-328097" swAng="-5071903"/>
                <a:close/>
              </a:path>
              <a:path fill="darkenLess" w="21600" h="21600">
                <a:moveTo>
                  <a:pt x="0" y="0"/>
                </a:moveTo>
                <a:arcTo wR="21600" hR="7642" stAng="-5400000" swAng="5400000"/>
                <a:lnTo>
                  <a:pt x="21600" y="11634"/>
                </a:lnTo>
                <a:arcTo wR="21600" hR="7642" stAng="0" swAng="-328097"/>
                <a:lnTo>
                  <a:pt x="20850" y="9638"/>
                </a:lnTo>
                <a:arcTo wR="21600" hR="7642" stAng="-328097" swAng="-5071903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5364000" y="230184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6:03:41Z</dcterms:created>
  <dc:creator>Admin</dc:creator>
  <dc:description/>
  <dc:language>en-US</dc:language>
  <cp:lastModifiedBy>Пользователь Windows</cp:lastModifiedBy>
  <dcterms:modified xsi:type="dcterms:W3CDTF">2017-09-10T20:13:32Z</dcterms:modified>
  <cp:revision>62</cp:revision>
  <dc:subject/>
  <dc:title>Формирование предпосылок в речевой деятельности детей раннего возраста</dc:title>
</cp:coreProperties>
</file>