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7EFC-D361-422D-A24A-C85ED68A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194F-0DA6-48EC-A3B6-A430DECB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D99-905C-4CF3-85BD-D5DBEA72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CA0-B377-4B1F-9F96-29B5FF6C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2E86-3ACD-4380-9D8B-5F5472A5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75F7-E3A9-491E-A843-1906C12A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9F07-6B34-4796-97E1-D566FB2B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1B67-7DF8-4E57-BDC3-594B61FB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C605-BC10-4130-9C48-D4946D5F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9FAA-348E-41A5-BB14-448AF315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008E-2312-45CD-B5C8-CE12E089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B0DA-EE56-4A9D-BDFB-EB9B4285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CA71-C62A-4836-B6CD-3207F4E8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0F82-5F55-44AD-AD88-96361C9E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FC18-4186-441E-95D7-3B51B4DD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C472-B5B0-4A37-87EA-A02E019B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0750-25D9-4F81-B49E-BE539B01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B84-45EB-4109-942A-45F4809D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DF18-6E3D-4E3C-A3F1-6F0B6C78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3A0-0C0F-4D68-B141-D40CA9C6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3004-E08F-4ED4-928C-E5DC6631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39D9-2580-453C-81CD-FA7B63E7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BEA6-B482-43B6-B8F5-4583E220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3F54-0B87-4AB9-BD37-55FF021A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1A4E-B390-4736-B485-D37480C985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0D51-ECA9-4594-8CC4-757DFA43A8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МОЯ   МАЛАЯ   РОДИНА –ЖУЛЕБИН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Презентацию подготовила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Баранова Н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ГБОУ Школа № 146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г.Моск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51436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Деревня Жулебин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учила название от рода боя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ндрей Тимофеевич Остее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учил прозвище «жулеба» - хитре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та основания – 1499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вое упоминание – 1645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круг – ЮВАО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йон – Выхино - Жулеби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2557440" cy="3200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Изображение"/>
          <p:cNvPicPr/>
          <p:nvPr/>
        </p:nvPicPr>
        <p:blipFill>
          <a:blip r:embed="rId3"/>
          <a:stretch/>
        </p:blipFill>
        <p:spPr>
          <a:xfrm>
            <a:off x="3733920" y="2590920"/>
            <a:ext cx="54100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5ffff"/>
                </a:solidFill>
                <a:latin typeface="Tahoma"/>
              </a:rPr>
              <a:t>Жулебино: прошлое</a:t>
            </a:r>
            <a:br>
              <a:rPr sz="4000"/>
            </a:br>
            <a:r>
              <a:rPr b="0" i="1" lang="ru-RU" sz="4000" spc="-1" strike="noStrike">
                <a:solidFill>
                  <a:srgbClr val="e5ffff"/>
                </a:solidFill>
                <a:latin typeface="Tahoma"/>
              </a:rPr>
              <a:t>и настояще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4114800" cy="3429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334120" y="3962520"/>
            <a:ext cx="3571920" cy="2665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562720" y="304920"/>
            <a:ext cx="316224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Tahoma"/>
              </a:rPr>
              <a:t>На территории  4-го микрорайона </a:t>
            </a:r>
            <a:br>
              <a:rPr sz="2000"/>
            </a:br>
            <a:r>
              <a:rPr b="0" i="1" lang="ru-RU" sz="2000" spc="-1" strike="noStrike">
                <a:solidFill>
                  <a:srgbClr val="e5ffff"/>
                </a:solidFill>
                <a:latin typeface="Tahoma"/>
              </a:rPr>
              <a:t>в Жулебино ранее располагалось </a:t>
            </a:r>
            <a:br>
              <a:rPr sz="2000"/>
            </a:br>
            <a:r>
              <a:rPr b="0" i="1" lang="ru-RU" sz="2000" spc="-1" strike="noStrike">
                <a:solidFill>
                  <a:srgbClr val="e5ffff"/>
                </a:solidFill>
                <a:latin typeface="Tahoma"/>
              </a:rPr>
              <a:t>вертолетное поле, где испытывал свои </a:t>
            </a:r>
            <a:br>
              <a:rPr sz="2000"/>
            </a:br>
            <a:r>
              <a:rPr b="0" i="1" lang="ru-RU" sz="2000" spc="-1" strike="noStrike">
                <a:solidFill>
                  <a:srgbClr val="e5ffff"/>
                </a:solidFill>
                <a:latin typeface="Tahoma"/>
              </a:rPr>
              <a:t>вертолеты авиаконструктор </a:t>
            </a:r>
            <a:br>
              <a:rPr sz="2000"/>
            </a:br>
            <a:r>
              <a:rPr b="0" i="1" lang="ru-RU" sz="2000" spc="-1" strike="noStrike">
                <a:solidFill>
                  <a:srgbClr val="e5ffff"/>
                </a:solidFill>
                <a:latin typeface="Tahoma"/>
              </a:rPr>
              <a:t>Михаил Леонтьевич Миль. 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8534160" cy="3967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15000" y="38088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562720" y="42670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5638680" cy="3759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172200" y="990720"/>
            <a:ext cx="2438280" cy="2433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838080" y="4419720"/>
            <a:ext cx="30862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86200" y="3048120"/>
            <a:ext cx="4800600" cy="3544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510516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Герб. Флаг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юго-востоке столицы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ть очень хороший район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гда из Москвы уезжаю,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егда я скучаю о нём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десь дом мой и здесь я душою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чёт моя жизнь день за днём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ё больше к тебе прикипаю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ы - сердцу любимый район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"Выхино-Жулебино"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нает вся Москв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"Выхино-Жулебино" —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ы — родина моя. 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081760" y="457200"/>
            <a:ext cx="3654360" cy="3962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676520" y="4419720"/>
            <a:ext cx="335268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334080"/>
            <a:ext cx="7924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Моя Родина – Москв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Здесь живёт моя семь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Здесь мой дом, ребята, школ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Всё так близко и знакомо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«Для России наш город – частица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А для нас он – родительский д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И мы рады, что можем гордитьс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Малой Родиной, где мы живем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86000" y="2819520"/>
            <a:ext cx="4800600" cy="3809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Родина  – это место, где мы РОДИЛИСЬ и живё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одите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одня, родственники, родны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одословн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одина - « РОД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Россия – огромная стран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1467000"/>
            <a:ext cx="84582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На чужой стороне Родина милей вдвой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Нет земли краше, чем страна наш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Всякому мила своя сторо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Человек без Родины – что соловей без пес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Чужбина – калина, родина – мали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Государственные  символы.</a:t>
            </a:r>
            <a:br>
              <a:rPr sz="4400"/>
            </a:br>
            <a:r>
              <a:rPr b="1" i="1" lang="en-US" sz="2000" spc="-1" strike="noStrike">
                <a:solidFill>
                  <a:srgbClr val="e5ffff"/>
                </a:solidFill>
                <a:latin typeface="Times New Roman"/>
              </a:rPr>
              <a:t>22 августа</a:t>
            </a:r>
            <a:r>
              <a:rPr b="0" i="1" lang="en-US" sz="2000" spc="-1" strike="noStrike">
                <a:solidFill>
                  <a:srgbClr val="e5ffff"/>
                </a:solidFill>
                <a:latin typeface="Times New Roman"/>
              </a:rPr>
              <a:t> </a:t>
            </a:r>
            <a:br>
              <a:rPr sz="800"/>
            </a:br>
            <a:r>
              <a:rPr b="1" i="1" lang="en-US" sz="2000" spc="-1" strike="noStrike">
                <a:solidFill>
                  <a:srgbClr val="e5ffff"/>
                </a:solidFill>
                <a:latin typeface="Times New Roman"/>
              </a:rPr>
              <a:t>День Государственного флага</a:t>
            </a:r>
            <a:br>
              <a:rPr sz="2000"/>
            </a:br>
            <a:r>
              <a:rPr b="1" i="1" lang="en-US" sz="2000" spc="-1" strike="noStrike">
                <a:solidFill>
                  <a:srgbClr val="e5ffff"/>
                </a:solidFill>
                <a:latin typeface="Times New Roman"/>
              </a:rPr>
              <a:t> Российской Федерации.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81480" y="2971800"/>
            <a:ext cx="3657600" cy="2784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4956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синем небе над Москвою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еет флаг наш дорогой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каждой русской деревеньке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ы увидишь флаг родн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Флаг российский наш окрашен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белый, синий, красный цвет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н трепещет в небе ясном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 его прекрасней н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Белый – символ мира, правды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 душевной чистоты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иний – верности и веры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Бескорыстной добро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Боль народа, кровь погибших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тражает красный цвет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Будем Родину любить мы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 хранить её от бе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8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Государственные  символы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 России величавый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гербе орёл двуглавый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тоб на запад и восток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 смотреть бы сразу мог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ильный, мудрый он и гордый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 – России дух свободны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31464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Государственные  символы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686800" cy="5257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686440" y="1904760"/>
            <a:ext cx="2286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3059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fff"/>
                </a:solidFill>
                <a:latin typeface="Tahoma"/>
              </a:rPr>
              <a:t>Москва - столица России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Два слова: Москва и Россия, –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Два зова: Россия – Москва , –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Кого на земле ни спроси я,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сем ведомы эти слова!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9480" y="3581280"/>
            <a:ext cx="3657600" cy="3054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105520" y="1905120"/>
            <a:ext cx="3794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09-10T11:03:0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