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coin.wav" ContentType="audio/x-wav"/>
  <Override PartName="/ppt/media/type.wav" ContentType="audio/x-wav"/>
  <Override PartName="/ppt/media/click.wav" ContentType="audio/x-wav"/>
  <Override PartName="/ppt/media/camera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5A9-75F1-4F1B-A327-B6DE4C1C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504-061E-400E-9DE7-DAA9D76A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8FE-8F00-4F1F-8D7C-0EDF13E0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149-4F10-4FE9-BD44-0141D207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3501-63B9-42FD-B5DA-DFB8F1A1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10E4-BC60-4D1B-821B-C1D2415A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D3B1-4B47-40C0-83E4-E694B609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99F7-CDBB-4EE9-B4AC-D26C4A13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1EA0-F367-40C6-ACB5-ED3168E5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AEEE-8E88-4F62-B188-7FB74472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ABF8-04F4-414B-BC06-A705F36E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9E7-EB23-4B8E-A9FE-028FEBF2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3261-B4F8-4E90-B513-C654ABB1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641C-CFB6-4129-B4AB-824C2C41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A5C4-638C-4B45-B932-88187221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2515-F54E-480F-B739-DCC6B2D7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752F-91E1-4779-B849-790EE73E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CB8-4A84-489B-8B15-FDF4A32B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A4C-1C2F-420A-AB22-D8B6C472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621-98F6-478A-878B-D93B44BB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753-F07B-443F-A2BD-8B2481CD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2DD-7613-416A-9DE7-C0BCF87D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2B3-9A4B-4484-96C0-00B4A002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1AB-D85B-46EF-969B-2D67C0DC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99B6-5B84-4EB7-A16B-CEC2AA7788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9E7E-BE66-4CE0-9B6E-B3E374A9EAF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oin.wav"/><Relationship Id="rId3" Type="http://schemas.openxmlformats.org/officeDocument/2006/relationships/audio" Target="../media/click.wav"/><Relationship Id="rId4" Type="http://schemas.openxmlformats.org/officeDocument/2006/relationships/audio" Target="../media/coin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lick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&#1071;&#1044;.%20&#1089;&#1084;&#1077;&#1093;.wav" TargetMode="External"/><Relationship Id="rId3" Type="http://schemas.openxmlformats.org/officeDocument/2006/relationships/hyperlink" Target="file:///tmp/home/.config/libreoffice/4/user/gallery/&#1071;&#1044;.%20&#1089;&#1084;&#1077;&#1093;.wav" TargetMode="External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oin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oin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258920" y="836640"/>
            <a:ext cx="619272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еобразован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рафиков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ригонометрических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ункц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34640" cy="578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99080" y="2492280"/>
                <a:ext cx="996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39640" y="1844640"/>
                <a:ext cx="13003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60" y="30535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160" y="3528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-1116000" y="3429000"/>
            <a:ext cx="13258440" cy="304920"/>
            <a:chOff x="-1116000" y="3429000"/>
            <a:chExt cx="13258440" cy="304920"/>
          </a:xfrm>
        </p:grpSpPr>
        <p:grpSp>
          <p:nvGrpSpPr>
            <p:cNvPr id="338" name=""/>
            <p:cNvGrpSpPr/>
            <p:nvPr/>
          </p:nvGrpSpPr>
          <p:grpSpPr>
            <a:xfrm>
              <a:off x="-1116000" y="3429000"/>
              <a:ext cx="8839440" cy="304920"/>
              <a:chOff x="-1116000" y="3429000"/>
              <a:chExt cx="8839440" cy="30492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-1116000" y="3429000"/>
                <a:ext cx="4419720" cy="304920"/>
                <a:chOff x="-1116000" y="3429000"/>
                <a:chExt cx="4419720" cy="3049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094040" y="3429000"/>
                  <a:ext cx="2209680" cy="30492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-1116000" y="3429000"/>
                  <a:ext cx="2210040" cy="30492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303720" y="3429000"/>
                <a:ext cx="4419720" cy="304920"/>
                <a:chOff x="3303720" y="3429000"/>
                <a:chExt cx="4419720" cy="3049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513760" y="3429000"/>
                  <a:ext cx="2209680" cy="30492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303720" y="3429000"/>
                  <a:ext cx="2210040" cy="30492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7723440" y="3429000"/>
              <a:ext cx="4419000" cy="304920"/>
              <a:chOff x="7723440" y="3429000"/>
              <a:chExt cx="4419000" cy="304920"/>
            </a:xfrm>
          </p:grpSpPr>
          <p:sp>
            <p:nvSpPr>
              <p:cNvPr id="346" name=""/>
              <p:cNvSpPr/>
              <p:nvPr/>
            </p:nvSpPr>
            <p:spPr>
              <a:xfrm>
                <a:off x="9933120" y="3429000"/>
                <a:ext cx="2209320" cy="30492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723440" y="3429000"/>
                <a:ext cx="2209680" cy="30492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-1116000" y="2492280"/>
            <a:ext cx="13182120" cy="2207880"/>
            <a:chOff x="-1116000" y="2492280"/>
            <a:chExt cx="13182120" cy="2207880"/>
          </a:xfrm>
        </p:grpSpPr>
        <p:grpSp>
          <p:nvGrpSpPr>
            <p:cNvPr id="349" name=""/>
            <p:cNvGrpSpPr/>
            <p:nvPr/>
          </p:nvGrpSpPr>
          <p:grpSpPr>
            <a:xfrm>
              <a:off x="-1116000" y="2492280"/>
              <a:ext cx="8787960" cy="2206800"/>
              <a:chOff x="-1116000" y="2492280"/>
              <a:chExt cx="8787960" cy="220680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-1116000" y="2492280"/>
                <a:ext cx="4393800" cy="2206800"/>
                <a:chOff x="-1116000" y="2492280"/>
                <a:chExt cx="4393800" cy="22068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081080" y="2492280"/>
                  <a:ext cx="2196720" cy="2206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-1116000" y="2492280"/>
                  <a:ext cx="2197080" cy="2206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3278160" y="2492280"/>
                <a:ext cx="4393800" cy="2206800"/>
                <a:chOff x="3278160" y="2492280"/>
                <a:chExt cx="4393800" cy="22068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5475240" y="2492280"/>
                  <a:ext cx="2196720" cy="2206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278160" y="2492280"/>
                  <a:ext cx="2197080" cy="2206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7672320" y="2492280"/>
              <a:ext cx="4393800" cy="2207880"/>
              <a:chOff x="7672320" y="2492280"/>
              <a:chExt cx="4393800" cy="2207880"/>
            </a:xfrm>
          </p:grpSpPr>
          <p:sp>
            <p:nvSpPr>
              <p:cNvPr id="357" name=""/>
              <p:cNvSpPr/>
              <p:nvPr/>
            </p:nvSpPr>
            <p:spPr>
              <a:xfrm>
                <a:off x="9869400" y="2492280"/>
                <a:ext cx="2196720" cy="220788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72320" y="2492280"/>
                <a:ext cx="2197080" cy="220788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-1116000" y="3025800"/>
            <a:ext cx="13258440" cy="885600"/>
            <a:chOff x="-1116000" y="3025800"/>
            <a:chExt cx="13258440" cy="885600"/>
          </a:xfrm>
        </p:grpSpPr>
        <p:grpSp>
          <p:nvGrpSpPr>
            <p:cNvPr id="360" name=""/>
            <p:cNvGrpSpPr/>
            <p:nvPr/>
          </p:nvGrpSpPr>
          <p:grpSpPr>
            <a:xfrm>
              <a:off x="-1116000" y="3225600"/>
              <a:ext cx="13258440" cy="685800"/>
              <a:chOff x="-1116000" y="3225600"/>
              <a:chExt cx="13258440" cy="6858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-1116000" y="3225600"/>
                <a:ext cx="8839440" cy="685800"/>
                <a:chOff x="-1116000" y="3225600"/>
                <a:chExt cx="8839440" cy="6858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-1116000" y="3225600"/>
                  <a:ext cx="4419720" cy="685800"/>
                  <a:chOff x="-1116000" y="3225600"/>
                  <a:chExt cx="4419720" cy="6858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1094040" y="322560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-1116000" y="322560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3303720" y="3225600"/>
                  <a:ext cx="4419720" cy="685800"/>
                  <a:chOff x="3303720" y="3225600"/>
                  <a:chExt cx="4419720" cy="68580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5513760" y="322560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3303720" y="322560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8" name=""/>
              <p:cNvGrpSpPr/>
              <p:nvPr/>
            </p:nvGrpSpPr>
            <p:grpSpPr>
              <a:xfrm>
                <a:off x="7723440" y="3225600"/>
                <a:ext cx="4419000" cy="685800"/>
                <a:chOff x="7723440" y="3225600"/>
                <a:chExt cx="4419000" cy="6858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9933120" y="3225600"/>
                  <a:ext cx="22093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723440" y="322560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7180200" y="3025800"/>
                  <a:ext cx="895320" cy="25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2" name=""/>
          <p:cNvSpPr/>
          <p:nvPr/>
        </p:nvSpPr>
        <p:spPr>
          <a:xfrm>
            <a:off x="1116000" y="2276640"/>
            <a:ext cx="457200" cy="2286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859280" y="3141720"/>
            <a:ext cx="76320" cy="6094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1280" y="189000"/>
            <a:ext cx="777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66ff33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сатяжение (сжатие) в к раз вдоль оси Оу</a:t>
            </a:r>
            <a:endParaRPr b="0" i="1" lang="en-US" sz="1800" spc="1" strike="noStrike">
              <a:ln w="19080">
                <a:solidFill>
                  <a:srgbClr val="66ff33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34640" cy="578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816200" y="2590920"/>
                <a:ext cx="15843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60" y="30535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160" y="3528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757080" y="3284640"/>
            <a:ext cx="6476400" cy="685800"/>
            <a:chOff x="-757080" y="3284640"/>
            <a:chExt cx="6476400" cy="685800"/>
          </a:xfrm>
        </p:grpSpPr>
        <p:grpSp>
          <p:nvGrpSpPr>
            <p:cNvPr id="381" name=""/>
            <p:cNvGrpSpPr/>
            <p:nvPr/>
          </p:nvGrpSpPr>
          <p:grpSpPr>
            <a:xfrm>
              <a:off x="-757080" y="3284640"/>
              <a:ext cx="4317840" cy="685800"/>
              <a:chOff x="-757080" y="3284640"/>
              <a:chExt cx="4317840" cy="6858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-757080" y="3284640"/>
                <a:ext cx="2158920" cy="685800"/>
                <a:chOff x="-757080" y="3284640"/>
                <a:chExt cx="2158920" cy="6858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22560" y="3284640"/>
                  <a:ext cx="10792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-757080" y="3284640"/>
                  <a:ext cx="10796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1401840" y="3284640"/>
                <a:ext cx="2158920" cy="685800"/>
                <a:chOff x="1401840" y="3284640"/>
                <a:chExt cx="2158920" cy="6858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2481480" y="3284640"/>
                  <a:ext cx="10792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401840" y="3284640"/>
                  <a:ext cx="10796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8" name=""/>
            <p:cNvGrpSpPr/>
            <p:nvPr/>
          </p:nvGrpSpPr>
          <p:grpSpPr>
            <a:xfrm>
              <a:off x="3560760" y="3284640"/>
              <a:ext cx="2158560" cy="685800"/>
              <a:chOff x="3560760" y="3284640"/>
              <a:chExt cx="2158560" cy="685800"/>
            </a:xfrm>
          </p:grpSpPr>
          <p:sp>
            <p:nvSpPr>
              <p:cNvPr id="389" name=""/>
              <p:cNvSpPr/>
              <p:nvPr/>
            </p:nvSpPr>
            <p:spPr>
              <a:xfrm>
                <a:off x="4640040" y="3284640"/>
                <a:ext cx="10792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60760" y="3284640"/>
                <a:ext cx="10792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-1116000" y="3097080"/>
            <a:ext cx="13258440" cy="885600"/>
            <a:chOff x="-1116000" y="3097080"/>
            <a:chExt cx="13258440" cy="885600"/>
          </a:xfrm>
        </p:grpSpPr>
        <p:grpSp>
          <p:nvGrpSpPr>
            <p:cNvPr id="392" name=""/>
            <p:cNvGrpSpPr/>
            <p:nvPr/>
          </p:nvGrpSpPr>
          <p:grpSpPr>
            <a:xfrm>
              <a:off x="-1116000" y="3296880"/>
              <a:ext cx="13258440" cy="685800"/>
              <a:chOff x="-1116000" y="3296880"/>
              <a:chExt cx="13258440" cy="68580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-1116000" y="3296880"/>
                <a:ext cx="8839440" cy="685800"/>
                <a:chOff x="-1116000" y="3296880"/>
                <a:chExt cx="8839440" cy="68580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-1116000" y="3296880"/>
                  <a:ext cx="4419720" cy="685800"/>
                  <a:chOff x="-1116000" y="3296880"/>
                  <a:chExt cx="4419720" cy="6858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1094040" y="329688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-1116000" y="329688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3303720" y="3296880"/>
                  <a:ext cx="4419720" cy="685800"/>
                  <a:chOff x="3303720" y="3296880"/>
                  <a:chExt cx="4419720" cy="6858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5513760" y="329688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303720" y="329688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0" name=""/>
              <p:cNvGrpSpPr/>
              <p:nvPr/>
            </p:nvGrpSpPr>
            <p:grpSpPr>
              <a:xfrm>
                <a:off x="7723440" y="3296880"/>
                <a:ext cx="4419000" cy="685800"/>
                <a:chOff x="7723440" y="3296880"/>
                <a:chExt cx="4419000" cy="6858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9933120" y="3296880"/>
                  <a:ext cx="22093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723440" y="329688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7180200" y="3097080"/>
                  <a:ext cx="89532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4" name=""/>
          <p:cNvSpPr/>
          <p:nvPr/>
        </p:nvSpPr>
        <p:spPr>
          <a:xfrm>
            <a:off x="2556000" y="2997360"/>
            <a:ext cx="22860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865760" y="4648320"/>
                <a:ext cx="13906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 flipV="1">
            <a:off x="1476360" y="3716280"/>
            <a:ext cx="22860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4429080" y="3284640"/>
            <a:ext cx="13106160" cy="609120"/>
            <a:chOff x="-4429080" y="3284640"/>
            <a:chExt cx="13106160" cy="609120"/>
          </a:xfrm>
        </p:grpSpPr>
        <p:grpSp>
          <p:nvGrpSpPr>
            <p:cNvPr id="408" name=""/>
            <p:cNvGrpSpPr/>
            <p:nvPr/>
          </p:nvGrpSpPr>
          <p:grpSpPr>
            <a:xfrm>
              <a:off x="2124000" y="3284640"/>
              <a:ext cx="6553080" cy="609120"/>
              <a:chOff x="2124000" y="3284640"/>
              <a:chExt cx="6553080" cy="609120"/>
            </a:xfrm>
          </p:grpSpPr>
          <p:sp>
            <p:nvSpPr>
              <p:cNvPr id="409" name=""/>
              <p:cNvSpPr/>
              <p:nvPr/>
            </p:nvSpPr>
            <p:spPr>
              <a:xfrm rot="10800000">
                <a:off x="5400360" y="3588840"/>
                <a:ext cx="3276720" cy="304920"/>
              </a:xfrm>
              <a:custGeom>
                <a:avLst/>
                <a:gdLst/>
                <a:ahLst/>
                <a:rect l="l" t="t" r="r" b="b"/>
                <a:pathLst>
                  <a:path w="2064" h="192">
                    <a:moveTo>
                      <a:pt x="0" y="192"/>
                    </a:moveTo>
                    <a:cubicBezTo>
                      <a:pt x="332" y="96"/>
                      <a:pt x="664" y="0"/>
                      <a:pt x="1008" y="0"/>
                    </a:cubicBezTo>
                    <a:cubicBezTo>
                      <a:pt x="1352" y="0"/>
                      <a:pt x="1888" y="160"/>
                      <a:pt x="2064" y="192"/>
                    </a:cubicBezTo>
                  </a:path>
                </a:pathLst>
              </a:custGeom>
              <a:noFill/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124000" y="3284640"/>
                <a:ext cx="3276360" cy="304560"/>
              </a:xfrm>
              <a:custGeom>
                <a:avLst/>
                <a:gdLst/>
                <a:ahLst/>
                <a:rect l="l" t="t" r="r" b="b"/>
                <a:pathLst>
                  <a:path w="2064" h="192">
                    <a:moveTo>
                      <a:pt x="0" y="192"/>
                    </a:moveTo>
                    <a:cubicBezTo>
                      <a:pt x="332" y="96"/>
                      <a:pt x="664" y="0"/>
                      <a:pt x="1008" y="0"/>
                    </a:cubicBezTo>
                    <a:cubicBezTo>
                      <a:pt x="1352" y="0"/>
                      <a:pt x="1888" y="160"/>
                      <a:pt x="2064" y="192"/>
                    </a:cubicBezTo>
                  </a:path>
                </a:pathLst>
              </a:custGeom>
              <a:noFill/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-4429080" y="3284640"/>
              <a:ext cx="6553080" cy="609120"/>
              <a:chOff x="-4429080" y="3284640"/>
              <a:chExt cx="6553080" cy="609120"/>
            </a:xfrm>
          </p:grpSpPr>
          <p:sp>
            <p:nvSpPr>
              <p:cNvPr id="412" name=""/>
              <p:cNvSpPr/>
              <p:nvPr/>
            </p:nvSpPr>
            <p:spPr>
              <a:xfrm rot="10800000">
                <a:off x="-1152720" y="3588840"/>
                <a:ext cx="3276720" cy="304920"/>
              </a:xfrm>
              <a:custGeom>
                <a:avLst/>
                <a:gdLst/>
                <a:ahLst/>
                <a:rect l="l" t="t" r="r" b="b"/>
                <a:pathLst>
                  <a:path w="2064" h="192">
                    <a:moveTo>
                      <a:pt x="0" y="192"/>
                    </a:moveTo>
                    <a:cubicBezTo>
                      <a:pt x="332" y="96"/>
                      <a:pt x="664" y="0"/>
                      <a:pt x="1008" y="0"/>
                    </a:cubicBezTo>
                    <a:cubicBezTo>
                      <a:pt x="1352" y="0"/>
                      <a:pt x="1888" y="160"/>
                      <a:pt x="2064" y="192"/>
                    </a:cubicBezTo>
                  </a:path>
                </a:pathLst>
              </a:custGeom>
              <a:noFill/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-4429080" y="3284640"/>
                <a:ext cx="3276360" cy="304560"/>
              </a:xfrm>
              <a:custGeom>
                <a:avLst/>
                <a:gdLst/>
                <a:ahLst/>
                <a:rect l="l" t="t" r="r" b="b"/>
                <a:pathLst>
                  <a:path w="2064" h="192">
                    <a:moveTo>
                      <a:pt x="0" y="192"/>
                    </a:moveTo>
                    <a:cubicBezTo>
                      <a:pt x="332" y="96"/>
                      <a:pt x="664" y="0"/>
                      <a:pt x="1008" y="0"/>
                    </a:cubicBezTo>
                    <a:cubicBezTo>
                      <a:pt x="1352" y="0"/>
                      <a:pt x="1888" y="160"/>
                      <a:pt x="2064" y="192"/>
                    </a:cubicBezTo>
                  </a:path>
                </a:pathLst>
              </a:custGeom>
              <a:noFill/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 txBox="1"/>
          <p:nvPr/>
        </p:nvSpPr>
        <p:spPr>
          <a:xfrm>
            <a:off x="108000" y="189000"/>
            <a:ext cx="885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330033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яжение (сжатие) в k раз вдоль оси Ох</a:t>
            </a:r>
            <a:endParaRPr b="0" i="1" lang="en-US" sz="1800" spc="1" strike="noStrike">
              <a:ln w="19080">
                <a:solidFill>
                  <a:srgbClr val="330033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724360" y="3284640"/>
            <a:ext cx="6336000" cy="685800"/>
            <a:chOff x="5724360" y="3284640"/>
            <a:chExt cx="6336000" cy="685800"/>
          </a:xfrm>
        </p:grpSpPr>
        <p:grpSp>
          <p:nvGrpSpPr>
            <p:cNvPr id="416" name=""/>
            <p:cNvGrpSpPr/>
            <p:nvPr/>
          </p:nvGrpSpPr>
          <p:grpSpPr>
            <a:xfrm>
              <a:off x="5724360" y="3284640"/>
              <a:ext cx="4224240" cy="685800"/>
              <a:chOff x="5724360" y="3284640"/>
              <a:chExt cx="4224240" cy="68580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5724360" y="3284640"/>
                <a:ext cx="2112120" cy="685800"/>
                <a:chOff x="5724360" y="3284640"/>
                <a:chExt cx="2112120" cy="68580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780600" y="3284640"/>
                  <a:ext cx="10558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724360" y="3284640"/>
                  <a:ext cx="10562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7836480" y="3284640"/>
                <a:ext cx="2112120" cy="685800"/>
                <a:chOff x="7836480" y="3284640"/>
                <a:chExt cx="2112120" cy="6858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8892720" y="3284640"/>
                  <a:ext cx="10558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836480" y="3284640"/>
                  <a:ext cx="10562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3" name=""/>
            <p:cNvGrpSpPr/>
            <p:nvPr/>
          </p:nvGrpSpPr>
          <p:grpSpPr>
            <a:xfrm>
              <a:off x="9948600" y="3284640"/>
              <a:ext cx="2111760" cy="685800"/>
              <a:chOff x="9948600" y="3284640"/>
              <a:chExt cx="2111760" cy="685800"/>
            </a:xfrm>
          </p:grpSpPr>
          <p:sp>
            <p:nvSpPr>
              <p:cNvPr id="424" name=""/>
              <p:cNvSpPr/>
              <p:nvPr/>
            </p:nvSpPr>
            <p:spPr>
              <a:xfrm>
                <a:off x="11004480" y="3284640"/>
                <a:ext cx="10558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948600" y="3284640"/>
                <a:ext cx="10558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animMotion origin="layout" path="M -0.09132 0.01942 L -0.44132 -0.10266 E">
                                      <p:cBhvr>
                                        <p:cTn id="311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600120"/>
            <a:ext cx="9134640" cy="578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38680" y="685800"/>
                <a:ext cx="19861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60" y="30535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60" y="3528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Построить график функции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810400" y="2136600"/>
                <a:ext cx="1293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 rot="5400000">
            <a:off x="3999960" y="21715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238880" y="1731960"/>
                <a:ext cx="19051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 flipH="1">
            <a:off x="7391520" y="2362320"/>
            <a:ext cx="838080" cy="6858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-609480" y="3048120"/>
            <a:ext cx="13258440" cy="914400"/>
            <a:chOff x="-609480" y="3048120"/>
            <a:chExt cx="13258440" cy="914400"/>
          </a:xfrm>
        </p:grpSpPr>
        <p:grpSp>
          <p:nvGrpSpPr>
            <p:cNvPr id="437" name=""/>
            <p:cNvGrpSpPr/>
            <p:nvPr/>
          </p:nvGrpSpPr>
          <p:grpSpPr>
            <a:xfrm>
              <a:off x="-609480" y="3276720"/>
              <a:ext cx="13258440" cy="685800"/>
              <a:chOff x="-609480" y="3276720"/>
              <a:chExt cx="13258440" cy="68580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-609480" y="3276720"/>
                <a:ext cx="8839440" cy="685800"/>
                <a:chOff x="-609480" y="3276720"/>
                <a:chExt cx="8839440" cy="68580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-609480" y="3276720"/>
                  <a:ext cx="4419720" cy="685800"/>
                  <a:chOff x="-609480" y="3276720"/>
                  <a:chExt cx="4419720" cy="68580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1600560" y="327672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-609480" y="327672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3810240" y="3276720"/>
                  <a:ext cx="4419720" cy="685800"/>
                  <a:chOff x="3810240" y="3276720"/>
                  <a:chExt cx="4419720" cy="68580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6020280" y="327672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810240" y="327672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8229960" y="3276720"/>
                <a:ext cx="4419000" cy="685800"/>
                <a:chOff x="8229960" y="3276720"/>
                <a:chExt cx="4419000" cy="6858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10439640" y="3276720"/>
                  <a:ext cx="22093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229960" y="327672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7696440" y="3048120"/>
                  <a:ext cx="87624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9" name=""/>
          <p:cNvGrpSpPr/>
          <p:nvPr/>
        </p:nvGrpSpPr>
        <p:grpSpPr>
          <a:xfrm>
            <a:off x="-609480" y="2514600"/>
            <a:ext cx="13182120" cy="2207520"/>
            <a:chOff x="-609480" y="2514600"/>
            <a:chExt cx="13182120" cy="2207520"/>
          </a:xfrm>
        </p:grpSpPr>
        <p:grpSp>
          <p:nvGrpSpPr>
            <p:cNvPr id="450" name=""/>
            <p:cNvGrpSpPr/>
            <p:nvPr/>
          </p:nvGrpSpPr>
          <p:grpSpPr>
            <a:xfrm>
              <a:off x="-609480" y="2514600"/>
              <a:ext cx="8787960" cy="2206440"/>
              <a:chOff x="-609480" y="2514600"/>
              <a:chExt cx="8787960" cy="220644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-609480" y="2514600"/>
                <a:ext cx="4393800" cy="2206440"/>
                <a:chOff x="-609480" y="2514600"/>
                <a:chExt cx="4393800" cy="22064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87600" y="2514600"/>
                  <a:ext cx="2196720" cy="220644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-609480" y="2514600"/>
                  <a:ext cx="2197080" cy="220644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3784680" y="2514600"/>
                <a:ext cx="4393800" cy="2206440"/>
                <a:chOff x="3784680" y="2514600"/>
                <a:chExt cx="4393800" cy="22064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981760" y="2514600"/>
                  <a:ext cx="2196720" cy="220644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784680" y="2514600"/>
                  <a:ext cx="2197080" cy="220644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8178840" y="2514600"/>
              <a:ext cx="4393800" cy="2207520"/>
              <a:chOff x="8178840" y="2514600"/>
              <a:chExt cx="4393800" cy="2207520"/>
            </a:xfrm>
          </p:grpSpPr>
          <p:sp>
            <p:nvSpPr>
              <p:cNvPr id="458" name=""/>
              <p:cNvSpPr/>
              <p:nvPr/>
            </p:nvSpPr>
            <p:spPr>
              <a:xfrm>
                <a:off x="10375920" y="2514600"/>
                <a:ext cx="2196720" cy="220752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178840" y="2514600"/>
                <a:ext cx="2197080" cy="220752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-609480" y="2514600"/>
            <a:ext cx="13182120" cy="2207520"/>
            <a:chOff x="-609480" y="2514600"/>
            <a:chExt cx="13182120" cy="2207520"/>
          </a:xfrm>
        </p:grpSpPr>
        <p:grpSp>
          <p:nvGrpSpPr>
            <p:cNvPr id="461" name=""/>
            <p:cNvGrpSpPr/>
            <p:nvPr/>
          </p:nvGrpSpPr>
          <p:grpSpPr>
            <a:xfrm>
              <a:off x="-609480" y="2514600"/>
              <a:ext cx="8787960" cy="2206440"/>
              <a:chOff x="-609480" y="2514600"/>
              <a:chExt cx="8787960" cy="22064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-609480" y="2514600"/>
                <a:ext cx="4393800" cy="2206440"/>
                <a:chOff x="-609480" y="2514600"/>
                <a:chExt cx="4393800" cy="22064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587600" y="2514600"/>
                  <a:ext cx="2196720" cy="220644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-609480" y="2514600"/>
                  <a:ext cx="2197080" cy="220644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3784680" y="2514600"/>
                <a:ext cx="4393800" cy="2206440"/>
                <a:chOff x="3784680" y="2514600"/>
                <a:chExt cx="4393800" cy="22064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5981760" y="2514600"/>
                  <a:ext cx="2196720" cy="220644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784680" y="2514600"/>
                  <a:ext cx="2197080" cy="220644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8" name=""/>
            <p:cNvGrpSpPr/>
            <p:nvPr/>
          </p:nvGrpSpPr>
          <p:grpSpPr>
            <a:xfrm>
              <a:off x="8178840" y="2514600"/>
              <a:ext cx="4393800" cy="2207520"/>
              <a:chOff x="8178840" y="2514600"/>
              <a:chExt cx="4393800" cy="2207520"/>
            </a:xfrm>
          </p:grpSpPr>
          <p:sp>
            <p:nvSpPr>
              <p:cNvPr id="469" name=""/>
              <p:cNvSpPr/>
              <p:nvPr/>
            </p:nvSpPr>
            <p:spPr>
              <a:xfrm>
                <a:off x="10375920" y="2514600"/>
                <a:ext cx="2196720" cy="220752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78840" y="2514600"/>
                <a:ext cx="2197080" cy="220752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5549E-006 L 0.06667 4.85549E-006 E">
                                      <p:cBhvr>
                                        <p:cTn id="343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555 L 0.075 0.00555 E">
                                      <p:cBhvr>
                                        <p:cTn id="357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26c1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26c1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-1143000" y="380880"/>
            <a:ext cx="13258440" cy="5781600"/>
            <a:chOff x="-1143000" y="380880"/>
            <a:chExt cx="13258440" cy="5781600"/>
          </a:xfrm>
        </p:grpSpPr>
        <p:pic>
          <p:nvPicPr>
            <p:cNvPr id="472" name="" descr=""/>
            <p:cNvPicPr/>
            <p:nvPr/>
          </p:nvPicPr>
          <p:blipFill>
            <a:blip r:embed="rId1"/>
            <a:stretch/>
          </p:blipFill>
          <p:spPr>
            <a:xfrm>
              <a:off x="9360" y="380880"/>
              <a:ext cx="9134640" cy="578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3" name=""/>
            <p:cNvGrpSpPr/>
            <p:nvPr/>
          </p:nvGrpSpPr>
          <p:grpSpPr>
            <a:xfrm>
              <a:off x="-1143000" y="3047760"/>
              <a:ext cx="13258440" cy="1446480"/>
              <a:chOff x="-1143000" y="3047760"/>
              <a:chExt cx="13258440" cy="144648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-1143000" y="3047760"/>
                <a:ext cx="8839440" cy="1445760"/>
                <a:chOff x="-1143000" y="3047760"/>
                <a:chExt cx="8839440" cy="1445760"/>
              </a:xfrm>
            </p:grpSpPr>
            <p:grpSp>
              <p:nvGrpSpPr>
                <p:cNvPr id="475" name=""/>
                <p:cNvGrpSpPr/>
                <p:nvPr/>
              </p:nvGrpSpPr>
              <p:grpSpPr>
                <a:xfrm>
                  <a:off x="-1143000" y="3047760"/>
                  <a:ext cx="4419720" cy="1445760"/>
                  <a:chOff x="-1143000" y="3047760"/>
                  <a:chExt cx="4419720" cy="144576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1067040" y="3047760"/>
                    <a:ext cx="2209680" cy="144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-1143000" y="3047760"/>
                    <a:ext cx="2210040" cy="144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3276720" y="3047760"/>
                  <a:ext cx="4419720" cy="1445760"/>
                  <a:chOff x="3276720" y="3047760"/>
                  <a:chExt cx="4419720" cy="14457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5486760" y="3047760"/>
                    <a:ext cx="2209680" cy="144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3276720" y="3047760"/>
                    <a:ext cx="2210040" cy="144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7696440" y="3047760"/>
                <a:ext cx="4419000" cy="1446480"/>
                <a:chOff x="7696440" y="3047760"/>
                <a:chExt cx="4419000" cy="14464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9906120" y="3047760"/>
                  <a:ext cx="2209320" cy="144648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696440" y="3047760"/>
                  <a:ext cx="2209680" cy="144648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График какой функции изображен на рисунке?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411280" y="6308640"/>
                <a:ext cx="1511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427640" y="6308640"/>
                <a:ext cx="1685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179280" y="6237360"/>
                <a:ext cx="1562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732720" y="6308640"/>
                <a:ext cx="1636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609480" y="52578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ыберите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6c12"/>
                </a:solidFill>
                <a:latin typeface="Arial"/>
              </a:rPr>
              <a:t>Тест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34640" cy="578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172200" y="914400"/>
                <a:ext cx="2514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728720" y="-9948960"/>
                <a:ext cx="2675160" cy="227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4" name="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60" y="30535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160" y="3528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Укажите график функции, заданной формулой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990720" y="3962520"/>
            <a:ext cx="6629400" cy="1446120"/>
            <a:chOff x="990720" y="3962520"/>
            <a:chExt cx="6629400" cy="1446120"/>
          </a:xfrm>
        </p:grpSpPr>
        <p:grpSp>
          <p:nvGrpSpPr>
            <p:cNvPr id="499" name=""/>
            <p:cNvGrpSpPr/>
            <p:nvPr/>
          </p:nvGrpSpPr>
          <p:grpSpPr>
            <a:xfrm>
              <a:off x="1143000" y="3962520"/>
              <a:ext cx="6477120" cy="1446120"/>
              <a:chOff x="1143000" y="3962520"/>
              <a:chExt cx="6477120" cy="144612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1143000" y="3962520"/>
                <a:ext cx="4317840" cy="1445400"/>
                <a:chOff x="1143000" y="3962520"/>
                <a:chExt cx="4317840" cy="1445400"/>
              </a:xfrm>
            </p:grpSpPr>
            <p:grpSp>
              <p:nvGrpSpPr>
                <p:cNvPr id="501" name=""/>
                <p:cNvGrpSpPr/>
                <p:nvPr/>
              </p:nvGrpSpPr>
              <p:grpSpPr>
                <a:xfrm>
                  <a:off x="1143000" y="3962520"/>
                  <a:ext cx="2158920" cy="1445400"/>
                  <a:chOff x="1143000" y="3962520"/>
                  <a:chExt cx="2158920" cy="144540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2222640" y="3962520"/>
                    <a:ext cx="1079280" cy="14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1143000" y="3962520"/>
                    <a:ext cx="1079640" cy="14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"/>
                <p:cNvGrpSpPr/>
                <p:nvPr/>
              </p:nvGrpSpPr>
              <p:grpSpPr>
                <a:xfrm>
                  <a:off x="3301920" y="3962520"/>
                  <a:ext cx="2158920" cy="1445400"/>
                  <a:chOff x="3301920" y="3962520"/>
                  <a:chExt cx="2158920" cy="144540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>
                    <a:off x="4381560" y="3962520"/>
                    <a:ext cx="1079280" cy="14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3301920" y="3962520"/>
                    <a:ext cx="1079640" cy="14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7" name=""/>
              <p:cNvGrpSpPr/>
              <p:nvPr/>
            </p:nvGrpSpPr>
            <p:grpSpPr>
              <a:xfrm>
                <a:off x="5461200" y="3962520"/>
                <a:ext cx="2158920" cy="1446120"/>
                <a:chOff x="5461200" y="3962520"/>
                <a:chExt cx="2158920" cy="14461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6540840" y="3962520"/>
                  <a:ext cx="1079280" cy="144612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461200" y="3962520"/>
                  <a:ext cx="1079640" cy="144612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"/>
            <p:cNvSpPr/>
            <p:nvPr/>
          </p:nvSpPr>
          <p:spPr>
            <a:xfrm>
              <a:off x="990720" y="46483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676520" y="3962520"/>
            <a:ext cx="6476400" cy="1815840"/>
            <a:chOff x="1676520" y="3962520"/>
            <a:chExt cx="6476400" cy="1815840"/>
          </a:xfrm>
        </p:grpSpPr>
        <p:grpSp>
          <p:nvGrpSpPr>
            <p:cNvPr id="512" name=""/>
            <p:cNvGrpSpPr/>
            <p:nvPr/>
          </p:nvGrpSpPr>
          <p:grpSpPr>
            <a:xfrm>
              <a:off x="1676520" y="3962520"/>
              <a:ext cx="6476400" cy="1446120"/>
              <a:chOff x="1676520" y="3962520"/>
              <a:chExt cx="6476400" cy="14461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1676520" y="3962520"/>
                <a:ext cx="4317840" cy="1445400"/>
                <a:chOff x="1676520" y="3962520"/>
                <a:chExt cx="4317840" cy="144540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1676520" y="3962520"/>
                  <a:ext cx="2158920" cy="1445400"/>
                  <a:chOff x="1676520" y="3962520"/>
                  <a:chExt cx="2158920" cy="144540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>
                    <a:off x="2756160" y="3962520"/>
                    <a:ext cx="1079280" cy="14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676520" y="3962520"/>
                    <a:ext cx="1079640" cy="14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3835440" y="3962520"/>
                  <a:ext cx="2158920" cy="1445400"/>
                  <a:chOff x="3835440" y="3962520"/>
                  <a:chExt cx="2158920" cy="144540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4915080" y="3962520"/>
                    <a:ext cx="1079280" cy="14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835440" y="3962520"/>
                    <a:ext cx="1079640" cy="14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5994360" y="3962520"/>
                <a:ext cx="2158560" cy="1446120"/>
                <a:chOff x="5994360" y="3962520"/>
                <a:chExt cx="2158560" cy="14461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7073640" y="3962520"/>
                  <a:ext cx="1079280" cy="144612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994360" y="3962520"/>
                  <a:ext cx="1079280" cy="144612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3" name=""/>
            <p:cNvSpPr/>
            <p:nvPr/>
          </p:nvSpPr>
          <p:spPr>
            <a:xfrm>
              <a:off x="2362320" y="54100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0" y="2514600"/>
            <a:ext cx="7619760" cy="1979640"/>
            <a:chOff x="0" y="2514600"/>
            <a:chExt cx="7619760" cy="1979640"/>
          </a:xfrm>
        </p:grpSpPr>
        <p:grpSp>
          <p:nvGrpSpPr>
            <p:cNvPr id="525" name=""/>
            <p:cNvGrpSpPr/>
            <p:nvPr/>
          </p:nvGrpSpPr>
          <p:grpSpPr>
            <a:xfrm>
              <a:off x="0" y="2895480"/>
              <a:ext cx="7619760" cy="1598760"/>
              <a:chOff x="0" y="2895480"/>
              <a:chExt cx="7619760" cy="159876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0" y="2895480"/>
                <a:ext cx="5079600" cy="1598040"/>
                <a:chOff x="0" y="2895480"/>
                <a:chExt cx="5079600" cy="1598040"/>
              </a:xfrm>
            </p:grpSpPr>
            <p:grpSp>
              <p:nvGrpSpPr>
                <p:cNvPr id="527" name=""/>
                <p:cNvGrpSpPr/>
                <p:nvPr/>
              </p:nvGrpSpPr>
              <p:grpSpPr>
                <a:xfrm>
                  <a:off x="0" y="2895480"/>
                  <a:ext cx="2539800" cy="1598040"/>
                  <a:chOff x="0" y="2895480"/>
                  <a:chExt cx="2539800" cy="15980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1270080" y="2895480"/>
                    <a:ext cx="1269720" cy="159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0" y="2895480"/>
                    <a:ext cx="1270080" cy="159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2539800" y="2895480"/>
                  <a:ext cx="2539800" cy="1598040"/>
                  <a:chOff x="2539800" y="2895480"/>
                  <a:chExt cx="2539800" cy="159804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3809880" y="2895480"/>
                    <a:ext cx="1269720" cy="159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539800" y="2895480"/>
                    <a:ext cx="1270080" cy="159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3" name=""/>
              <p:cNvGrpSpPr/>
              <p:nvPr/>
            </p:nvGrpSpPr>
            <p:grpSpPr>
              <a:xfrm>
                <a:off x="5079960" y="2895480"/>
                <a:ext cx="2539800" cy="1598760"/>
                <a:chOff x="5079960" y="2895480"/>
                <a:chExt cx="2539800" cy="15987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6350040" y="2895480"/>
                  <a:ext cx="1269720" cy="159876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079960" y="2895480"/>
                  <a:ext cx="1270080" cy="159876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6" name="">
              <a:hlinkClick r:id="rId2"/>
            </p:cNvPr>
            <p:cNvSpPr/>
            <p:nvPr/>
          </p:nvSpPr>
          <p:spPr>
            <a:xfrm>
              <a:off x="1447920" y="251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-4343400" y="2438280"/>
            <a:ext cx="14172480" cy="2055960"/>
            <a:chOff x="-4343400" y="2438280"/>
            <a:chExt cx="14172480" cy="2055960"/>
          </a:xfrm>
        </p:grpSpPr>
        <p:grpSp>
          <p:nvGrpSpPr>
            <p:cNvPr id="538" name=""/>
            <p:cNvGrpSpPr/>
            <p:nvPr/>
          </p:nvGrpSpPr>
          <p:grpSpPr>
            <a:xfrm>
              <a:off x="-4343400" y="2895480"/>
              <a:ext cx="14172480" cy="1598760"/>
              <a:chOff x="-4343400" y="2895480"/>
              <a:chExt cx="14172480" cy="159876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-4343400" y="2895480"/>
                <a:ext cx="9448200" cy="1598040"/>
                <a:chOff x="-4343400" y="2895480"/>
                <a:chExt cx="9448200" cy="159804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-4343400" y="2895480"/>
                  <a:ext cx="4724280" cy="1598040"/>
                  <a:chOff x="-4343400" y="2895480"/>
                  <a:chExt cx="4724280" cy="15980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-1980720" y="2895480"/>
                    <a:ext cx="2361600" cy="159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-4343400" y="2895480"/>
                    <a:ext cx="2362320" cy="159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380880" y="2895480"/>
                  <a:ext cx="4723920" cy="1598040"/>
                  <a:chOff x="380880" y="2895480"/>
                  <a:chExt cx="4723920" cy="159804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2743200" y="2895480"/>
                    <a:ext cx="2361600" cy="159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380880" y="2895480"/>
                    <a:ext cx="2362320" cy="159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6" name=""/>
              <p:cNvGrpSpPr/>
              <p:nvPr/>
            </p:nvGrpSpPr>
            <p:grpSpPr>
              <a:xfrm>
                <a:off x="5105520" y="2895480"/>
                <a:ext cx="4723560" cy="1598760"/>
                <a:chOff x="5105520" y="2895480"/>
                <a:chExt cx="4723560" cy="15987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7467480" y="2895480"/>
                  <a:ext cx="2361600" cy="159876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105520" y="2895480"/>
                  <a:ext cx="2361960" cy="159876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">
              <a:hlinkClick r:id="rId3"/>
            </p:cNvPr>
            <p:cNvSpPr/>
            <p:nvPr/>
          </p:nvSpPr>
          <p:spPr>
            <a:xfrm>
              <a:off x="762120" y="24382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0" y="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26c12"/>
                </a:solidFill>
                <a:latin typeface="Arial"/>
              </a:rPr>
              <a:t>Тест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1692360" y="2133720"/>
            <a:ext cx="655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ние на 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. 30 № 48 (а,г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130232"/>
                </a:solidFill>
                <a:latin typeface="Times New Roman"/>
              </a:rPr>
              <a:t>Цель урок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Повторение тригонометрических тождест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Построение графиков тригонометрических функц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Рассмотреть преобразования графиков функц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Преобразование графиков тригонометрических функ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60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25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93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476360" y="260280"/>
            <a:ext cx="6480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2060640"/>
            <a:ext cx="2521080" cy="25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852640"/>
            <a:ext cx="2521080" cy="252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414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50920" y="1988640"/>
            <a:ext cx="4392360" cy="3816360"/>
            <a:chOff x="250920" y="1988640"/>
            <a:chExt cx="4392360" cy="3816360"/>
          </a:xfrm>
        </p:grpSpPr>
        <p:sp>
          <p:nvSpPr>
            <p:cNvPr id="104" name=""/>
            <p:cNvSpPr/>
            <p:nvPr/>
          </p:nvSpPr>
          <p:spPr>
            <a:xfrm flipV="1">
              <a:off x="2411280" y="1988640"/>
              <a:ext cx="0" cy="38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920" y="414972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572000" y="1196640"/>
            <a:ext cx="4392360" cy="3816360"/>
            <a:chOff x="4572000" y="1196640"/>
            <a:chExt cx="4392360" cy="3816360"/>
          </a:xfrm>
        </p:grpSpPr>
        <p:sp>
          <p:nvSpPr>
            <p:cNvPr id="107" name=""/>
            <p:cNvSpPr/>
            <p:nvPr/>
          </p:nvSpPr>
          <p:spPr>
            <a:xfrm flipV="1">
              <a:off x="6732360" y="1196640"/>
              <a:ext cx="0" cy="38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335772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340000" y="2781360"/>
            <a:ext cx="14292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3141720"/>
            <a:ext cx="14292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4076640"/>
            <a:ext cx="14292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4724280"/>
            <a:ext cx="14256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2997360"/>
            <a:ext cx="14292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5300640"/>
            <a:ext cx="14292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59640" y="4508640"/>
            <a:ext cx="14292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565360"/>
            <a:ext cx="14292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64000" y="3284640"/>
            <a:ext cx="14292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51640" y="2421000"/>
            <a:ext cx="14256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3860640"/>
            <a:ext cx="14292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59640" y="1989000"/>
            <a:ext cx="14292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39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5516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1200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72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47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39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6093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№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29 а,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5300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№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29 в,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Основные тригонометрические формул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01640" y="1989000"/>
                <a:ext cx="2733840" cy="46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869000" y="2638440"/>
                <a:ext cx="8157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937040" y="3578400"/>
                <a:ext cx="6764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2843280" y="155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те ошиб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149800" y="4365720"/>
                <a:ext cx="1936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411280" y="2565360"/>
            <a:ext cx="720720" cy="93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0" y="3500280"/>
            <a:ext cx="720720" cy="93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4292640"/>
            <a:ext cx="43200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ормулы приведе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1197000"/>
                <a:ext cx="1749600" cy="54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197000"/>
                <a:ext cx="1373040" cy="518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gt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tgt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ж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t</m:t>
                        </m:r>
                      </m:e>
                      <m:e>
                        <m:r>
                          <m:t xml:space="preserve">з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3132000" y="836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1413000"/>
            <a:ext cx="1440000" cy="26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6000" y="1916280"/>
            <a:ext cx="1368360" cy="28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84360" y="2421000"/>
            <a:ext cx="1366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2852640"/>
            <a:ext cx="1297080" cy="32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556000" y="2133360"/>
            <a:ext cx="1368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556000" y="1557000"/>
            <a:ext cx="1368360" cy="28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5373720"/>
            <a:ext cx="1295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700360" y="2923920"/>
            <a:ext cx="115092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32720" y="907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7020000" y="1484280"/>
                <a:ext cx="904680" cy="48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д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е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з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б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а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з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34640" cy="578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724280" y="2895480"/>
                <a:ext cx="1297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752480" y="2514600"/>
                <a:ext cx="1524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0" y="30535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" y="3528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араллельный перенос вдоль ос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-609480" y="3276720"/>
            <a:ext cx="13258440" cy="685800"/>
            <a:chOff x="-609480" y="3276720"/>
            <a:chExt cx="13258440" cy="685800"/>
          </a:xfrm>
        </p:grpSpPr>
        <p:grpSp>
          <p:nvGrpSpPr>
            <p:cNvPr id="167" name=""/>
            <p:cNvGrpSpPr/>
            <p:nvPr/>
          </p:nvGrpSpPr>
          <p:grpSpPr>
            <a:xfrm>
              <a:off x="-609480" y="3276720"/>
              <a:ext cx="8839440" cy="685800"/>
              <a:chOff x="-609480" y="3276720"/>
              <a:chExt cx="8839440" cy="6858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-609480" y="3276720"/>
                <a:ext cx="4419720" cy="685800"/>
                <a:chOff x="-609480" y="3276720"/>
                <a:chExt cx="4419720" cy="6858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600560" y="327672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-609480" y="327672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810240" y="3276720"/>
                <a:ext cx="4419720" cy="685800"/>
                <a:chOff x="3810240" y="3276720"/>
                <a:chExt cx="4419720" cy="6858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020280" y="327672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810240" y="327672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8229960" y="3276720"/>
              <a:ext cx="4419000" cy="685800"/>
              <a:chOff x="8229960" y="3276720"/>
              <a:chExt cx="4419000" cy="685800"/>
            </a:xfrm>
          </p:grpSpPr>
          <p:sp>
            <p:nvSpPr>
              <p:cNvPr id="175" name=""/>
              <p:cNvSpPr/>
              <p:nvPr/>
            </p:nvSpPr>
            <p:spPr>
              <a:xfrm>
                <a:off x="10439640" y="3276720"/>
                <a:ext cx="220932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229960" y="3276720"/>
                <a:ext cx="22096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-533520" y="3276720"/>
            <a:ext cx="13182480" cy="685800"/>
            <a:chOff x="-533520" y="3276720"/>
            <a:chExt cx="13182480" cy="685800"/>
          </a:xfrm>
        </p:grpSpPr>
        <p:grpSp>
          <p:nvGrpSpPr>
            <p:cNvPr id="178" name=""/>
            <p:cNvGrpSpPr/>
            <p:nvPr/>
          </p:nvGrpSpPr>
          <p:grpSpPr>
            <a:xfrm>
              <a:off x="-533520" y="3276720"/>
              <a:ext cx="8787960" cy="685800"/>
              <a:chOff x="-533520" y="3276720"/>
              <a:chExt cx="8787960" cy="68580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-533520" y="3276720"/>
                <a:ext cx="4393800" cy="685800"/>
                <a:chOff x="-533520" y="3276720"/>
                <a:chExt cx="4393800" cy="6858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663560" y="3276720"/>
                  <a:ext cx="21967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-533520" y="3276720"/>
                  <a:ext cx="21970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860640" y="3276720"/>
                <a:ext cx="4393800" cy="685800"/>
                <a:chOff x="3860640" y="3276720"/>
                <a:chExt cx="4393800" cy="6858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057720" y="3276720"/>
                  <a:ext cx="21967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60640" y="3276720"/>
                  <a:ext cx="21970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"/>
            <p:cNvGrpSpPr/>
            <p:nvPr/>
          </p:nvGrpSpPr>
          <p:grpSpPr>
            <a:xfrm>
              <a:off x="8255160" y="3276720"/>
              <a:ext cx="4393800" cy="685800"/>
              <a:chOff x="8255160" y="3276720"/>
              <a:chExt cx="4393800" cy="685800"/>
            </a:xfrm>
          </p:grpSpPr>
          <p:sp>
            <p:nvSpPr>
              <p:cNvPr id="186" name=""/>
              <p:cNvSpPr/>
              <p:nvPr/>
            </p:nvSpPr>
            <p:spPr>
              <a:xfrm>
                <a:off x="10452240" y="3276720"/>
                <a:ext cx="219672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255160" y="3276720"/>
                <a:ext cx="21970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-609480" y="3048120"/>
            <a:ext cx="13258440" cy="914400"/>
            <a:chOff x="-609480" y="3048120"/>
            <a:chExt cx="13258440" cy="914400"/>
          </a:xfrm>
        </p:grpSpPr>
        <p:grpSp>
          <p:nvGrpSpPr>
            <p:cNvPr id="189" name=""/>
            <p:cNvGrpSpPr/>
            <p:nvPr/>
          </p:nvGrpSpPr>
          <p:grpSpPr>
            <a:xfrm>
              <a:off x="-609480" y="3276720"/>
              <a:ext cx="13258440" cy="685800"/>
              <a:chOff x="-609480" y="3276720"/>
              <a:chExt cx="13258440" cy="68580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-609480" y="3276720"/>
                <a:ext cx="8839440" cy="685800"/>
                <a:chOff x="-609480" y="3276720"/>
                <a:chExt cx="8839440" cy="68580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-609480" y="3276720"/>
                  <a:ext cx="4419720" cy="685800"/>
                  <a:chOff x="-609480" y="3276720"/>
                  <a:chExt cx="4419720" cy="6858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1600560" y="327672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-609480" y="327672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3810240" y="3276720"/>
                  <a:ext cx="4419720" cy="685800"/>
                  <a:chOff x="3810240" y="3276720"/>
                  <a:chExt cx="4419720" cy="6858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020280" y="327672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810240" y="327672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8229960" y="3276720"/>
                <a:ext cx="4419000" cy="685800"/>
                <a:chOff x="8229960" y="3276720"/>
                <a:chExt cx="4419000" cy="6858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0439640" y="3276720"/>
                  <a:ext cx="22093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229960" y="327672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7696440" y="3048120"/>
                  <a:ext cx="87624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"/>
          <p:cNvSpPr/>
          <p:nvPr/>
        </p:nvSpPr>
        <p:spPr>
          <a:xfrm>
            <a:off x="4343400" y="3048120"/>
            <a:ext cx="380880" cy="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743200" y="419112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8.67052E-007 L 0.04167 -8.67052E-007 E">
                                      <p:cBhvr>
                                        <p:cTn id="13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2.19653E-006 L -0.05833 2.19653E-006 E">
                                      <p:cBhvr>
                                        <p:cTn id="14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34640" cy="578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31960" y="2514600"/>
                <a:ext cx="1565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60" y="30535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60" y="3528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-1116000" y="3284640"/>
            <a:ext cx="13258440" cy="685800"/>
            <a:chOff x="-1116000" y="3284640"/>
            <a:chExt cx="13258440" cy="685800"/>
          </a:xfrm>
        </p:grpSpPr>
        <p:grpSp>
          <p:nvGrpSpPr>
            <p:cNvPr id="209" name=""/>
            <p:cNvGrpSpPr/>
            <p:nvPr/>
          </p:nvGrpSpPr>
          <p:grpSpPr>
            <a:xfrm>
              <a:off x="-1116000" y="3284640"/>
              <a:ext cx="8839440" cy="685800"/>
              <a:chOff x="-1116000" y="3284640"/>
              <a:chExt cx="8839440" cy="68580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-1116000" y="3284640"/>
                <a:ext cx="4419720" cy="685800"/>
                <a:chOff x="-1116000" y="3284640"/>
                <a:chExt cx="4419720" cy="6858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094040" y="328464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-1116000" y="328464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303720" y="3284640"/>
                <a:ext cx="4419720" cy="685800"/>
                <a:chOff x="3303720" y="3284640"/>
                <a:chExt cx="4419720" cy="6858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513760" y="328464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303720" y="328464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7723440" y="3284640"/>
              <a:ext cx="4419000" cy="685800"/>
              <a:chOff x="7723440" y="3284640"/>
              <a:chExt cx="4419000" cy="685800"/>
            </a:xfrm>
          </p:grpSpPr>
          <p:sp>
            <p:nvSpPr>
              <p:cNvPr id="217" name=""/>
              <p:cNvSpPr/>
              <p:nvPr/>
            </p:nvSpPr>
            <p:spPr>
              <a:xfrm>
                <a:off x="9933120" y="3284640"/>
                <a:ext cx="220932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23440" y="3284640"/>
                <a:ext cx="22096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-1116000" y="3284640"/>
            <a:ext cx="13182120" cy="685800"/>
            <a:chOff x="-1116000" y="3284640"/>
            <a:chExt cx="13182120" cy="685800"/>
          </a:xfrm>
        </p:grpSpPr>
        <p:grpSp>
          <p:nvGrpSpPr>
            <p:cNvPr id="220" name=""/>
            <p:cNvGrpSpPr/>
            <p:nvPr/>
          </p:nvGrpSpPr>
          <p:grpSpPr>
            <a:xfrm>
              <a:off x="-1116000" y="3284640"/>
              <a:ext cx="8787960" cy="685800"/>
              <a:chOff x="-1116000" y="3284640"/>
              <a:chExt cx="8787960" cy="68580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-1116000" y="3284640"/>
                <a:ext cx="4393800" cy="685800"/>
                <a:chOff x="-1116000" y="3284640"/>
                <a:chExt cx="4393800" cy="6858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081080" y="3284640"/>
                  <a:ext cx="21967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-1116000" y="3284640"/>
                  <a:ext cx="21970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278160" y="3284640"/>
                <a:ext cx="4393800" cy="685800"/>
                <a:chOff x="3278160" y="3284640"/>
                <a:chExt cx="4393800" cy="6858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475240" y="3284640"/>
                  <a:ext cx="21967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278160" y="3284640"/>
                  <a:ext cx="21970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"/>
            <p:cNvGrpSpPr/>
            <p:nvPr/>
          </p:nvGrpSpPr>
          <p:grpSpPr>
            <a:xfrm>
              <a:off x="7672320" y="3284640"/>
              <a:ext cx="4393800" cy="685800"/>
              <a:chOff x="7672320" y="3284640"/>
              <a:chExt cx="4393800" cy="685800"/>
            </a:xfrm>
          </p:grpSpPr>
          <p:sp>
            <p:nvSpPr>
              <p:cNvPr id="228" name=""/>
              <p:cNvSpPr/>
              <p:nvPr/>
            </p:nvSpPr>
            <p:spPr>
              <a:xfrm>
                <a:off x="9869400" y="3284640"/>
                <a:ext cx="219672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672320" y="3284640"/>
                <a:ext cx="21970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-1116000" y="3068640"/>
            <a:ext cx="13258440" cy="885600"/>
            <a:chOff x="-1116000" y="3068640"/>
            <a:chExt cx="13258440" cy="885600"/>
          </a:xfrm>
        </p:grpSpPr>
        <p:grpSp>
          <p:nvGrpSpPr>
            <p:cNvPr id="231" name=""/>
            <p:cNvGrpSpPr/>
            <p:nvPr/>
          </p:nvGrpSpPr>
          <p:grpSpPr>
            <a:xfrm>
              <a:off x="-1116000" y="3268440"/>
              <a:ext cx="13258440" cy="685800"/>
              <a:chOff x="-1116000" y="3268440"/>
              <a:chExt cx="13258440" cy="68580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-1116000" y="3268440"/>
                <a:ext cx="8839440" cy="685800"/>
                <a:chOff x="-1116000" y="3268440"/>
                <a:chExt cx="8839440" cy="68580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-1116000" y="3268440"/>
                  <a:ext cx="4419720" cy="685800"/>
                  <a:chOff x="-1116000" y="3268440"/>
                  <a:chExt cx="4419720" cy="6858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094040" y="326844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-1116000" y="326844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3303720" y="3268440"/>
                  <a:ext cx="4419720" cy="685800"/>
                  <a:chOff x="3303720" y="3268440"/>
                  <a:chExt cx="4419720" cy="6858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5513760" y="326844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3303720" y="326844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9" name=""/>
              <p:cNvGrpSpPr/>
              <p:nvPr/>
            </p:nvGrpSpPr>
            <p:grpSpPr>
              <a:xfrm>
                <a:off x="7723440" y="3268440"/>
                <a:ext cx="4419000" cy="685800"/>
                <a:chOff x="7723440" y="3268440"/>
                <a:chExt cx="4419000" cy="6858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9933120" y="3268440"/>
                  <a:ext cx="22093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723440" y="326844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7180200" y="3068640"/>
                  <a:ext cx="895320" cy="25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3" name=""/>
          <p:cNvSpPr/>
          <p:nvPr/>
        </p:nvSpPr>
        <p:spPr>
          <a:xfrm>
            <a:off x="4343400" y="3048120"/>
            <a:ext cx="380880" cy="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743200" y="419112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4360" y="0"/>
            <a:ext cx="75596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ffffe1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раллельный перенос вдоль оси Ох</a:t>
            </a:r>
            <a:endParaRPr b="0" i="1" lang="en-US" sz="2800" spc="1" strike="noStrike">
              <a:ln w="19080">
                <a:solidFill>
                  <a:srgbClr val="ffffe1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716360" y="2895480"/>
                <a:ext cx="1314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8.67052E-007 L 0.04167 -8.67052E-007 E">
                                      <p:cBhvr>
                                        <p:cTn id="168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2.19653E-006 L -0.05833 2.19653E-006 E">
                                      <p:cBhvr>
                                        <p:cTn id="181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34640" cy="578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86000" y="4800600"/>
                <a:ext cx="1324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715000" y="2114640"/>
                <a:ext cx="11764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60" y="30535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60" y="3528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араллельный перенос вдоль ос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-2743200" y="3276720"/>
            <a:ext cx="13182120" cy="685800"/>
            <a:chOff x="-2743200" y="3276720"/>
            <a:chExt cx="13182120" cy="685800"/>
          </a:xfrm>
        </p:grpSpPr>
        <p:grpSp>
          <p:nvGrpSpPr>
            <p:cNvPr id="255" name=""/>
            <p:cNvGrpSpPr/>
            <p:nvPr/>
          </p:nvGrpSpPr>
          <p:grpSpPr>
            <a:xfrm>
              <a:off x="-2743200" y="3276720"/>
              <a:ext cx="8787960" cy="685800"/>
              <a:chOff x="-2743200" y="3276720"/>
              <a:chExt cx="8787960" cy="6858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-2743200" y="3276720"/>
                <a:ext cx="4394160" cy="685800"/>
                <a:chOff x="-2743200" y="3276720"/>
                <a:chExt cx="4394160" cy="685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-545760" y="3276720"/>
                  <a:ext cx="21967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-2743200" y="3276720"/>
                  <a:ext cx="21970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1650960" y="3276720"/>
                <a:ext cx="4393800" cy="685800"/>
                <a:chOff x="1650960" y="3276720"/>
                <a:chExt cx="4393800" cy="6858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848040" y="3276720"/>
                  <a:ext cx="21967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650960" y="3276720"/>
                  <a:ext cx="21970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"/>
            <p:cNvGrpSpPr/>
            <p:nvPr/>
          </p:nvGrpSpPr>
          <p:grpSpPr>
            <a:xfrm>
              <a:off x="6045120" y="3276720"/>
              <a:ext cx="4393800" cy="685800"/>
              <a:chOff x="6045120" y="3276720"/>
              <a:chExt cx="4393800" cy="685800"/>
            </a:xfrm>
          </p:grpSpPr>
          <p:sp>
            <p:nvSpPr>
              <p:cNvPr id="263" name=""/>
              <p:cNvSpPr/>
              <p:nvPr/>
            </p:nvSpPr>
            <p:spPr>
              <a:xfrm>
                <a:off x="8242200" y="3276720"/>
                <a:ext cx="219672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45120" y="3276720"/>
                <a:ext cx="21970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-609480" y="3276720"/>
            <a:ext cx="13258440" cy="685800"/>
            <a:chOff x="-609480" y="3276720"/>
            <a:chExt cx="13258440" cy="685800"/>
          </a:xfrm>
        </p:grpSpPr>
        <p:grpSp>
          <p:nvGrpSpPr>
            <p:cNvPr id="266" name=""/>
            <p:cNvGrpSpPr/>
            <p:nvPr/>
          </p:nvGrpSpPr>
          <p:grpSpPr>
            <a:xfrm>
              <a:off x="-609480" y="3276720"/>
              <a:ext cx="8839440" cy="685800"/>
              <a:chOff x="-609480" y="3276720"/>
              <a:chExt cx="8839440" cy="68580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-609480" y="3276720"/>
                <a:ext cx="4419720" cy="685800"/>
                <a:chOff x="-609480" y="3276720"/>
                <a:chExt cx="4419720" cy="6858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600560" y="327672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-609480" y="327672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810240" y="3276720"/>
                <a:ext cx="4419720" cy="685800"/>
                <a:chOff x="3810240" y="3276720"/>
                <a:chExt cx="4419720" cy="6858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020280" y="327672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810240" y="327672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8229960" y="3276720"/>
              <a:ext cx="4419000" cy="685800"/>
              <a:chOff x="8229960" y="3276720"/>
              <a:chExt cx="4419000" cy="685800"/>
            </a:xfrm>
          </p:grpSpPr>
          <p:sp>
            <p:nvSpPr>
              <p:cNvPr id="274" name=""/>
              <p:cNvSpPr/>
              <p:nvPr/>
            </p:nvSpPr>
            <p:spPr>
              <a:xfrm>
                <a:off x="10439640" y="3276720"/>
                <a:ext cx="220932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229960" y="3276720"/>
                <a:ext cx="22096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-609480" y="3048120"/>
            <a:ext cx="13258440" cy="919080"/>
            <a:chOff x="-609480" y="3048120"/>
            <a:chExt cx="13258440" cy="919080"/>
          </a:xfrm>
        </p:grpSpPr>
        <p:grpSp>
          <p:nvGrpSpPr>
            <p:cNvPr id="277" name=""/>
            <p:cNvGrpSpPr/>
            <p:nvPr/>
          </p:nvGrpSpPr>
          <p:grpSpPr>
            <a:xfrm>
              <a:off x="-609480" y="3281400"/>
              <a:ext cx="13258440" cy="685800"/>
              <a:chOff x="-609480" y="3281400"/>
              <a:chExt cx="13258440" cy="68580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-609480" y="3281400"/>
                <a:ext cx="8839440" cy="685800"/>
                <a:chOff x="-609480" y="3281400"/>
                <a:chExt cx="8839440" cy="68580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-609480" y="3281400"/>
                  <a:ext cx="4419720" cy="685800"/>
                  <a:chOff x="-609480" y="3281400"/>
                  <a:chExt cx="4419720" cy="6858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1600560" y="328140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-609480" y="328140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3810240" y="3281400"/>
                  <a:ext cx="4419720" cy="685800"/>
                  <a:chOff x="3810240" y="3281400"/>
                  <a:chExt cx="4419720" cy="68580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6020280" y="328140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810240" y="328140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5" name=""/>
              <p:cNvGrpSpPr/>
              <p:nvPr/>
            </p:nvGrpSpPr>
            <p:grpSpPr>
              <a:xfrm>
                <a:off x="8229960" y="3281400"/>
                <a:ext cx="4419000" cy="685800"/>
                <a:chOff x="8229960" y="3281400"/>
                <a:chExt cx="4419000" cy="6858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10439640" y="3281400"/>
                  <a:ext cx="22093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229960" y="328140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7848720" y="3048120"/>
                  <a:ext cx="95256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2.77556E-017 -2.19653E-006 L -0.00833 -0.11098 E">
                                      <p:cBhvr>
                                        <p:cTn id="19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3.33333E-006 2.19653E-006 L 3.33333E-006 0.15537 E">
                                      <p:cBhvr>
                                        <p:cTn id="20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87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60" y="30535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60" y="3528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-3276720" y="3429000"/>
            <a:ext cx="13182480" cy="685800"/>
            <a:chOff x="-3276720" y="3429000"/>
            <a:chExt cx="13182480" cy="685800"/>
          </a:xfrm>
        </p:grpSpPr>
        <p:grpSp>
          <p:nvGrpSpPr>
            <p:cNvPr id="294" name=""/>
            <p:cNvGrpSpPr/>
            <p:nvPr/>
          </p:nvGrpSpPr>
          <p:grpSpPr>
            <a:xfrm>
              <a:off x="-3276720" y="3429000"/>
              <a:ext cx="8787960" cy="685800"/>
              <a:chOff x="-3276720" y="3429000"/>
              <a:chExt cx="8787960" cy="6858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-3276720" y="3429000"/>
                <a:ext cx="4394160" cy="685800"/>
                <a:chOff x="-3276720" y="3429000"/>
                <a:chExt cx="4394160" cy="6858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-1079280" y="3429000"/>
                  <a:ext cx="21967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-3276720" y="3429000"/>
                  <a:ext cx="21970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117440" y="3429000"/>
                <a:ext cx="4393800" cy="685800"/>
                <a:chOff x="1117440" y="3429000"/>
                <a:chExt cx="4393800" cy="6858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314520" y="3429000"/>
                  <a:ext cx="21967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117440" y="3429000"/>
                  <a:ext cx="21970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5511960" y="3429000"/>
              <a:ext cx="4393800" cy="685800"/>
              <a:chOff x="5511960" y="3429000"/>
              <a:chExt cx="4393800" cy="685800"/>
            </a:xfrm>
          </p:grpSpPr>
          <p:sp>
            <p:nvSpPr>
              <p:cNvPr id="302" name=""/>
              <p:cNvSpPr/>
              <p:nvPr/>
            </p:nvSpPr>
            <p:spPr>
              <a:xfrm>
                <a:off x="7709040" y="3429000"/>
                <a:ext cx="219672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511960" y="3429000"/>
                <a:ext cx="21970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-1116000" y="3429000"/>
            <a:ext cx="13258440" cy="685800"/>
            <a:chOff x="-1116000" y="3429000"/>
            <a:chExt cx="13258440" cy="685800"/>
          </a:xfrm>
        </p:grpSpPr>
        <p:grpSp>
          <p:nvGrpSpPr>
            <p:cNvPr id="305" name=""/>
            <p:cNvGrpSpPr/>
            <p:nvPr/>
          </p:nvGrpSpPr>
          <p:grpSpPr>
            <a:xfrm>
              <a:off x="-1116000" y="3429000"/>
              <a:ext cx="8839440" cy="685800"/>
              <a:chOff x="-1116000" y="3429000"/>
              <a:chExt cx="8839440" cy="6858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-1116000" y="3429000"/>
                <a:ext cx="4419720" cy="685800"/>
                <a:chOff x="-1116000" y="3429000"/>
                <a:chExt cx="4419720" cy="6858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94040" y="342900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-1116000" y="342900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303720" y="3429000"/>
                <a:ext cx="4419720" cy="685800"/>
                <a:chOff x="3303720" y="3429000"/>
                <a:chExt cx="4419720" cy="6858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513760" y="342900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303720" y="342900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"/>
            <p:cNvGrpSpPr/>
            <p:nvPr/>
          </p:nvGrpSpPr>
          <p:grpSpPr>
            <a:xfrm>
              <a:off x="7723440" y="3429000"/>
              <a:ext cx="4419000" cy="685800"/>
              <a:chOff x="7723440" y="3429000"/>
              <a:chExt cx="4419000" cy="685800"/>
            </a:xfrm>
          </p:grpSpPr>
          <p:sp>
            <p:nvSpPr>
              <p:cNvPr id="313" name=""/>
              <p:cNvSpPr/>
              <p:nvPr/>
            </p:nvSpPr>
            <p:spPr>
              <a:xfrm>
                <a:off x="9933120" y="3429000"/>
                <a:ext cx="220932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723440" y="3429000"/>
                <a:ext cx="22096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"/>
          <p:cNvSpPr txBox="1"/>
          <p:nvPr/>
        </p:nvSpPr>
        <p:spPr>
          <a:xfrm>
            <a:off x="684360" y="26028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66ff33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ралельный перенос вдоль оси Оу</a:t>
            </a:r>
            <a:endParaRPr b="0" i="1" lang="en-US" sz="2800" spc="1" strike="noStrike">
              <a:ln w="19080">
                <a:solidFill>
                  <a:srgbClr val="66ff33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724360" y="2133720"/>
                <a:ext cx="11764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7" name=""/>
          <p:cNvGrpSpPr/>
          <p:nvPr/>
        </p:nvGrpSpPr>
        <p:grpSpPr>
          <a:xfrm>
            <a:off x="-1116000" y="3244680"/>
            <a:ext cx="13258440" cy="887400"/>
            <a:chOff x="-1116000" y="3244680"/>
            <a:chExt cx="13258440" cy="887400"/>
          </a:xfrm>
        </p:grpSpPr>
        <p:grpSp>
          <p:nvGrpSpPr>
            <p:cNvPr id="318" name=""/>
            <p:cNvGrpSpPr/>
            <p:nvPr/>
          </p:nvGrpSpPr>
          <p:grpSpPr>
            <a:xfrm>
              <a:off x="-1116000" y="3446280"/>
              <a:ext cx="13258440" cy="685800"/>
              <a:chOff x="-1116000" y="3446280"/>
              <a:chExt cx="13258440" cy="68580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-1116000" y="3446280"/>
                <a:ext cx="8839440" cy="685800"/>
                <a:chOff x="-1116000" y="3446280"/>
                <a:chExt cx="8839440" cy="685800"/>
              </a:xfrm>
            </p:grpSpPr>
            <p:grpSp>
              <p:nvGrpSpPr>
                <p:cNvPr id="320" name=""/>
                <p:cNvGrpSpPr/>
                <p:nvPr/>
              </p:nvGrpSpPr>
              <p:grpSpPr>
                <a:xfrm>
                  <a:off x="-1116000" y="3446280"/>
                  <a:ext cx="4419720" cy="685800"/>
                  <a:chOff x="-1116000" y="3446280"/>
                  <a:chExt cx="4419720" cy="685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1094040" y="344628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-1116000" y="344628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3303720" y="3446280"/>
                  <a:ext cx="4419720" cy="685800"/>
                  <a:chOff x="3303720" y="3446280"/>
                  <a:chExt cx="4419720" cy="6858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5513760" y="344628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303720" y="344628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6" name=""/>
              <p:cNvGrpSpPr/>
              <p:nvPr/>
            </p:nvGrpSpPr>
            <p:grpSpPr>
              <a:xfrm>
                <a:off x="7723440" y="3446280"/>
                <a:ext cx="4419000" cy="685800"/>
                <a:chOff x="7723440" y="3446280"/>
                <a:chExt cx="4419000" cy="6858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9933120" y="3446280"/>
                  <a:ext cx="22093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723440" y="344628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7332840" y="3244680"/>
                  <a:ext cx="97308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286000" y="4800600"/>
                <a:ext cx="1324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.0033 -0.00116 L -0.00416 -0.10255 E">
                                      <p:cBhvr>
                                        <p:cTn id="221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0.00086 0.0037 L -0.00086 0.15903 E">
                                      <p:cBhvr>
                                        <p:cTn id="230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8:09:50Z</dcterms:created>
  <dc:creator>Тома и Игорь</dc:creator>
  <dc:description/>
  <dc:language>en-US</dc:language>
  <cp:lastModifiedBy>МОУ</cp:lastModifiedBy>
  <dcterms:modified xsi:type="dcterms:W3CDTF">2009-02-24T20:43:08Z</dcterms:modified>
  <cp:revision>4</cp:revision>
  <dc:subject/>
  <dc:title>5. Основные тригонометрические формулы</dc:title>
</cp:coreProperties>
</file>