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8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8.png" ContentType="image/png"/>
  <Override PartName="/ppt/media/image9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0.png" ContentType="image/png"/>
  <Override PartName="/ppt/media/image30.png" ContentType="image/png"/>
  <Override PartName="/ppt/media/image5.png" ContentType="image/png"/>
  <Override PartName="/ppt/media/image35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wmf" ContentType="image/x-wmf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4175-E510-46E2-BBCB-9B73F3A0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62EA-A576-4481-8D29-22EEEB71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1FC8-3B38-4A08-A13B-09248189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02C2-4C71-4680-98B8-4FC649A4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9917-CF98-4BAF-AE72-35C18CC4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2656-9BB6-44C4-9622-A985D0A5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9045-5911-42D2-9D88-F0166D49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79F1-60AA-4187-9777-CBD16434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5A9E-D103-41A1-B3DA-A6688D6B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5B4A-ECA0-44EF-8959-41159B5C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990C-FEF8-4502-B849-DC907B44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F00B-405B-449E-90D6-52C9B8EC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28AA-AE57-4FA2-89B7-4C582C7E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1E14-0804-4311-B854-7BFA0E1F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7EEB-6EE6-4C29-BF58-15AFF592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C036-504E-4A32-B595-BD814978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60BE-E5B8-4E2A-91B3-281A7C34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828E7-D415-4B38-A70D-0A9F0E78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AD393-BE44-4AAB-BFB0-85E14449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6B656-BA3C-45A8-9EC1-D7B91065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2BDC6-FB6C-415E-836D-03BDE1CD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AC47D-3091-42F5-B9AE-25A75C80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0D0A-53A6-43FF-95C7-FB4E3641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8D559-C67C-4BA3-8B8A-00979EA5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B87DA-ECE1-4AB8-B9C6-94E762A9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68D91-FB0A-4168-BE43-D37227A7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1BD05-F122-4709-A5F6-EFC11BB9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B620A-546A-49B7-AE5C-60EFE38C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4E8F4-42C8-4CBB-B878-798F4853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D1EAD-0614-4ACD-A922-35DEE5EC0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5022-3E97-4259-A7FB-A118F49E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E303-0D43-44F1-9883-1A6DAB05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C99D-28FB-4BA3-966C-B2CCC03D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22D8-6A79-4CA0-904B-F1300D72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DF9B-A48C-4066-951C-CE390A71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69BA-895B-4FB0-A0D8-2DC8F5A3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BBF9-1145-4390-8A29-1126F45899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BB15-BC72-4868-B375-E0761233B65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46DC-FFC4-42F6-BB5B-F5BC0FDA785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hyperlink" Target="http://img12.nnm.ru/e/5/4/d/f/b2605854ccb2b089f07aa21a11d.jpg" TargetMode="Externa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6" descr=""/>
          <p:cNvPicPr/>
          <p:nvPr/>
        </p:nvPicPr>
        <p:blipFill>
          <a:blip r:embed="rId2"/>
          <a:stretch/>
        </p:blipFill>
        <p:spPr>
          <a:xfrm>
            <a:off x="5668920" y="0"/>
            <a:ext cx="3475080" cy="40244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029200" cy="3352680"/>
          </a:xfrm>
          <a:prstGeom prst="rect">
            <a:avLst/>
          </a:prstGeom>
          <a:solidFill>
            <a:srgbClr val="33cccc">
              <a:alpha val="5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рифметическая и геометрическая прогрессия в окружающем   нас ми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648320" y="5334120"/>
            <a:ext cx="3962160" cy="914400"/>
          </a:xfrm>
          <a:prstGeom prst="rect">
            <a:avLst/>
          </a:prstGeom>
          <a:solidFill>
            <a:srgbClr val="33cccc">
              <a:alpha val="42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37" name="Picture 5" descr=""/>
          <p:cNvPicPr/>
          <p:nvPr/>
        </p:nvPicPr>
        <p:blipFill>
          <a:blip r:embed="rId3"/>
          <a:stretch/>
        </p:blipFill>
        <p:spPr>
          <a:xfrm>
            <a:off x="304920" y="4114800"/>
            <a:ext cx="3333600" cy="2505240"/>
          </a:xfrm>
          <a:prstGeom prst="rect">
            <a:avLst/>
          </a:prstGeom>
          <a:ln w="0">
            <a:noFill/>
          </a:ln>
        </p:spPr>
      </p:pic>
      <p:cxnSp>
        <p:nvCxnSpPr>
          <p:cNvPr id="238" name="AutoShape 7"/>
          <p:cNvCxnSpPr/>
          <p:nvPr/>
        </p:nvCxnSpPr>
        <p:spPr>
          <a:xfrm flipV="1">
            <a:off x="3638160" y="4024080"/>
            <a:ext cx="3769560" cy="1343520"/>
          </a:xfrm>
          <a:prstGeom prst="curvedConnector2">
            <a:avLst/>
          </a:prstGeom>
          <a:ln w="3492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599616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729"/>
                </a:solidFill>
                <a:latin typeface="Arial"/>
              </a:rPr>
              <a:t>Кафедра истории науки 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старинного русского учебника математики, носящего пространное заглавие: «Полный курс чистый математики, сочиненный Артиллерии Штык-Юнкером и Математики партикулярным Учителем Ефимом Войтяховским в пользу и употребление юношества и упражняющихся в Математике» (1795г) следующая задач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лужившему воину дано вознаграждение за первую рану 1 копейка, за другую – 2 копейки, за третью – 4 копейки и т.д. По исчислению нашлось, что воин получил всего вознаграждения 655 руб. 35 коп. Спрашивается число его ран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2388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евнейшая задача на прогрессии – не вопрос о вознаграждении изобретателя шахмат, насчитывающий за собой двухтысячелетнюю давность, а гораздо более старая  задача о делении хлеба, которая записана в знаменитом египетском папирусе Ринда. Папирус этот, разысканный Риндом в конце пошлого столетия, составлен около 2000 лет до нашей эры и является списком с другого, еще более древнего математического сочинения, относящегося, быть может, к третьему тысячелетию до нашей эры. В числе арифметических, алгебраических и геометрических задаче этого документа имеется  така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 мер хлеба разделить между пятью людьми так, чтобы второй получил на столько же больше первого, насколько третий получил больше второго, четвертый больше третьего и пятый больше четвертого. Кроме того, два первых должны получить  в 7 раз меньше трех остальных. Сколько нужно дать каждо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7820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f4df"/>
                </a:solidFill>
                <a:latin typeface="Arial"/>
              </a:rPr>
              <a:t>Кафедра финансы и кредиты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268520"/>
          </a:xfrm>
          <a:prstGeom prst="rect">
            <a:avLst/>
          </a:prstGeom>
          <a:solidFill>
            <a:srgbClr val="33cccc">
              <a:alpha val="27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) Банк начисляет 20% от суммы, если внесенная сумма 5000 рублей. Какая сумма будет на счету клиента банка через 5 л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) Банк начисляет 20% годовых, если внесенная сумма 5000 рублей. Какая сумма будет на счету клиента банка через 5 л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5114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Кафедра физики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) Период полураспада элемента равен 2 суток. Сколько процентов радиоактивного вещества останется по истечении 6 сут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2) Автомобиль, двигаясь со скор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 м/с за каждую последующую секунду изменял свою скорость на 0,6 м/с. Какую скорость он будет иметь спустя 10 секун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) Чему равно перемещение свободно падающего тела в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-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ю секунду после начала движ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877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Кафедра социологии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7386480" cy="24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сколько процентов увеличится население острова  за 10 лет, если ежегодно оно увеличивается на 2%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172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bebc3"/>
                </a:solidFill>
                <a:latin typeface="Arial"/>
              </a:rPr>
              <a:t>Кафедра менеджмента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7386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Задача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В старинной арифметике Л.Ф. Магницкого имеется следующая задач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Некто продал лошадь за  156 руб. Но покупатель, приобретя лошадь, раздумал ее покупать и возвратил продавцу, говор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Нет мне расчета покупать за эту цену лошадь, которая таких денег не стоит. Тогда продавец предложил другие  услови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Если, по-твоему, цена лошади высока то купи только ее подковные гвозди, лошадь же получишь тогда в придачу бесплатно. Гвоздей в каждой подкове 6. за первый гвоздь дай мне всего ¼  коп., за второй – ½ коп., за третий – 1 коп., и т.д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Покупатель, соблазненный низкой ценой и желая даром получить лошадь, принял условия продавца рассчитывая, что за гвозди придется уплатить не более 10 рублей. На сколько покупатель проторговался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я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Велосипед за 100 рубле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может приобрести в собственность велосипед затратив 100руб. Вместо 500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ловия покупки высылаются беспла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Условие: за 100руб. высылается 4 билета, которые надо сбыть по 100руб. своим знакомым, собранные таким способом 400 рублей следует отправить фирме, после чего высылается велосипед) Выгодна ли фирма горожан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йствительно ли прогрессии играют большую роль в повседневной жиз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2209680" cy="1503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3"/>
          <a:stretch/>
        </p:blipFill>
        <p:spPr>
          <a:xfrm>
            <a:off x="3809880" y="1981080"/>
            <a:ext cx="499140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а Фибоначчи — элементы числовой последовательности: 1, 1, 2, 3, 5, 8, 13, 21, 34, 55, 89… в которой каждое последующее число равно сумме двух предыдущих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2"/>
          <a:stretch/>
        </p:blipFill>
        <p:spPr>
          <a:xfrm>
            <a:off x="3048120" y="3429000"/>
            <a:ext cx="36576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a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ижение вперё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а Фибоначчи были известны в Индии в трудах математиков VIII—XII веков и применялись там в стихослож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падной Европе последовательность введена в 1202 году в «Книге счёта»  Леонардо Пизанского (Фибоначчи), где он предлагает задачу о размножении кроликов: имеется одна новорожденная пара кроликов, которая начинает давать приплод в одну пару кроликов в каждый месяц, начиная со второго месяца. Так же размножаются и вновь родившиеся кролики, порождая новую пару кроликов каждый месяц, начиная со второго, с момента своего рождения. В задаче Фибоначчи спрашивалось, сколько пар кроликов будет к концу года (считается, что кролики не умирают). Оказывается, что в конце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го месяца число пар кроликов задается число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+1.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це года буд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3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пары крол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2"/>
          <a:stretch/>
        </p:blipFill>
        <p:spPr>
          <a:xfrm>
            <a:off x="3124080" y="4191120"/>
            <a:ext cx="320040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тья, сидящие на ветке одиноко, располагаются кругом стебля, по винтовой линии, то есть каждый последующий лист повыше и в сторону от предыдущего. При этом для каждого вида растений характерен свой угол расхождения двух соседних листьев, который выдерживается более или менее точно во всех частях стеб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а Фибоначчи исчисляют спирали семечек в подсолнухе, спирально завитой раковине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2"/>
          <a:stretch/>
        </p:blipFill>
        <p:spPr>
          <a:xfrm>
            <a:off x="1676520" y="411480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"/>
          <p:cNvPicPr/>
          <p:nvPr/>
        </p:nvPicPr>
        <p:blipFill>
          <a:blip r:embed="rId3"/>
          <a:stretch/>
        </p:blipFill>
        <p:spPr>
          <a:xfrm>
            <a:off x="4572000" y="4114800"/>
            <a:ext cx="335268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3132000" cy="29718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"/>
          <p:cNvPicPr/>
          <p:nvPr/>
        </p:nvPicPr>
        <p:blipFill>
          <a:blip r:embed="rId3"/>
          <a:stretch/>
        </p:blipFill>
        <p:spPr>
          <a:xfrm>
            <a:off x="5715000" y="0"/>
            <a:ext cx="3429000" cy="2819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4"/>
          <a:stretch/>
        </p:blipFill>
        <p:spPr>
          <a:xfrm>
            <a:off x="3581280" y="2590920"/>
            <a:ext cx="2505240" cy="23637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"/>
          <p:cNvPicPr/>
          <p:nvPr/>
        </p:nvPicPr>
        <p:blipFill>
          <a:blip r:embed="rId5"/>
          <a:stretch/>
        </p:blipFill>
        <p:spPr>
          <a:xfrm>
            <a:off x="2438280" y="5149800"/>
            <a:ext cx="49532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ми доказано:  прогрессии имеют назна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разве только этим Душа науки бреди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рика для Физика была нужна всег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зия, что муза, ему приносит вдохнов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в ней есть ли прогрессия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жите нет, иль Да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276720" y="304920"/>
            <a:ext cx="53337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грессии в литературе:                                      строки из “Евгения Онегина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…Не мог он ямба от хоре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мы не бились отличить…»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личие ямба от хорея состоит в различных расположениях ударных слогов сти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мб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это стихотворный размер с ударением на четных слогах 2; 4; 6; 8;…Номера ударных слогов образуют арифметическую прогрессию с первым членом 2 и разностью прогрессии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орей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стихотворный размер с ударением на нечетные слогах стиха. Номера ударных слогов образуют арифметическую прогрессию 1; 3; 5; 7;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Ям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«Мой д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я с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х ч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ных пр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л…», прогрессия 2; 4; 6; 8;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орей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п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, как зв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ь в заг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»Б.Л.Пастернак, «Б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я  мгл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ю  н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  кр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т» А.С. Пушкин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рессия 1; 3; 5;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Pyshkina"/>
          <p:cNvPicPr/>
          <p:nvPr/>
        </p:nvPicPr>
        <p:blipFill>
          <a:blip r:embed="rId2"/>
          <a:stretch/>
        </p:blipFill>
        <p:spPr>
          <a:xfrm>
            <a:off x="228600" y="3657600"/>
            <a:ext cx="2174760" cy="2438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85" name="Picture 5" descr="Картинка 5 из 55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228600"/>
            <a:ext cx="2209680" cy="2438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2590560" y="0"/>
            <a:ext cx="65530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о того, великие люди даже в стихи писали в рамках «Золотой пропорции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, проведенный Н. Васютинским анализ стихотворений А.С. Пушкина с этой точки зрения показал, что размеры стихов распределены весьма неравномерно; оказалось, что Пушкин явно предпочитает размеры в 5, 8, 13, 21 и 34 строк (числа Фибоначчи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ими исследователями было замечено, что стихотворения подобны музыкальным произведениям; в них также существуют кульминационные пункты, которые делят стихотворение в пропорции золотого сечения. Рассмотрим, например, стихотворение А.С. Пушкина «Сапожник»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тину раз высматривал сапожник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в обуви ошибку указал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яв тотчас кисть, исправился художник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т, подбочась, сапожник продолжал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Мне кажется, лицо немного криво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эта грудь не слишком ли нага?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ут Апеллес прервал нетерпеливо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уди, дружок, не выше сапога!"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4568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ть у меня приятель на примете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ведаю, в каком бы он предмет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л знатоком, хоть строг он на словах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черт его несет судить о свете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пробуй он судить о сапогах!</a:t>
            </a:r>
            <a:br>
              <a:rPr sz="2000"/>
            </a:br>
            <a:br>
              <a:rPr sz="12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роведем анализ этой притчи. Стихотворение состоит из 13 строк. В нем выделяется две смысловые части: первая в 8 строк и вторая (мораль притчи) в 5 строк (13, 8, 5 — числа Фибоначчи).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овпадение, или автор надумал что то? Разбираем дальше великого поэта…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Кульминацией главы является объяснение Евгения в любви к Татьяне — строка "Бледнеть и гаснуть… вот блаженство!". Эта строка делит всю восьмую главу на две части — в первой 477 строк, а во второй — 295 строк. Их отношение равно 1,617! Тончайшее соответствие величине золотой пропорции! Это великое чудо гармонии, совершенное гением Пушкина!..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полне вероятно что Пушкин даже никогда не слышал о Фибоначчи и Золотой пропорции, но творил он свои произведения подчиняясь именно ей. Точно такую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же закономерность можно проследить и в классической музыке, и найти золотую пропорцию в шедеврах Баха, Бетховена, Шопена, Вагнера. Например, исследуя Хроматическую фантазию и фугу Баха, за единицу меры во времени была принята длительность четверти. В этом произведении содержится 330 таких единиц меры. Золотое деление этого интервала приходится на 204-ю четверть от начала. Этот момент золотого сечения точно совпадает с ферматой (в нотной грамоте знак ферматы увеличивает длительность звука или паузы обычно в 1,5-2 раза), которая отделяет первую часть произведения (прелюдию) от второй. Поразительную соразмерность частей демонстрирует также фуга, следующая за фантазией. При взгляде на схему гармоничного анализа фуги «невольно приходишь в священный трепет перед гениальностью мастера, воплотившего силою художественной чуткости до такой степени точности сокровенные законы природного творчеств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2971800" y="0"/>
            <a:ext cx="6172200" cy="6858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"/>
          <p:cNvPicPr/>
          <p:nvPr/>
        </p:nvPicPr>
        <p:blipFill>
          <a:blip r:embed="rId2"/>
          <a:stretch/>
        </p:blipFill>
        <p:spPr>
          <a:xfrm>
            <a:off x="0" y="2209680"/>
            <a:ext cx="29718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2057040" y="762120"/>
            <a:ext cx="5638680" cy="5410080"/>
          </a:xfrm>
          <a:prstGeom prst="rect">
            <a:avLst/>
          </a:prstGeom>
          <a:solidFill>
            <a:srgbClr val="99cc00">
              <a:alpha val="19000"/>
            </a:srgbClr>
          </a:solidFill>
          <a:ln w="4428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; 0;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4;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1; 1; 2; 3; 5; 8;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-3;  3; -4; 4; -5; 5;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-4; -8; -16;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7; 14;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;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-10; -8; -4;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;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9;6;3;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457200" y="1066680"/>
          <a:ext cx="8305920" cy="518184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ифметическа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ова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метрическа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ова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ва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ова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0;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; -8; -16;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;  3; -4; 4; -5; 5;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; 14;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; -8; -4;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;6; 3;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; 1; 2; 3; 5; 8;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219320" y="1066680"/>
            <a:ext cx="7238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рессии мы с вами изучал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много новых формул вы узн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личные задачи прореш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от теперь настал тот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ы конечно же должны узн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применимы ли прогресс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914400" y="914400"/>
                <a:ext cx="2438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7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11"/>
              <p:cNvSpPr txBox="1"/>
              <p:nvPr/>
            </p:nvSpPr>
            <p:spPr>
              <a:xfrm>
                <a:off x="1143000" y="1905120"/>
                <a:ext cx="2584440" cy="41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10"/>
              <p:cNvSpPr txBox="1"/>
              <p:nvPr/>
            </p:nvSpPr>
            <p:spPr>
              <a:xfrm>
                <a:off x="5029200" y="838080"/>
                <a:ext cx="23623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4"/>
              <p:cNvSpPr txBox="1"/>
              <p:nvPr/>
            </p:nvSpPr>
            <p:spPr>
              <a:xfrm>
                <a:off x="5105520" y="1752480"/>
                <a:ext cx="2576520" cy="449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9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09480" y="457200"/>
            <a:ext cx="8229600" cy="2209680"/>
          </a:xfrm>
          <a:prstGeom prst="rect">
            <a:avLst/>
          </a:prstGeom>
          <a:solidFill>
            <a:srgbClr val="99cc00">
              <a:alpha val="54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ка достигает совершенства лишь тогда, когда ей удается  пользоваться математик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Фридрих Энгель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2743200" y="3276720"/>
            <a:ext cx="37339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447920"/>
          </a:xfrm>
          <a:prstGeom prst="rect">
            <a:avLst/>
          </a:prstGeom>
          <a:solidFill>
            <a:srgbClr val="333399">
              <a:alpha val="42000"/>
            </a:srgbClr>
          </a:solidFill>
          <a:ln w="63360">
            <a:solidFill>
              <a:srgbClr val="000080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йствительно ли прогрессии играют большую роль в повседневной жиз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7" descr=""/>
          <p:cNvPicPr/>
          <p:nvPr/>
        </p:nvPicPr>
        <p:blipFill>
          <a:blip r:embed="rId2"/>
          <a:stretch/>
        </p:blipFill>
        <p:spPr>
          <a:xfrm>
            <a:off x="6316560" y="3352680"/>
            <a:ext cx="28274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066680" y="1219320"/>
          <a:ext cx="7086600" cy="5013360"/>
        </p:xfrm>
        <a:graphic>
          <a:graphicData uri="http://schemas.openxmlformats.org/drawingml/2006/table">
            <a:tbl>
              <a:tblPr/>
              <a:tblGrid>
                <a:gridCol w="3543480"/>
                <a:gridCol w="3543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фед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. кафедр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ы и креди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денко 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ынов 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олог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чев К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ка и менеджме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скова 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 нау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люк 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кола</dc:creator>
  <dc:description/>
  <dc:language>en-US</dc:language>
  <cp:lastModifiedBy>школа</cp:lastModifiedBy>
  <dcterms:modified xsi:type="dcterms:W3CDTF">2017-09-10T16:43:11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