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A6D-B078-4AD0-9DD3-9ECB0BB6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D61-F49C-4595-BC67-704032E8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E5E-207D-4F7D-BA19-DEBCA470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FB2-46BA-433C-8DA1-49A6231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55E5-D91D-44BD-ADFF-103727F3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F914-DA18-4289-913A-2B378AF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861E-90C9-4124-84A5-E0CC8B9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9CBD-2FAB-4C34-8790-C67E4D15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2DB-6303-4086-9A14-96A7BB7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CE29-E8B9-4B59-8644-BF14B66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4A79-8082-4ED3-BCE7-E348ED9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131-EBF2-4693-ADB2-2F7688DF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43FC-6ECC-420F-964F-34155F8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FF62-7BE0-476F-AF24-6591F6A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C66F-5CB6-4B3F-AD2C-EB9F374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26B8-A3F1-40BC-B4A8-5962D381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A153-2E5A-44FB-8AA7-FCCDA9E0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CD3-E719-4F9C-A825-77D81016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CE9-6BAE-46F1-9096-8D3299D3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E21-E61F-4236-A930-F93201B6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FC0-2934-42F2-BC29-8158A30C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F3C-25B9-46EF-975B-F85FB9A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5A6-1EB1-4925-8406-D7614F5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901-9D83-4734-85B5-5F19A7E5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8C31-FE49-4A02-8F6B-F364AA7BB6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B64C-3C84-4299-A0FE-CB94728FF5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464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755640" y="1773000"/>
            <a:ext cx="794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игуры </a:t>
            </a:r>
            <a:br>
              <a:rPr sz="54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старшей группы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плыгина Г.М.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338040"/>
            <a:ext cx="746748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36</a:t>
            </a:r>
            <a:br>
              <a:rPr sz="1900"/>
            </a:b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2195640" y="4724280"/>
            <a:ext cx="1439640" cy="1263600"/>
          </a:xfrm>
          <a:prstGeom prst="rect">
            <a:avLst/>
          </a:prstGeom>
          <a:ln w="0">
            <a:noFill/>
          </a:ln>
        </p:spPr>
      </p:pic>
      <p:sp>
        <p:nvSpPr>
          <p:cNvPr id="100" name="Равнобедренный треугольник 5"/>
          <p:cNvSpPr/>
          <p:nvPr/>
        </p:nvSpPr>
        <p:spPr>
          <a:xfrm>
            <a:off x="3352680" y="5105520"/>
            <a:ext cx="1873440" cy="1423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6" descr=""/>
          <p:cNvPicPr/>
          <p:nvPr/>
        </p:nvPicPr>
        <p:blipFill>
          <a:blip r:embed="rId3"/>
          <a:stretch/>
        </p:blipFill>
        <p:spPr>
          <a:xfrm>
            <a:off x="5222880" y="5135400"/>
            <a:ext cx="18730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2484360" y="2200320"/>
            <a:ext cx="4572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251160" y="68112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2682720" y="17226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тилось колес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похожее он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глядная нату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на круглую фигуру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дался, милый друг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конечно, это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209320" y="121932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фигура - хоть к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овная всег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глы во мне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етыр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 - мой любимый б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990720" y="-2078280"/>
            <a:ext cx="68580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3200400" y="380880"/>
            <a:ext cx="31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вадр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72000" y="3300480"/>
            <a:ext cx="3549600" cy="355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2286000" y="25509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игуру посмотр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альбоме начерт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угла. Три сторон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 собой соедини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ся не угольник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расивый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273400" y="1125360"/>
            <a:ext cx="425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1990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38280" y="129528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886200"/>
            <a:ext cx="4076640" cy="2971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90720" y="380880"/>
            <a:ext cx="3543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ЕЛЫЕ ФИГУР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90600" y="279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083040" y="1615320"/>
            <a:ext cx="3706920" cy="4150080"/>
            <a:chOff x="3083040" y="1615320"/>
            <a:chExt cx="3706920" cy="4150080"/>
          </a:xfrm>
        </p:grpSpPr>
        <p:sp>
          <p:nvSpPr>
            <p:cNvPr id="132" name=""/>
            <p:cNvSpPr/>
            <p:nvPr/>
          </p:nvSpPr>
          <p:spPr>
            <a:xfrm>
              <a:off x="3083040" y="2270520"/>
              <a:ext cx="2657880" cy="2621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09920" y="1615320"/>
              <a:ext cx="1382040" cy="1310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4788200">
              <a:off x="6212880" y="2658240"/>
              <a:ext cx="545760" cy="4251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21320" y="4891680"/>
              <a:ext cx="1382040" cy="87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5120" y="2816640"/>
              <a:ext cx="1594800" cy="1528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0600" y="2161440"/>
              <a:ext cx="212400" cy="21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609480" y="380880"/>
            <a:ext cx="4934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з яйца как из пеле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ылез маленький 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3" descr="geo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4640" y="279360"/>
            <a:ext cx="54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Состав такую же картинку и расскажи ка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фигуры  использ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Фвьшт</cp:lastModifiedBy>
  <dcterms:modified xsi:type="dcterms:W3CDTF">2017-02-14T19:38:3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