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E4E-CE22-45CA-9542-C7EF6296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115-E8C9-4628-8284-DEE68F6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A9D-8733-4DDC-9953-DBB121E9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AA0-45B0-46F4-96C4-E8941103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6FB1-CC0F-472F-B9AC-91B43263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4BD5-CB6E-4773-8871-B85C48D8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B264-582D-443D-8EC4-50F2B17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9E8-2513-49A6-9605-03652BE5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D999-60EC-4C48-BDE5-AFF8544C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4612-7E43-4CEA-9F93-341BCFF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A1E-87A6-4273-80A8-5D8FA82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E42-DF7B-4AFA-9A48-7ECBB36F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DBD-72FE-42C0-B3D8-90C51C2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183C-15B0-4651-A9DE-C35122B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2464-C22D-4839-8C05-12D7B5C5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C08-6510-41E2-B08D-89E4E08E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F305-18DC-4728-AD9D-74ADF313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0E9-5BB5-4E43-8B13-CFD5743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DD3-DD33-48F8-B376-6218F8A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633-5F33-4F66-ADD4-BDDED4CB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C82-3BA7-4A3B-80FD-1E38A663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558-8276-4C0A-BB07-CD12556B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182-0736-4E9B-9EBB-7E464C8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18E-ED39-42AE-8107-9A7CC8D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BB09-D253-47BF-854B-95D4B7F5E2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692-2C13-4F71-9231-64838E18C6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сс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аранова Н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БОУ Школа №14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Можешь ты меня измери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Результат свой записа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Разной меркою отмери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Их сложить и вычита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Их сравнишь ты без труд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Я зовусь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Механические вес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324480" y="205740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213336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593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Электронные весы</a:t>
            </a:r>
            <a:r>
              <a:rPr b="0" i="1" lang="en-US" sz="4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322440" cy="2768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71600" y="3886200"/>
            <a:ext cx="2610000" cy="261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Правила работы в групп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* В группе должен быть ответственны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* Работает каждый на общий результ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* Один- говорит, другой - слуш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* Не понял - переспрос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* Свое несогласие высказывай вежливо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4038480"/>
            <a:ext cx="3600360" cy="240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Узнайте массу му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Эталон килограмм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Эталон килограм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хранится во Фран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504960" cy="2581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М асса- величин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1. Массу можно измерить.- </a:t>
            </a: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Ве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Единица массы- килограм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 Меры массы можно сравни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Меры массы можно складывать  и вычит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Узнайте масс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520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0T20:13:5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