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5.jpeg" ContentType="image/jpeg"/>
  <Override PartName="/ppt/media/image32.png" ContentType="image/png"/>
  <Override PartName="/ppt/media/image33.png" ContentType="image/png"/>
  <Override PartName="/ppt/media/image34.jpeg" ContentType="image/jpeg"/>
  <Override PartName="/ppt/media/image43.jpeg" ContentType="image/jpeg"/>
  <Override PartName="/ppt/media/image46.png" ContentType="image/png"/>
  <Override PartName="/ppt/media/image9.jpeg" ContentType="image/jpeg"/>
  <Override PartName="/ppt/media/image2.jpeg" ContentType="image/jpeg"/>
  <Override PartName="/ppt/media/image3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1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9C0-D2BF-4598-BF5B-4EAF09AA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994-83C4-4083-A6BE-702D844B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C2D-89B2-43ED-B00C-6F3C3B17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0DE-1F34-4463-ABFC-DE4D83D0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4ECA-9690-4305-A09B-B0EC79E7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F05C-ECAF-4B1D-80D2-4FA69611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B876-582E-4755-A48A-0A2D8A13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7E65-1FDC-4C2F-A899-D67166EF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D7E5-600D-4A3A-95C8-7E5695C4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3A83-E82C-4C46-9A3B-83FEC6F3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7840-CE08-49E7-A72F-FB3F30F9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8B3-8730-4B1E-9417-2155DAA9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1EE7-26AF-4878-8E8A-D950B01B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7EB8-F9A1-4F0B-A878-EC5FEC27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BA42-0947-409A-9BAD-B54F1051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4050-B42A-44E2-9C58-2617024A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341C-DCE0-42EC-8710-1FC3B341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13B-D316-462C-933E-45D2E387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C96-8D14-41E4-A7A9-FA96F189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C9F-D909-47C6-85BB-F08F197E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8B6-18D1-4801-A694-ADD8888E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F92-8ABF-493D-B0F2-6A5EF7A5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A2F-8616-4374-835D-220AD2F3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292-C544-4617-A2EC-D2203777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6520-D332-4724-847A-CABDADC595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B5EF-B4CE-4785-9279-D33C401434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900000" y="83664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7120" y="714240"/>
            <a:ext cx="8607600" cy="73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ТЕМА УРОКА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Прорастание семя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Условия, необходимые для прорастания семя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Презентацию подготовил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Учитель биолог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МОУ «СОШ № 67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Кировского райо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г.Сарато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Щекотурова Ю.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826920" y="5661000"/>
            <a:ext cx="7417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071720" y="357120"/>
            <a:ext cx="664344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растание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переход семян из состояния покоя к росту зародыша и развитию из него проростка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БЛЕМА: Как получить здоровый, крепкий и полноценный проросток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1428840" y="21420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Этапы прорастания семян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1143000" y="114300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 этап – Поглощение во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 этап – Набухание семя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 этап – Увеличение размеров. Деление клето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 этап – Появление кореш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 этап – Появление зародышевого побега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28261CD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0" y="0"/>
            <a:ext cx="3673440" cy="40546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5f03"/>
                </a:solidFill>
                <a:latin typeface="Monotype Corsiva"/>
              </a:rPr>
              <a:t>Прорастание </a:t>
            </a:r>
            <a:r>
              <a:rPr b="0" lang="ru-RU" sz="3200" spc="-1" strike="noStrike">
                <a:solidFill>
                  <a:srgbClr val="bb5f03"/>
                </a:solidFill>
                <a:latin typeface="Monotype Corsiva"/>
              </a:rPr>
              <a:t>– </a:t>
            </a:r>
            <a:r>
              <a:rPr b="1" lang="ru-RU" sz="3200" spc="-1" strike="noStrike">
                <a:solidFill>
                  <a:srgbClr val="bb5f03"/>
                </a:solidFill>
                <a:latin typeface="Monotype Corsiva"/>
              </a:rPr>
              <a:t>это переход семян из состояния покоя к росту зародыша и развитию из него пророст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фото флористика 0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2286000" y="192888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ловия, необходимые для прорастания семян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 flipV="1" rot="10800000">
            <a:off x="642960" y="-845280"/>
            <a:ext cx="8215200" cy="59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Лабораторная работа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Условия, необходимые для прорастания семя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Цель исследовани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Изучение условий прорастания семя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857160" y="642960"/>
            <a:ext cx="807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казать роль семени в индивидуальном развитии растени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ать понятие об условиях прорастания семян, росте и развитии пророст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должить формирование умений обсуждать проблемные вопросы, анализировать, работать с различными источникам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Monotype Corsiva"/>
              </a:rPr>
              <a:t>Предположим,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Monotype Corsiva"/>
              </a:rPr>
              <a:t> что семенам для прорастания необходимы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 flipH="1">
            <a:off x="2195280" y="1484280"/>
            <a:ext cx="863640" cy="936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H="1">
            <a:off x="2484000" y="1484280"/>
            <a:ext cx="1366920" cy="3168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5003640" y="1484280"/>
            <a:ext cx="1584360" cy="3168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5796000" y="1484280"/>
            <a:ext cx="936720" cy="100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179280" y="2349360"/>
            <a:ext cx="2592360" cy="201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826920" y="4653000"/>
            <a:ext cx="259272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5651640" y="4653000"/>
            <a:ext cx="259236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6372360" y="2421000"/>
            <a:ext cx="259236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24"/>
          <p:cNvSpPr/>
          <p:nvPr/>
        </p:nvSpPr>
        <p:spPr>
          <a:xfrm>
            <a:off x="3203640" y="3429000"/>
            <a:ext cx="259236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4427640" y="1557360"/>
            <a:ext cx="0" cy="180036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26" descr="фото флористика 109"/>
          <p:cNvPicPr/>
          <p:nvPr/>
        </p:nvPicPr>
        <p:blipFill>
          <a:blip r:embed="rId1"/>
          <a:stretch/>
        </p:blipFill>
        <p:spPr>
          <a:xfrm>
            <a:off x="826920" y="2924280"/>
            <a:ext cx="1151280" cy="117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фото флористика 108"/>
          <p:cNvPicPr/>
          <p:nvPr/>
        </p:nvPicPr>
        <p:blipFill>
          <a:blip r:embed="rId2"/>
          <a:stretch/>
        </p:blipFill>
        <p:spPr>
          <a:xfrm>
            <a:off x="1258920" y="5229360"/>
            <a:ext cx="16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8" descr="фото флористика 106"/>
          <p:cNvPicPr/>
          <p:nvPr/>
        </p:nvPicPr>
        <p:blipFill>
          <a:blip r:embed="rId3"/>
          <a:stretch/>
        </p:blipFill>
        <p:spPr>
          <a:xfrm>
            <a:off x="6227640" y="5300640"/>
            <a:ext cx="1460520" cy="1095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фото флористика 104"/>
          <p:cNvPicPr/>
          <p:nvPr/>
        </p:nvPicPr>
        <p:blipFill>
          <a:blip r:embed="rId4"/>
          <a:stretch/>
        </p:blipFill>
        <p:spPr>
          <a:xfrm>
            <a:off x="7020000" y="314172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0" descr="фото флористика 105"/>
          <p:cNvPicPr/>
          <p:nvPr/>
        </p:nvPicPr>
        <p:blipFill>
          <a:blip r:embed="rId5"/>
          <a:stretch/>
        </p:blipFill>
        <p:spPr>
          <a:xfrm>
            <a:off x="3995640" y="4005360"/>
            <a:ext cx="1114560" cy="1152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1"/>
          <p:cNvSpPr/>
          <p:nvPr/>
        </p:nvSpPr>
        <p:spPr>
          <a:xfrm>
            <a:off x="900000" y="2492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тепл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2"/>
          <p:cNvSpPr/>
          <p:nvPr/>
        </p:nvSpPr>
        <p:spPr>
          <a:xfrm>
            <a:off x="133200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вода и возду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4067280" y="3500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в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7093080" y="2565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поч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6372360" y="47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пищ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фото флористика 008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684360" y="170028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Сухие сем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348000" y="234936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419640" y="170028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Семена, залитые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водой без доступа возду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6084720" y="1700280"/>
            <a:ext cx="22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Семена, смоченные водой и обеспечены воздух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50920" y="404640"/>
            <a:ext cx="8497800" cy="947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Необходимость  </a:t>
            </a: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воды  и  воздуха</a:t>
            </a: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  для прорастания семя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фото флористика 042"/>
          <p:cNvPicPr/>
          <p:nvPr/>
        </p:nvPicPr>
        <p:blipFill>
          <a:blip r:embed="rId1"/>
          <a:stretch/>
        </p:blipFill>
        <p:spPr>
          <a:xfrm>
            <a:off x="1692360" y="692280"/>
            <a:ext cx="5473440" cy="266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фото флористика 045"/>
          <p:cNvPicPr/>
          <p:nvPr/>
        </p:nvPicPr>
        <p:blipFill>
          <a:blip r:embed="rId2"/>
          <a:stretch/>
        </p:blipFill>
        <p:spPr>
          <a:xfrm>
            <a:off x="539640" y="3573360"/>
            <a:ext cx="226080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фото флористика 044"/>
          <p:cNvPicPr/>
          <p:nvPr/>
        </p:nvPicPr>
        <p:blipFill>
          <a:blip r:embed="rId3"/>
          <a:stretch/>
        </p:blipFill>
        <p:spPr>
          <a:xfrm>
            <a:off x="3348000" y="3573360"/>
            <a:ext cx="22557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фото флористика 043"/>
          <p:cNvPicPr/>
          <p:nvPr/>
        </p:nvPicPr>
        <p:blipFill>
          <a:blip r:embed="rId4"/>
          <a:stretch/>
        </p:blipFill>
        <p:spPr>
          <a:xfrm>
            <a:off x="6227640" y="3573360"/>
            <a:ext cx="2374920" cy="244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1"/>
          <p:cNvSpPr/>
          <p:nvPr/>
        </p:nvSpPr>
        <p:spPr>
          <a:xfrm>
            <a:off x="755640" y="115920"/>
            <a:ext cx="755964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Спустя  пять  дней после закладки опы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3419640" y="35002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Семена остались в прежнем состоян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9640" y="350028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Семена погибли без доступа воздух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227640" y="3573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Семена пророс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928800" y="642960"/>
            <a:ext cx="771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Цели урока: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Информационная: Что и чему будем учиться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Операционная: Как и каким образом будем учиться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Мотивационная: Зачем нам это надо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. Коммуникативная: С кем и где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фото флористика 003"/>
          <p:cNvPicPr/>
          <p:nvPr/>
        </p:nvPicPr>
        <p:blipFill>
          <a:blip r:embed="rId1"/>
          <a:stretch/>
        </p:blipFill>
        <p:spPr>
          <a:xfrm>
            <a:off x="395280" y="2276640"/>
            <a:ext cx="8352000" cy="4178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79280" y="404640"/>
            <a:ext cx="871380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Влияние </a:t>
            </a:r>
            <a:r>
              <a:rPr b="1" lang="ru-RU" sz="3200" spc="-1" strike="noStrike">
                <a:solidFill>
                  <a:srgbClr val="00cc00"/>
                </a:solidFill>
                <a:latin typeface="Monotype Corsiva"/>
              </a:rPr>
              <a:t>температурных условий                                      </a:t>
            </a: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на прорастание семя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971640" y="5373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которые будут помещены в тепло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364000" y="530064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которые будут помещены в прохладные усло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фото флористика 052"/>
          <p:cNvPicPr/>
          <p:nvPr/>
        </p:nvPicPr>
        <p:blipFill>
          <a:blip r:embed="rId1"/>
          <a:stretch/>
        </p:blipFill>
        <p:spPr>
          <a:xfrm>
            <a:off x="1042920" y="692280"/>
            <a:ext cx="7129440" cy="280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фото флористика 056"/>
          <p:cNvPicPr/>
          <p:nvPr/>
        </p:nvPicPr>
        <p:blipFill>
          <a:blip r:embed="rId2"/>
          <a:stretch/>
        </p:blipFill>
        <p:spPr>
          <a:xfrm>
            <a:off x="250920" y="4005360"/>
            <a:ext cx="4032000" cy="273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фото флористика 057"/>
          <p:cNvPicPr/>
          <p:nvPr/>
        </p:nvPicPr>
        <p:blipFill>
          <a:blip r:embed="rId3"/>
          <a:stretch/>
        </p:blipFill>
        <p:spPr>
          <a:xfrm>
            <a:off x="4788000" y="4005360"/>
            <a:ext cx="4176720" cy="26668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179280" y="3573360"/>
            <a:ext cx="4248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проращенные в тепл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716360" y="3573360"/>
            <a:ext cx="4427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начавшие прорастать в холод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Спустя пять дней после закладки опы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18440" cy="1422360"/>
          </a:xfrm>
          <a:prstGeom prst="rect">
            <a:avLst/>
          </a:prstGeom>
          <a:solidFill>
            <a:srgbClr val="ccccff"/>
          </a:solidFill>
          <a:ln w="936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Monotype Corsiva"/>
              </a:rPr>
              <a:t>Влияние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3300"/>
                </a:solidFill>
                <a:latin typeface="Monotype Corsiva"/>
              </a:rPr>
              <a:t>количества запасных питательных веществ</a:t>
            </a: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Monotype Corsiva"/>
              </a:rPr>
              <a:t>на прорастание  семян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2" name="Picture 5" descr="фото флористика 006"/>
          <p:cNvPicPr/>
          <p:nvPr/>
        </p:nvPicPr>
        <p:blipFill>
          <a:blip r:embed="rId1"/>
          <a:stretch/>
        </p:blipFill>
        <p:spPr>
          <a:xfrm>
            <a:off x="324000" y="1773360"/>
            <a:ext cx="4103640" cy="3224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фото флористика 007"/>
          <p:cNvPicPr/>
          <p:nvPr/>
        </p:nvPicPr>
        <p:blipFill>
          <a:blip r:embed="rId2"/>
          <a:stretch/>
        </p:blipFill>
        <p:spPr>
          <a:xfrm>
            <a:off x="4716360" y="3284640"/>
            <a:ext cx="4176720" cy="3278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324000" y="5229360"/>
            <a:ext cx="41036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олноценные семена с двумя семядо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4788000" y="2492280"/>
            <a:ext cx="40320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ена с удаленной одной семядо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фото флористика 046"/>
          <p:cNvPicPr/>
          <p:nvPr/>
        </p:nvPicPr>
        <p:blipFill>
          <a:blip r:embed="rId1"/>
          <a:stretch/>
        </p:blipFill>
        <p:spPr>
          <a:xfrm>
            <a:off x="250920" y="1341360"/>
            <a:ext cx="8713800" cy="4175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250920" y="620640"/>
            <a:ext cx="8569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пустя пять дней после закладки опы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50920" y="5877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24000" y="6021360"/>
            <a:ext cx="381636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ращенные семена с двумя семядо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219640" y="6021360"/>
            <a:ext cx="36734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ращенные семена с одной семядо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2195640" y="4941720"/>
            <a:ext cx="0" cy="10083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7020000" y="4941720"/>
            <a:ext cx="0" cy="9352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фото флористика 068"/>
          <p:cNvPicPr/>
          <p:nvPr/>
        </p:nvPicPr>
        <p:blipFill>
          <a:blip r:embed="rId1"/>
          <a:stretch/>
        </p:blipFill>
        <p:spPr>
          <a:xfrm>
            <a:off x="2700360" y="1052640"/>
            <a:ext cx="3743280" cy="561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1979640" y="404640"/>
            <a:ext cx="51847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Спустя восемь дней после закладки опы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659640" y="1844640"/>
            <a:ext cx="216036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роросток, появившийся из семени с двумя семядол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50920" y="3068640"/>
            <a:ext cx="208764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роросток, появившийся из семени с одной семядо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2484360" y="3213000"/>
            <a:ext cx="1079640" cy="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4716000" y="2205000"/>
            <a:ext cx="1800360" cy="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Влияние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глубины заделки семян</a:t>
            </a: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 на  прорастание</a:t>
            </a:r>
            <a:r>
              <a:rPr b="1" lang="ru-RU" sz="2800" spc="-1" strike="noStrike">
                <a:solidFill>
                  <a:srgbClr val="feec94"/>
                </a:solidFill>
                <a:latin typeface="Monotype Corsiva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0" name="Picture 5" descr="фото флористика 004"/>
          <p:cNvPicPr/>
          <p:nvPr/>
        </p:nvPicPr>
        <p:blipFill>
          <a:blip r:embed="rId1">
            <a:lum bright="-18000"/>
          </a:blip>
          <a:srcRect l="9718" t="5170" r="47805" b="12385"/>
          <a:stretch/>
        </p:blipFill>
        <p:spPr>
          <a:xfrm>
            <a:off x="4932360" y="1413000"/>
            <a:ext cx="2820960" cy="4105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фото флористика 004"/>
          <p:cNvPicPr/>
          <p:nvPr/>
        </p:nvPicPr>
        <p:blipFill>
          <a:blip r:embed="rId2">
            <a:lum bright="-18000"/>
          </a:blip>
          <a:srcRect l="50240" t="5166" r="7242" b="12386"/>
          <a:stretch/>
        </p:blipFill>
        <p:spPr>
          <a:xfrm>
            <a:off x="826920" y="1557360"/>
            <a:ext cx="2673360" cy="3887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4643280" y="5661000"/>
            <a:ext cx="34578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я тыквы, посаженное по правилам заделки семян на глубину до трех сантиметр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39640" y="5661000"/>
            <a:ext cx="35276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я тыквы, посаженное в почву глубже, чем требуют прави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фото флористика 065"/>
          <p:cNvPicPr/>
          <p:nvPr/>
        </p:nvPicPr>
        <p:blipFill>
          <a:blip r:embed="rId1"/>
          <a:stretch/>
        </p:blipFill>
        <p:spPr>
          <a:xfrm>
            <a:off x="250920" y="260280"/>
            <a:ext cx="3240000" cy="295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фото флористика 067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24000" y="3284640"/>
            <a:ext cx="3148200" cy="3382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фото флористика 071"/>
          <p:cNvPicPr/>
          <p:nvPr/>
        </p:nvPicPr>
        <p:blipFill>
          <a:blip r:embed="rId3"/>
          <a:stretch/>
        </p:blipFill>
        <p:spPr>
          <a:xfrm>
            <a:off x="5651640" y="3357720"/>
            <a:ext cx="1726920" cy="3313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3924360" y="1052640"/>
            <a:ext cx="4824360" cy="1326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Проростки тыквы, появившиеся посл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посадки ее семян в почв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на разную глубин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24000" y="2924280"/>
            <a:ext cx="3097080" cy="276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Спустя пять дней после закладки опы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79280" y="5877000"/>
            <a:ext cx="1835280" cy="459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Спустя семь дней после закладки опы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7451640" y="4365720"/>
            <a:ext cx="1584360" cy="641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Спустя десять дней после закладки опы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фото флористика 10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68360" y="1197000"/>
            <a:ext cx="3600360" cy="2903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фото флористика 103"/>
          <p:cNvPicPr/>
          <p:nvPr/>
        </p:nvPicPr>
        <p:blipFill>
          <a:blip r:embed="rId2"/>
          <a:stretch/>
        </p:blipFill>
        <p:spPr>
          <a:xfrm>
            <a:off x="5003640" y="2852640"/>
            <a:ext cx="3529080" cy="2884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468360" y="4221000"/>
            <a:ext cx="3598920" cy="642600"/>
          </a:xfrm>
          <a:prstGeom prst="rect">
            <a:avLst/>
          </a:prstGeom>
          <a:solidFill>
            <a:srgbClr val="b0c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емена овса, проращенные в темно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003640" y="2060640"/>
            <a:ext cx="3456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емена овса, проращенные на св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55640" y="476280"/>
            <a:ext cx="7704000" cy="459720"/>
          </a:xfrm>
          <a:prstGeom prst="rect">
            <a:avLst/>
          </a:prstGeom>
          <a:solidFill>
            <a:srgbClr val="b0c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лияние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вета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на прорастание семя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348000" y="404640"/>
            <a:ext cx="2448000" cy="13737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Условия прорастания семя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119480" y="344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492360" y="4724280"/>
            <a:ext cx="21607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Запасные питательные вещества, содержащиеся в сем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156360" y="3933720"/>
            <a:ext cx="24480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Температурные усло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5940360" y="2492280"/>
            <a:ext cx="2735280" cy="785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Вода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                   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возду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84360" y="3933720"/>
            <a:ext cx="244944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облюдение светового режи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84360" y="2421000"/>
            <a:ext cx="27367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Глубина заделки                в почв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 flipH="1">
            <a:off x="1979280" y="1844640"/>
            <a:ext cx="1297080" cy="504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5867280" y="1773360"/>
            <a:ext cx="1368720" cy="6476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3131640" y="1844640"/>
            <a:ext cx="1295640" cy="2089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4859280" y="1844640"/>
            <a:ext cx="1297080" cy="2089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4643280" y="1844640"/>
            <a:ext cx="0" cy="2808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595600" y="357120"/>
            <a:ext cx="39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ройство современного элевато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857160" y="1143000"/>
            <a:ext cx="7215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785880" y="571680"/>
            <a:ext cx="7929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Развивать понятия о значении зародыша семен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Вырабатывать умения по проведению наблюдений за опытами и объяснению результат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ерите правильные сужд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1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57160" y="1428840"/>
            <a:ext cx="73580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23880" y="1643040"/>
          <a:ext cx="6334200" cy="1096920"/>
        </p:xfrm>
        <a:graphic>
          <a:graphicData uri="http://schemas.openxmlformats.org/drawingml/2006/table">
            <a:tbl>
              <a:tblPr/>
              <a:tblGrid>
                <a:gridCol w="633600"/>
                <a:gridCol w="633240"/>
                <a:gridCol w="633600"/>
                <a:gridCol w="633240"/>
                <a:gridCol w="633600"/>
                <a:gridCol w="633240"/>
                <a:gridCol w="633600"/>
                <a:gridCol w="633240"/>
                <a:gridCol w="633600"/>
                <a:gridCol w="633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38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: параграф №38, задания в тетради с печатной основой № 139-14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 flipV="1" rot="10800000">
            <a:off x="714240" y="29592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 урок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разователь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ть и систематизировать знания об условиях прорастания семян, о необходимости определенной температуры, влажности, наличия воздуха, запасных питательных веществ, о глубине заделки семян в почву, световом режим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ить зависимость жизнедеятельности семян от условий среды, правила хранения семян, агротехнику посева семя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азвивающ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знания об условиях проращивания семян, общие биологические понятия, убеждения в естественном характере биологических явлений и материальной обусловленности 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знания техники эксперимента, умение наблюдать за процессом проращивания, фиксировать результаты, формулировать выв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умения пользоваться терминологией, работать с различными информационными источниками, проверять на практике верность теоретических зна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интеллектуальные умения: умение наблюдать, анализировать, сравнивать, устанавливать причинно-следственные связи, делать выв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оспитатель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ть чувство ответственности, аккуратность, точность, заинтересованное отношение к учебе, познавательный интерес к предмет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обои"/>
          <p:cNvPicPr/>
          <p:nvPr/>
        </p:nvPicPr>
        <p:blipFill>
          <a:blip r:embed="rId1"/>
          <a:stretch/>
        </p:blipFill>
        <p:spPr>
          <a:xfrm>
            <a:off x="0" y="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Еловые шишки 1280x1024 photowall_ru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54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Желтые кленовые листья осенью 800x600 photowall_ru"/>
          <p:cNvPicPr/>
          <p:nvPr/>
        </p:nvPicPr>
        <p:blipFill>
          <a:blip r:embed="rId3"/>
          <a:stretch/>
        </p:blipFill>
        <p:spPr>
          <a:xfrm>
            <a:off x="0" y="3537000"/>
            <a:ext cx="4716360" cy="332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Калина красная 800x600 photowall_ru"/>
          <p:cNvPicPr/>
          <p:nvPr/>
        </p:nvPicPr>
        <p:blipFill>
          <a:blip r:embed="rId4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30" name="Oval 11"/>
          <p:cNvSpPr/>
          <p:nvPr/>
        </p:nvSpPr>
        <p:spPr>
          <a:xfrm>
            <a:off x="3419640" y="3068640"/>
            <a:ext cx="2304720" cy="1368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708360" y="3284640"/>
            <a:ext cx="1727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Monotype Corsiva"/>
              </a:rPr>
              <a:t>Растения – основные поставщики кислорода для дыхания всех живых сущест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wllp_ru_flowers_12"/>
          <p:cNvPicPr/>
          <p:nvPr/>
        </p:nvPicPr>
        <p:blipFill>
          <a:blip r:embed="rId1"/>
          <a:stretch/>
        </p:blipFill>
        <p:spPr>
          <a:xfrm>
            <a:off x="2987640" y="2276640"/>
            <a:ext cx="3097080" cy="230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oboi_rastenia_10"/>
          <p:cNvPicPr/>
          <p:nvPr/>
        </p:nvPicPr>
        <p:blipFill>
          <a:blip r:embed="rId2"/>
          <a:stretch/>
        </p:blipFill>
        <p:spPr>
          <a:xfrm>
            <a:off x="5975280" y="448308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IMG_3411-web"/>
          <p:cNvPicPr/>
          <p:nvPr/>
        </p:nvPicPr>
        <p:blipFill>
          <a:blip r:embed="rId3"/>
          <a:stretch/>
        </p:blipFill>
        <p:spPr>
          <a:xfrm>
            <a:off x="2987640" y="4508640"/>
            <a:ext cx="3059280" cy="2349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ICT0028-web"/>
          <p:cNvPicPr/>
          <p:nvPr/>
        </p:nvPicPr>
        <p:blipFill>
          <a:blip r:embed="rId4"/>
          <a:stretch/>
        </p:blipFill>
        <p:spPr>
          <a:xfrm>
            <a:off x="6012000" y="2276640"/>
            <a:ext cx="31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tulips_paper-1024"/>
          <p:cNvPicPr/>
          <p:nvPr/>
        </p:nvPicPr>
        <p:blipFill>
          <a:blip r:embed="rId5"/>
          <a:stretch/>
        </p:blipFill>
        <p:spPr>
          <a:xfrm>
            <a:off x="0" y="4508640"/>
            <a:ext cx="2987640" cy="234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oboi_rastenia_8"/>
          <p:cNvPicPr/>
          <p:nvPr/>
        </p:nvPicPr>
        <p:blipFill>
          <a:blip r:embed="rId6"/>
          <a:stretch/>
        </p:blipFill>
        <p:spPr>
          <a:xfrm>
            <a:off x="0" y="0"/>
            <a:ext cx="3059280" cy="230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Кузнечик на розе 800x600 photowall_ru"/>
          <p:cNvPicPr/>
          <p:nvPr/>
        </p:nvPicPr>
        <p:blipFill>
          <a:blip r:embed="rId7"/>
          <a:stretch/>
        </p:blipFill>
        <p:spPr>
          <a:xfrm>
            <a:off x="6012000" y="0"/>
            <a:ext cx="3132000" cy="2293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oboi_rastenia_18"/>
          <p:cNvPicPr/>
          <p:nvPr/>
        </p:nvPicPr>
        <p:blipFill>
          <a:blip r:embed="rId8"/>
          <a:stretch/>
        </p:blipFill>
        <p:spPr>
          <a:xfrm>
            <a:off x="2987640" y="0"/>
            <a:ext cx="3059280" cy="227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1-web"/>
          <p:cNvPicPr/>
          <p:nvPr/>
        </p:nvPicPr>
        <p:blipFill>
          <a:blip r:embed="rId9"/>
          <a:stretch/>
        </p:blipFill>
        <p:spPr>
          <a:xfrm>
            <a:off x="0" y="2276640"/>
            <a:ext cx="2987640" cy="2232000"/>
          </a:xfrm>
          <a:prstGeom prst="rect">
            <a:avLst/>
          </a:prstGeom>
          <a:ln w="0">
            <a:noFill/>
          </a:ln>
        </p:spPr>
      </p:pic>
      <p:sp>
        <p:nvSpPr>
          <p:cNvPr id="141" name="Oval 13"/>
          <p:cNvSpPr/>
          <p:nvPr/>
        </p:nvSpPr>
        <p:spPr>
          <a:xfrm>
            <a:off x="3276720" y="2421000"/>
            <a:ext cx="2447640" cy="9367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635280" y="2565360"/>
            <a:ext cx="172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Monotype Corsiva"/>
              </a:rPr>
              <a:t>Растения вносят в нашу жизнь красоту и гармони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Вишня 800x600 photowall_ru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juniperus01"/>
          <p:cNvPicPr/>
          <p:nvPr/>
        </p:nvPicPr>
        <p:blipFill>
          <a:blip r:embed="rId2"/>
          <a:stretch/>
        </p:blipFill>
        <p:spPr>
          <a:xfrm>
            <a:off x="4381560" y="342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belyj01"/>
          <p:cNvPicPr/>
          <p:nvPr/>
        </p:nvPicPr>
        <p:blipFill>
          <a:blip r:embed="rId3"/>
          <a:stretch/>
        </p:blipFill>
        <p:spPr>
          <a:xfrm>
            <a:off x="0" y="3429000"/>
            <a:ext cx="4643280" cy="3571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Грибы древесные на пеньке 800x600 photowall_ru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7" name="Oval 9"/>
          <p:cNvSpPr/>
          <p:nvPr/>
        </p:nvSpPr>
        <p:spPr>
          <a:xfrm>
            <a:off x="2987640" y="2924280"/>
            <a:ext cx="252108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419640" y="2997360"/>
            <a:ext cx="1728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Monotype Corsiva"/>
              </a:rPr>
              <a:t>Растения – источники ценных питательных веществ, пища для гетеротроф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fruits-1024"/>
          <p:cNvPicPr/>
          <p:nvPr/>
        </p:nvPicPr>
        <p:blipFill>
          <a:blip r:embed="rId1"/>
          <a:stretch/>
        </p:blipFill>
        <p:spPr>
          <a:xfrm>
            <a:off x="0" y="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alina-super-1024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3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1-1024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98-1024"/>
          <p:cNvPicPr/>
          <p:nvPr/>
        </p:nvPicPr>
        <p:blipFill>
          <a:blip r:embed="rId4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3203640" y="2924280"/>
            <a:ext cx="2520720" cy="12967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564000" y="2997360"/>
            <a:ext cx="1728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Monotype Corsiva"/>
              </a:rPr>
              <a:t>Растения – источники ценных питательных веществ, пища для гетеротроф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1357200" y="428760"/>
            <a:ext cx="55008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Прорастание семян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Условия, необходимые для прорастания семян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6:27Z</dcterms:created>
  <dc:creator>Light</dc:creator>
  <dc:description/>
  <dc:language>en-US</dc:language>
  <cp:lastModifiedBy>1</cp:lastModifiedBy>
  <dcterms:modified xsi:type="dcterms:W3CDTF">2014-03-14T18:48:06Z</dcterms:modified>
  <cp:revision>54</cp:revision>
  <dc:subject/>
  <dc:title>Слайд 1</dc:title>
</cp:coreProperties>
</file>