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271-8374-4281-A69C-B8C1C7D0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6F4-DB0D-444B-8240-CD330866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CC8-7A10-4953-90E4-04853409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728-0D1D-4182-B716-7AE99A11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F36F-8C57-4037-BBF4-4DA9CC87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DF1B-1249-45DA-9565-A8E8D64C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2051-CCBF-4961-86F7-9124DB5A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09F2-E9E7-49B5-A5DB-3C71F7A3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BC22-8D06-485A-B9B1-959CE159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7E84-8A6F-40DB-9F7A-E9E5D2DB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4179-49F5-4B9D-9208-D9CEC67F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E31-B73D-46BD-B5F5-960AC485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0BA2-5E24-4E76-8418-F4D459CC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62F7-E6B4-4154-AA9C-FA40982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0A70-4577-4EBD-883C-A141C531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7943-3124-4B5F-A015-70204FE7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6443-6EAB-41B0-86E9-D4FB0CD6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B905-3A78-4873-B31B-A278E05B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115AE-8547-45A0-A00B-C55C765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A00E-0743-4F84-8EFD-80F4AD45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B0B5-1CDE-4F2E-9696-35F46E70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E620-249A-4AA4-AE44-0989E8B5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422-AE8A-4D78-A89F-2DE10CC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74E0-F7F6-4541-81D0-8565EB07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6148-03F4-4A26-AF62-F3CDDF8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4815-376F-47F2-9D88-1ECC5A7D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BCAA-E76B-463F-98E3-D5364C64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9969-66FA-4EAE-B756-1CEB8A73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32E8-65EB-49F2-BC9C-E14ED5D1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58D0-80DD-4282-8283-98B36F34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0000-EB4A-4E77-952E-CE7408BA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6205-950F-4ED7-B964-CDE6B77F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99D8D-AC5B-457D-8A2B-C4949CAA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6C9-9187-4A88-B20B-F1E1A090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7725-7660-4136-A08D-A035037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4A21-782F-4FCA-A0ED-0FE9832B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9B6E0-BAE0-432E-B01D-B2557986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C261-5D75-423D-8397-F4231575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0BC9C-3B34-4A1A-BDD1-37C4F03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6137-2E14-47CE-AE36-FEA554D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0380-5B3F-4CE4-8FDB-66C63E51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8A17E-8277-4410-9A20-E3354DB4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2ABA-6AED-4E30-9044-6129EC1C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810-F979-4D59-9328-ADBD0C3F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85D-91A5-48F8-8918-74074EB3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9FA-E7D1-491D-B84F-3135B82B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65B-942C-4EBA-A944-DCC7394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2F2-7481-4C3F-AFFC-AEC7C630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043A-F970-4F9E-9545-2794A0062BC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AE5D-A203-4A79-BA11-6A95D12E82D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DE7-16BF-4532-AC43-2E2837773CF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DC8A-C59E-4F9B-BDBA-E86ACBCFF90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87440" y="-55440"/>
            <a:ext cx="8454960" cy="3700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ект информационно-практико-образовательный, долгосрочный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ерспектив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дения совместного педсовета «Начальная школа» + Детский са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дения дня открытых дверей в детском саду и школе для родителей, школьников и воспитанников в детского са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родительских  собраний №Мама, через год мне в школу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ещение праздника «Прощание с букварем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аздник «Весенние задорники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2" descr="H:\петровна фото\SDC1338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гра «Ручеек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H:\петровна фото\P1020068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роки реализа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октября по апре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уководите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структор по физической культуре, педагог-психол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частни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структор по физической культуре, педагог-психолог, дети подготовительной к школе группы, учащиеся 1«А» класса, руководитель изостудии, учитель-логопед, воспитатели, классный руководитель 1«А» класса, родите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у детей подготовительной к школе группы положительного отношения к шко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Цель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ствовать развитию взаимопониманию, дружелюбия, доброжелательности между дошкольниками и первоклассник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чи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глублять интерес к школ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нять чувство тревоги и сомнения у дошкольников перед встречей со школой и уче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вать коммуникативные навыки, когнитивные функции (внимание, память, быстроту реакции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ывать любознательность и интерес  друг к другу , доставлять удовольствие и радость от общения и совместных иг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жидаемый результат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социально-психологической адаптации к школ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ание положительного отношения к шко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Этапы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ение методической и практической литерату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иагностика мотивации к школ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работка и апробация системы конспектов и практической рабо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готовление пособ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идение прогулок, экскурсий, развлечений, выстав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5T17:13:00Z</dcterms:created>
  <dc:creator>Vip</dc:creator>
  <dc:description/>
  <dc:language>en-US</dc:language>
  <cp:lastModifiedBy>Admin</cp:lastModifiedBy>
  <dcterms:modified xsi:type="dcterms:W3CDTF">2013-11-27T18:36:48Z</dcterms:modified>
  <cp:revision>13</cp:revision>
  <dc:subject/>
  <dc:title>Психолого-педагогический проект «Вместе весело шагать, и учиться, и играть!»</dc:title>
</cp:coreProperties>
</file>