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3F9-2AA7-4CD3-AE2D-EF53BE81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24D-3DB0-4D0F-BC8B-4E94DD44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295-C95C-476A-BDD3-0CED2D62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373-E546-4CAE-BC3D-1DD7B7B2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E616-2F1E-482F-B908-D0DE3AFB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8282-A592-46E3-857D-30607C28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3098-0EAE-4BF8-9800-077FBA7B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F027-34E9-4223-8BA7-F91ABA7A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7254-2A8E-42EB-B549-6EB76FD3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6CC6-92F4-43FC-8A74-C500980D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BF7E-D936-45AC-A1E0-69AFE60B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E4E-C1E7-458C-9BA3-C7AAECE9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7207-0085-4EF6-B18F-F4A390DE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65A2-5CEE-4B69-8460-9FEFBC69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D20E-1E7E-4814-989A-20B7069A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675B-9950-43EC-812F-6D037AF5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D340-A4C3-448D-9892-D5FB1541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78FF-10BD-4325-A4FA-CC231074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D850-D5A0-44E0-A9AF-8C2F36F5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25B2-0490-4A02-A9F6-BD29F14A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5922-DC08-49BC-A220-8B18319A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6BE54-EF00-4E20-8648-B9E11891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49B-B27B-4FC4-82A1-B691B60E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315DC-DB4D-473D-B454-35B60FFE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4B43-8C1C-48D5-B171-96FBA407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0AAD-5219-4144-B003-378A560B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C725-CA4E-4404-8E04-2663F559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7F99-B1B6-4C1C-A70B-AD272687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DC33-B3B6-4AB3-B733-C463C9C5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CCA4-B8CC-43CC-B922-C501D236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8DD36-641B-4492-8016-CC66FBDA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127F-DCCF-4AFD-BFF7-77D23010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DA436-C781-4CA5-8EEB-C234251B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7A0-9C57-40F3-8111-A2D34486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D3C9-6F93-491C-9551-A28684B1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B1D7B-DC01-4955-8BC6-C88E7F6A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50100-0B78-4332-8C15-D488AAA1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E870C-259B-479B-910B-AC1D04DA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0884-BA43-4B3B-8CC4-338A1806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E4315-21EA-4815-BC31-F5C8178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74D47-5A8B-4B5B-9B84-C37DC838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EEB18-CD6C-4A36-AE42-78900925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ED666-5DF2-4DCE-86A0-553D2BAB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E93B-8590-4967-8527-9936F950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1A1-661B-43AD-9A01-CF216C93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F57-5922-4F9D-9304-3E75D552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555-34A2-4844-8833-8E065FBE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798-F0CB-4C88-B465-E33F4300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8EE0-16D3-42B7-BD11-76EF6FC504D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3B1B-DDAE-4696-BF12-A3F1472C475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9CDD-2B1D-46DF-BC2B-FDC144B9018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C128-FEEC-4C16-AB31-8D8C8C7D77F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87440" y="-55440"/>
            <a:ext cx="8454960" cy="3700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ект информационно-практико-образовательный, долгосрочный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ерспектив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дения совместного педсовета «Начальная школа» + Детский са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дения дня открытых дверей в детском саду и школе для родителей, школьников и воспитанников в детского сад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родительских  собраний №Мама, через год мне в школу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ещение праздника «Прощание с букварем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аздник «Весенние задорники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2" descr="H:\петровна фото\SDC13384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гра «Ручеек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H:\петровна фото\P1020068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роки реализаци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октября по апрел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уководител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структор по физической культуре, педагог-психоло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частни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структор по физической культуре, педагог-психолог, дети подготовительной к школе группы, учащиеся 1«А» класса, руководитель изостудии, учитель-логопед, воспитатели, классный руководитель 1«А» класса, родите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ние у детей подготовительной к школе группы положительного отношения к шко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Цель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особствовать развитию взаимопониманию, дружелюбия, доброжелательности между дошкольниками и первоклассник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дачи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глублять интерес к школ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нять чувство тревоги и сомнения у дошкольников перед встречей со школой и уче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вать коммуникативные навыки, когнитивные функции (внимание, память, быстроту реакции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ывать любознательность и интерес  друг к другу , доставлять удовольствие и радость от общения и совместных иг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жидаемый результат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социально-психологической адаптации к школ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ание положительного отношения к шко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Этапы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учение методической и практической литератур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иагностика мотивации к школ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работка и апробация системы конспектов и практической работ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готовление пособ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идение прогулок, экскурсий, развлечений, выстав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тупление на педсовете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5T17:13:00Z</dcterms:created>
  <dc:creator>Vip</dc:creator>
  <dc:description/>
  <dc:language>en-US</dc:language>
  <cp:lastModifiedBy>Admin</cp:lastModifiedBy>
  <dcterms:modified xsi:type="dcterms:W3CDTF">2013-11-27T18:36:48Z</dcterms:modified>
  <cp:revision>13</cp:revision>
  <dc:subject/>
  <dc:title>Психолого-педагогический проект «Вместе весело шагать, и учиться, и играть!»</dc:title>
</cp:coreProperties>
</file>