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E97-2972-4DB1-A6AB-CA208EC1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B82-B286-4BFB-B8CC-97DEEA9C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909-5802-44C6-B7B2-D342217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E1B-F5FD-4208-84FA-F20FC009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69FE-CD1B-43ED-8ED3-94F62FF9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AB29-352E-421F-983C-B05955D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D42-32E2-4421-9964-4036354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5B5-3DD5-4657-AA47-A445464D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97F-3107-4CAB-B233-5A513E3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B91-2736-4E9C-9BC9-7124E15B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1F75-1938-43D6-8187-FE8751F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CDB-F4CA-4EA6-8D8D-F5B0A12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5B43-26D3-4A4F-8CDD-074535A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7D8-75AB-4197-9B88-DE3EDE0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60EE-D146-4903-B00F-D71A4B4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4D61-53A5-4EB7-9FDB-C1453EF6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38B-C476-45E5-B91F-5527A542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3DE7-683F-4951-8D80-DC1FD8FE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9A71-3F15-419F-858B-525C507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7297-4F4C-4F55-A09A-BF8AE5E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691E-D398-45F1-B8EA-98EB11C6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E01F-2E22-49D9-ABAE-B3C4EF5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F05-8C34-48D3-8759-0D008A1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ED9A-C096-412E-B401-29D081F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0908-4B99-4512-BE13-71A80A1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9A29-EAAC-417A-AF71-A02CE7B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1C95-0282-4137-8C12-71227491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3890-5A12-4CC7-A492-17C567D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E02C-6E28-4001-A7BE-A6F0E3C8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9879-6D3D-483C-BEE6-EB8CF3D5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2899-6974-4D8A-BB1D-C6D343AA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A245-0ED6-4C59-8568-6C53C12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6637-2CEF-479A-9E40-777A3A88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71-9E20-460F-B2E9-3B628AE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89AE-8BC5-4968-A88D-642BCD2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9B07-90F6-4ADF-9958-0BA43AD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7FB2D-615B-4B23-80B2-B800AFF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3182-4E75-4B33-9BC3-DF3ECD1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4AB7-5D93-4481-A5BE-D82C429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958B-BAA6-4445-A227-68AF680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9020-D223-4B6C-AF1A-BAC49AF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D3DF-AD4F-41D9-A1AB-DA54947E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5EFB-124A-4684-886A-FDA07A5C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B304-7F1B-4D33-B00A-AAB55841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C65-635B-41E5-AA5E-FFADE6AA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6CEC-0568-429E-A036-8B305FE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A1F1-327A-4C7E-9F00-709EAD2D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BBD66-9481-4879-A712-B2FA6B6E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C39E-8F55-495C-BB79-EF38451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0DEA-455D-4831-85F4-86E04086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99D7-F235-4CCC-B3D5-4059D3C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62CE-F37A-44BB-8980-216325C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6890-DC19-494F-889C-9F77D6A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CF0B-0A68-4BE4-9414-F0586CF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31ED-110E-43CA-8553-C853AADB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E82-05FC-4CC5-9077-79CAD122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7FD9-8EFD-4B91-B320-E9C3DD7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553-05F2-45C3-BEA5-828E99A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25C-E44D-4722-9C28-8B128571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3EE-2520-4D1E-BB5B-8E7F2DB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2BB-5709-4658-A95E-13387C79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160-23A2-4DD4-A9C2-30FE15D3E6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3221-AC2D-4939-86E4-C2E616F21A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2F2D-007F-4753-897D-43CE44D1A2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AF1-701C-4272-97E9-9F49173331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549360"/>
            <a:ext cx="9144000" cy="47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Старая сказка на новый лад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c8f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11280" y="363600"/>
                <a:ext cx="64087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теряла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бусинок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его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684360" y="2852640"/>
            <a:ext cx="7632360" cy="2447280"/>
            <a:chOff x="684360" y="2852640"/>
            <a:chExt cx="7632360" cy="2447280"/>
          </a:xfrm>
        </p:grpSpPr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684360" y="2852640"/>
                  <a:ext cx="6624360" cy="24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ч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20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Iч</m:t>
                          </m:r>
                          <m:r>
                            <m:t xml:space="preserve">?</m:t>
                          </m:r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15" name=""/>
            <p:cNvGrpSpPr/>
            <p:nvPr/>
          </p:nvGrpSpPr>
          <p:grpSpPr>
            <a:xfrm>
              <a:off x="6588000" y="3068280"/>
              <a:ext cx="1728720" cy="2231640"/>
              <a:chOff x="6588000" y="3068280"/>
              <a:chExt cx="1728720" cy="223164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8316720" y="3068280"/>
                <a:ext cx="0" cy="2231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588000" y="3068640"/>
                <a:ext cx="1728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ree"/>
          <p:cNvSpPr/>
          <p:nvPr/>
        </p:nvSpPr>
        <p:spPr>
          <a:xfrm>
            <a:off x="0" y="4869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ree"/>
          <p:cNvSpPr/>
          <p:nvPr/>
        </p:nvSpPr>
        <p:spPr>
          <a:xfrm>
            <a:off x="826920" y="1916280"/>
            <a:ext cx="181008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ree"/>
          <p:cNvSpPr/>
          <p:nvPr/>
        </p:nvSpPr>
        <p:spPr>
          <a:xfrm>
            <a:off x="7020000" y="450864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e3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en-US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a3a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84360" y="1125360"/>
            <a:ext cx="7704000" cy="532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тем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e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 красавца Ивана Царевича безумно влюбились 50 принцесс. 20 из них побежали топиться в пруду, но их вытащили спасатели и они влюбились в спасателей. 12 пошли в аптеку покупать яд. Но вместо яда им продали касторку, и они разочаровались в любви. 7 принцесс разлюбили Ивана Царевича и безумно влюбились в королевича другого царства. Остальные твердо решили выйти замуж за  Ивана Царевича, как только он  вернется  домой. Сколько принцесс мечтает и льёт горькие слезы по царевичу, который ушел на поиски своей невес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4896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/>
          <p:nvPr/>
        </p:nvSpPr>
        <p:spPr>
          <a:xfrm>
            <a:off x="7272360" y="5084640"/>
            <a:ext cx="1871640" cy="141948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166680 h 1419480"/>
              <a:gd name="textAreaBottom" fmla="*/ 890280 h 1419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e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95280" y="1484280"/>
                <a:ext cx="2521080" cy="53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1111E-006 C -0.20104 0.01713 -0.40208 0.03449 -0.48246 0.04143 E">
                                      <p:cBhvr>
                                        <p:cTn id="326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nt"/>
          <p:cNvSpPr/>
          <p:nvPr/>
        </p:nvSpPr>
        <p:spPr>
          <a:xfrm>
            <a:off x="3419640" y="189000"/>
            <a:ext cx="3024000" cy="2592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Правило сложения дроб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nt"/>
          <p:cNvSpPr/>
          <p:nvPr/>
        </p:nvSpPr>
        <p:spPr>
          <a:xfrm rot="1669200">
            <a:off x="3203280" y="2420640"/>
            <a:ext cx="324000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nt"/>
          <p:cNvSpPr/>
          <p:nvPr/>
        </p:nvSpPr>
        <p:spPr>
          <a:xfrm>
            <a:off x="5940360" y="333360"/>
            <a:ext cx="3203640" cy="2664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nt"/>
          <p:cNvSpPr/>
          <p:nvPr/>
        </p:nvSpPr>
        <p:spPr>
          <a:xfrm>
            <a:off x="0" y="0"/>
            <a:ext cx="316872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nt"/>
          <p:cNvSpPr/>
          <p:nvPr/>
        </p:nvSpPr>
        <p:spPr>
          <a:xfrm rot="19855800">
            <a:off x="4680" y="3276720"/>
            <a:ext cx="3328920" cy="3311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Переместительный закон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nt"/>
          <p:cNvSpPr/>
          <p:nvPr/>
        </p:nvSpPr>
        <p:spPr>
          <a:xfrm>
            <a:off x="4608360" y="4221000"/>
            <a:ext cx="4535640" cy="263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/6 от 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187280" y="40464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ошибку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24000" y="1700280"/>
                <a:ext cx="439236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435640" y="1413000"/>
                <a:ext cx="327492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9640" y="3500280"/>
                <a:ext cx="295272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219640" y="3460680"/>
                <a:ext cx="30974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1116000" y="0"/>
            <a:ext cx="7416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рел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484280"/>
            <a:ext cx="91440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Археологи далёкого будущ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когда - нибудь раскопают два окаменевших дневника с большим количеством окаменевших двое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В Колином дневнике они найдут 224 окаменевших двойки, а в Толином ¼ числа этих двоек. Сколько всего окаменевших двоек  найдут археологи в двух дневни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2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5364000" cy="6165720"/>
          </a:xfrm>
          <a:prstGeom prst="rect">
            <a:avLst/>
          </a:prstGeom>
          <a:gradFill rotWithShape="0">
            <a:gsLst>
              <a:gs pos="0">
                <a:srgbClr val="e5f1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Архимед это просил, а ему не дал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Бывает ….. з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Ставиться в кон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e5c"/>
                </a:solidFill>
                <a:latin typeface="Times New Roman"/>
              </a:rPr>
              <a:t>Бывает на  номере углового дом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e5c"/>
                </a:solidFill>
                <a:latin typeface="Times New Roman"/>
              </a:rPr>
              <a:t>Этим стреляют из ру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e5c"/>
                </a:solidFill>
                <a:latin typeface="Times New Roman"/>
              </a:rPr>
              <a:t>Её выстукивают на бараба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Обычно находится в центре го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Выражается квадратным чис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Длина на ширину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51640" y="1341360"/>
            <a:ext cx="3024000" cy="5112000"/>
          </a:xfrm>
          <a:prstGeom prst="rect">
            <a:avLst/>
          </a:prstGeom>
          <a:gradFill rotWithShape="0">
            <a:gsLst>
              <a:gs pos="0">
                <a:srgbClr val="e5fef1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Georgia"/>
              </a:rPr>
              <a:t>Т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3e5c"/>
                </a:solidFill>
                <a:latin typeface="Times New Roman"/>
              </a:rPr>
              <a:t>Дроб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Площа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 rot="473400">
            <a:off x="4284360" y="40464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6000"/>
              </a:gradFill>
              <a:latin typeface="Georgia"/>
              <a:ea typeface="Georgi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20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2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236000" y="549360"/>
            <a:ext cx="1295280" cy="10080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0000" y="2781360"/>
            <a:ext cx="1512720" cy="1297080"/>
          </a:xfrm>
          <a:custGeom>
            <a:avLst/>
            <a:gdLst>
              <a:gd name="textAreaLeft" fmla="*/ 355320 w 1512720"/>
              <a:gd name="textAreaRight" fmla="*/ 1156320 w 1512720"/>
              <a:gd name="textAreaTop" fmla="*/ 152280 h 1297080"/>
              <a:gd name="textAreaBottom" fmla="*/ 813600 h 1297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6000" y="5445000"/>
            <a:ext cx="1295280" cy="12258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4000 h 1225800"/>
              <a:gd name="textAreaBottom" fmla="*/ 768960 h 122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55640" y="2708280"/>
            <a:ext cx="4751280" cy="2219400"/>
            <a:chOff x="755640" y="2708280"/>
            <a:chExt cx="4751280" cy="2219400"/>
          </a:xfrm>
        </p:grpSpPr>
        <p:sp>
          <p:nvSpPr>
            <p:cNvPr id="366" name=""/>
            <p:cNvSpPr/>
            <p:nvPr/>
          </p:nvSpPr>
          <p:spPr>
            <a:xfrm>
              <a:off x="755640" y="2708280"/>
              <a:ext cx="4751280" cy="2219400"/>
            </a:xfrm>
            <a:prstGeom prst="rightArrow">
              <a:avLst>
                <a:gd name="adj1" fmla="val 50000"/>
                <a:gd name="adj2" fmla="val 5352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001520" y="3421800"/>
                  <a:ext cx="3563280" cy="90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z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z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8" name=""/>
          <p:cNvGrpSpPr/>
          <p:nvPr/>
        </p:nvGrpSpPr>
        <p:grpSpPr>
          <a:xfrm>
            <a:off x="2340000" y="260280"/>
            <a:ext cx="4319640" cy="2232000"/>
            <a:chOff x="2340000" y="260280"/>
            <a:chExt cx="4319640" cy="2232000"/>
          </a:xfrm>
        </p:grpSpPr>
        <p:sp>
          <p:nvSpPr>
            <p:cNvPr id="369" name=""/>
            <p:cNvSpPr/>
            <p:nvPr/>
          </p:nvSpPr>
          <p:spPr>
            <a:xfrm>
              <a:off x="2340000" y="260280"/>
              <a:ext cx="4319640" cy="2232000"/>
            </a:xfrm>
            <a:prstGeom prst="rightArrow">
              <a:avLst>
                <a:gd name="adj1" fmla="val 50000"/>
                <a:gd name="adj2" fmla="val 48383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d2d2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3111120" y="924120"/>
                  <a:ext cx="216000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"/>
          <p:cNvGrpSpPr/>
          <p:nvPr/>
        </p:nvGrpSpPr>
        <p:grpSpPr>
          <a:xfrm>
            <a:off x="1258920" y="4869000"/>
            <a:ext cx="4753080" cy="1989000"/>
            <a:chOff x="1258920" y="4869000"/>
            <a:chExt cx="4753080" cy="1989000"/>
          </a:xfrm>
        </p:grpSpPr>
        <p:sp>
          <p:nvSpPr>
            <p:cNvPr id="372" name=""/>
            <p:cNvSpPr/>
            <p:nvPr/>
          </p:nvSpPr>
          <p:spPr>
            <a:xfrm>
              <a:off x="1258920" y="4869000"/>
              <a:ext cx="4753080" cy="1989000"/>
            </a:xfrm>
            <a:prstGeom prst="rightArrow">
              <a:avLst>
                <a:gd name="adj1" fmla="val 50000"/>
                <a:gd name="adj2" fmla="val 59742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bcccfe"/>
                </a:gs>
                <a:gs pos="100000">
                  <a:srgbClr val="3366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734120" y="5294880"/>
                  <a:ext cx="2217960" cy="104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1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11280" y="1773360"/>
            <a:ext cx="460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ЬДОБ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ИЕЕУАВНР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АААДЧ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СИЛИЧЕЛЬ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НАНАМЗЕТЕЬ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ВОАКЙ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00720" y="1773360"/>
            <a:ext cx="432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ДРОБ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УРАВ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ДВОЙ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eecda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95280" y="2205000"/>
            <a:ext cx="856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Дробь, делитель, частное, плю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1,  2,  4, 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5, 10, 15,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9, 16, 25, 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Вася, Ваня, Витя, Та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5х,  77х,  56х,   44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e3e5c"/>
                </a:solidFill>
                <a:latin typeface="Times New Roman"/>
              </a:rPr>
              <a:t>½,   ¾,  4/9, 5</a:t>
            </a:r>
            <a:r>
              <a:rPr b="0" lang="en-US" sz="4000" spc="-1" strike="noStrike">
                <a:solidFill>
                  <a:srgbClr val="3e3e5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cc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1773360"/>
                <a:ext cx="22384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292720" y="1916280"/>
                <a:ext cx="22417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ь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788000" y="333360"/>
                <a:ext cx="2517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692360" y="333360"/>
                <a:ext cx="2544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1619280" y="3789360"/>
          <a:ext cx="6119640" cy="2365200"/>
        </p:xfrm>
        <a:graphic>
          <a:graphicData uri="http://schemas.openxmlformats.org/drawingml/2006/table">
            <a:tbl>
              <a:tblPr/>
              <a:tblGrid>
                <a:gridCol w="1225440"/>
                <a:gridCol w="1225800"/>
                <a:gridCol w="1652400"/>
                <a:gridCol w="2016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0,3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 txBox="1"/>
          <p:nvPr/>
        </p:nvSpPr>
        <p:spPr>
          <a:xfrm>
            <a:off x="4716360" y="5013360"/>
            <a:ext cx="71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4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03640" y="5084640"/>
            <a:ext cx="64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443640" y="5013360"/>
            <a:ext cx="64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835280" y="508464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371628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132000" y="3789360"/>
                <a:ext cx="650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908000" y="3789360"/>
                <a:ext cx="7066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e7e7ee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68360" y="0"/>
            <a:ext cx="8353440" cy="6408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f5f5d4"/>
              </a:gs>
              <a:gs pos="100000">
                <a:srgbClr val="cccc00"/>
              </a:gs>
            </a:gsLst>
            <a:lin ang="5400000"/>
          </a:gradFill>
          <a:ln w="2844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1480" y="121608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765000"/>
            <a:ext cx="62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силиса Премудрая и Кощей Бессмертный играли в ша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начала Василиса съела у Кощея 3 шашки, а он у неё 5. Потом Василиса съела у Кощея 6 шашек, а он у Василисы 2.  После следующего хода Василиса съела у Кощея Бессмертного 3 шашки, а сам Кощей съел саму Василису Премудрую. Можно ли считать, партию у Василисы Кощей Бессмер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игр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8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37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7" autoRev="1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1" fill="hold">
                                          <p:stCondLst>
                                            <p:cond delay="25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820"/>
                            </p:stCondLst>
                            <p:childTnLst>
                              <p:par>
                                <p:cTn id="6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6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37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7" autoRev="1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1" fill="hold">
                                          <p:stCondLst>
                                            <p:cond delay="25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4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37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7" autoRev="1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1" fill="hold">
                                          <p:stCondLst>
                                            <p:cond delay="25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e3e3ec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17640"/>
            <a:ext cx="9036000" cy="684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50000">
                <a:srgbClr val="e3d1e3"/>
              </a:gs>
              <a:gs pos="100000">
                <a:srgbClr val="660066"/>
              </a:gs>
            </a:gsLst>
            <a:lin ang="5400000"/>
          </a:gradFill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60200" y="604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16000" y="836640"/>
            <a:ext cx="669780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силисе Премудрой исполнило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8 лет. Кощей Бессмертный реш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зять её в жены. Василиса спросила сколько у Кощея сундуков с золо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щей Бессмертный ответил, что у него 27360 сундуков полных  золота, и каждый год прибавляется еще по 33 сундука. Василиса Премудрая  обещала выйти замуж за Кощ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огда, когда у него будет 30000  сундука полных золота. Сколько лет  будет невесте Кощея в день свадь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efefe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e2f0ba"/>
              </a:gs>
              <a:gs pos="100000">
                <a:srgbClr val="99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щей Бессмертный родил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123 году, а паспорт получ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только в 2007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колько лет прожи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щей Бессмертный без паспор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5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ef6f1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b2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441600" y="0"/>
            <a:ext cx="57024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179280" y="2205000"/>
            <a:ext cx="8640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Вот и сказки конец,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а кто слушал молодец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split dir="in" orient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9640" y="260280"/>
                <a:ext cx="374508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859280" y="333360"/>
                <a:ext cx="386712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50000">
              <a:srgbClr val="eddfd6"/>
            </a:gs>
            <a:gs pos="100000">
              <a:srgbClr val="d6b19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33336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летели стрелы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 разные стороны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203640" y="1197000"/>
                <a:ext cx="2266920" cy="545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у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735280" y="1125360"/>
                <a:ext cx="3448080" cy="547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7451640" y="1413000"/>
            <a:ext cx="1152720" cy="863640"/>
          </a:xfrm>
          <a:custGeom>
            <a:avLst/>
            <a:gdLst>
              <a:gd name="textAreaLeft" fmla="*/ 270720 w 1152720"/>
              <a:gd name="textAreaRight" fmla="*/ 881280 w 1152720"/>
              <a:gd name="textAreaTop" fmla="*/ 101520 h 863640"/>
              <a:gd name="textAreaBottom" fmla="*/ 541800 h 863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ef1f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89177E-006 C -0.25052 -0.00924 -0.50104 -0.0185 -0.62153 0.0451 C -0.74202 0.1087 -0.74618 0.28423 -0.72309 0.38137 C -0.7 0.4785 -0.58039 0.57748 -0.48299 0.6272 C -0.38559 0.67693 -0.19584 0.67161 -0.13837 0.68039 E">
                                      <p:cBhvr>
                                        <p:cTn id="64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1844640"/>
            <a:ext cx="1296720" cy="1008000"/>
          </a:xfrm>
          <a:custGeom>
            <a:avLst/>
            <a:gdLst>
              <a:gd name="textAreaLeft" fmla="*/ 304560 w 1296720"/>
              <a:gd name="textAreaRight" fmla="*/ 991080 w 129672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ed2d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09 -0.05804 C 0.2033 -0.07863 0.33368 -0.09898 0.46077 -0.09482 C 0.58785 -0.09065 0.7823 -0.14662 0.83612 -0.0333 C 0.88993 0.08002 0.90174 0.48243 0.78386 0.58557 C 0.66598 0.68872 0.23924 0.58604 0.12848 0.58557 C 0.01771 0.58488 0.06841 0.58303 0.11927 0.58141 E">
                                      <p:cBhvr>
                                        <p:cTn id="74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1c1d5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42920" y="404640"/>
            <a:ext cx="7201080" cy="15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стрела третьего царевича,</a:t>
            </a:r>
            <a:endParaRPr b="0" lang="en-US" sz="4400" spc="1" strike="noStrike">
              <a:ln w="19080">
                <a:solidFill>
                  <a:srgbClr val="33cc33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етела неведомо куда!</a:t>
            </a:r>
            <a:endParaRPr b="0" lang="en-US" sz="4400" spc="1" strike="noStrike">
              <a:ln w="19080">
                <a:solidFill>
                  <a:srgbClr val="33cc33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281320"/>
            <a:ext cx="889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Скорость стрелы, выпущенной из лука Ивана Царевича, 50 км/ч. Стрела долетел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до избушки Бабы – Яги  за 2 ча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выбила ей окно и вонзи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в стенку рядом со спящей кош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Скорость пешего Ивана Царевича 5 км/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За сколько часов Иван Царевич добер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до избушки, чтобы выслушать благодарность из уст  Бабы – Яг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6851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2633760" y="1708200"/>
            <a:ext cx="3878280" cy="4309920"/>
            <a:chOff x="2633760" y="1708200"/>
            <a:chExt cx="3878280" cy="4309920"/>
          </a:xfrm>
        </p:grpSpPr>
        <p:sp>
          <p:nvSpPr>
            <p:cNvPr id="386" name="_s184340"/>
            <p:cNvSpPr/>
            <p:nvPr/>
          </p:nvSpPr>
          <p:spPr>
            <a:xfrm flipH="1" flipV="1">
              <a:off x="3636720" y="3324240"/>
              <a:ext cx="469800" cy="2714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_s184339"/>
            <p:cNvSpPr/>
            <p:nvPr/>
          </p:nvSpPr>
          <p:spPr>
            <a:xfrm>
              <a:off x="2633760" y="2517840"/>
              <a:ext cx="1077840" cy="107784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_s184338"/>
            <p:cNvSpPr/>
            <p:nvPr/>
          </p:nvSpPr>
          <p:spPr>
            <a:xfrm flipH="1">
              <a:off x="3638160" y="4132440"/>
              <a:ext cx="469800" cy="2714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_s184337"/>
            <p:cNvSpPr/>
            <p:nvPr/>
          </p:nvSpPr>
          <p:spPr>
            <a:xfrm>
              <a:off x="2635200" y="4133880"/>
              <a:ext cx="1077840" cy="107784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184336"/>
            <p:cNvSpPr/>
            <p:nvPr/>
          </p:nvSpPr>
          <p:spPr>
            <a:xfrm>
              <a:off x="4573440" y="4398840"/>
              <a:ext cx="0" cy="5432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_s184335"/>
            <p:cNvSpPr/>
            <p:nvPr/>
          </p:nvSpPr>
          <p:spPr>
            <a:xfrm>
              <a:off x="4035600" y="4940280"/>
              <a:ext cx="1077840" cy="107784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_s184332"/>
            <p:cNvSpPr/>
            <p:nvPr/>
          </p:nvSpPr>
          <p:spPr>
            <a:xfrm>
              <a:off x="5037120" y="4130640"/>
              <a:ext cx="469800" cy="27000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_s184331"/>
            <p:cNvSpPr/>
            <p:nvPr/>
          </p:nvSpPr>
          <p:spPr>
            <a:xfrm>
              <a:off x="5433840" y="4132440"/>
              <a:ext cx="1078200" cy="107784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_s184330"/>
            <p:cNvSpPr/>
            <p:nvPr/>
          </p:nvSpPr>
          <p:spPr>
            <a:xfrm flipV="1">
              <a:off x="5037120" y="3322800"/>
              <a:ext cx="468360" cy="2714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184329"/>
            <p:cNvSpPr/>
            <p:nvPr/>
          </p:nvSpPr>
          <p:spPr>
            <a:xfrm>
              <a:off x="5433840" y="2516040"/>
              <a:ext cx="1078200" cy="107820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_s184328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184327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solidFill>
              <a:srgbClr val="990033"/>
            </a:soli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_s184326"/>
            <p:cNvSpPr/>
            <p:nvPr/>
          </p:nvSpPr>
          <p:spPr>
            <a:xfrm>
              <a:off x="4033800" y="3325680"/>
              <a:ext cx="1077840" cy="107820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50000">
              <a:srgbClr val="ffff66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920" y="476280"/>
                <a:ext cx="20001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-14400" y="2548080"/>
                <a:ext cx="190044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1920" y="4581360"/>
                <a:ext cx="18892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788000" y="620640"/>
                <a:ext cx="208908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932360" y="2349360"/>
                <a:ext cx="216072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580000" y="4653000"/>
                <a:ext cx="158436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979640" y="620640"/>
                <a:ext cx="789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8000" y="2492280"/>
                <a:ext cx="752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77080" y="907920"/>
                <a:ext cx="1008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093080" y="2421000"/>
                <a:ext cx="10699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7164360" y="4653000"/>
                <a:ext cx="473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79640" y="4581360"/>
                <a:ext cx="709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Игорь</cp:lastModifiedBy>
  <dcterms:modified xsi:type="dcterms:W3CDTF">2010-01-20T17:52:57Z</dcterms:modified>
  <cp:revision>45</cp:revision>
  <dc:subject/>
  <dc:title>Слайд 1</dc:title>
</cp:coreProperties>
</file>