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1C56-E05B-4D7C-8415-DC9B9EE4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83BF-83C6-4F94-B769-761ED62EE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EFB07-69BD-43DC-9B72-B7ACC9048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840DA-96AA-4349-B439-7FCC1BB12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D020-263D-4B1A-81C8-533B9845D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566E-827A-4BD3-8DBA-E40EF3151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0D19-D69D-45CA-9EA2-7CB048535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E033-F697-4390-A5C6-973C0359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F546-47B5-4E37-85D7-1C2A890B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E0EC-8A52-4296-92D8-DFA1BDBA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B8F5-0F98-4EF0-81CC-B4A438DD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106D-83FF-4A6A-B8D3-55592FB9A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EB86-887B-44A6-93DA-5B2DA6DB5C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276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нешняя политика СССР в годы перестройки. Распад СССР</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Болгария.</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1989 г. лидер НРБ Тодор Живков был смещен и заменен на Миланова. Но этого мало. В Болгарии также после митингов и демонстраций в феврале 1990 г. компартия отказывается от монополии на власть. В июне 1990 г. проходят свободные выбор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Румыния.</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989 г. – свержение режима Н. Чаушеску.</a:t>
            </a:r>
            <a:endParaRPr b="0" lang="en-US" sz="3200" spc="-1" strike="noStrike">
              <a:solidFill>
                <a:srgbClr val="000000"/>
              </a:solidFill>
              <a:latin typeface="Arial"/>
            </a:endParaRPr>
          </a:p>
        </p:txBody>
      </p:sp>
      <p:pic>
        <p:nvPicPr>
          <p:cNvPr id="68" name="Picture 2" descr="C:\Users\Степа\Desktop\Внешняя политика. Распад СССр\Отношения со странами соцлагеря\чаушеску.gif"/>
          <p:cNvPicPr/>
          <p:nvPr/>
        </p:nvPicPr>
        <p:blipFill>
          <a:blip r:embed="rId1"/>
          <a:stretch/>
        </p:blipFill>
        <p:spPr>
          <a:xfrm>
            <a:off x="3048120" y="2666880"/>
            <a:ext cx="4911480" cy="36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дикальные изменения в странах Восточной Европы стали одним из факторов окончания холодной войны. Разрыв традиционных экономических и политических связей Советского Союза со своими бывшими союзниками больно ударил по национальным интересам СССР в этом регионе. Выход СССР из Европы завершил весной 1991 г. официальный роспуск Совета Экономической Взаимопомощи и Организации Варшавского Догов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Окончание войны в Афганистане и вывод войск.</a:t>
            </a:r>
            <a:endParaRPr b="0" lang="en-US" sz="4400" spc="-1" strike="noStrike">
              <a:solidFill>
                <a:srgbClr val="000000"/>
              </a:solidFill>
              <a:latin typeface="Arial"/>
            </a:endParaRPr>
          </a:p>
        </p:txBody>
      </p:sp>
      <p:sp>
        <p:nvSpPr>
          <p:cNvPr id="72" name=""/>
          <p:cNvSpPr txBox="1"/>
          <p:nvPr/>
        </p:nvSpPr>
        <p:spPr>
          <a:xfrm>
            <a:off x="456840" y="1600200"/>
            <a:ext cx="4419720" cy="4525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87 г. в ходе переговоров М.С. Горбачева с Р. Рейганом была достигнута договоренность о прекращении американской военной помощи моджахедам в Афганистане и о выводе оттуда советских войск.</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5 февраля 1989 г. вывод войск завершился. В декабре 1989 г. II Съезд народных депутатов СССР принял решение об осуждении этой войны и признал грубой политической ошибкой участие в ней советских войск.  </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3 тыс. убитых и 37 тыс. раненых. </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2" descr="C:\Users\Степа\Desktop\Внешняя политика. Распад СССр\вывод.jpg"/>
          <p:cNvPicPr/>
          <p:nvPr/>
        </p:nvPicPr>
        <p:blipFill>
          <a:blip r:embed="rId1"/>
          <a:stretch/>
        </p:blipFill>
        <p:spPr>
          <a:xfrm>
            <a:off x="4572000" y="1981080"/>
            <a:ext cx="445788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оветско-китайские отношения.</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вод советских войск из Афганистана сделал возможным возобновление диалога между СССР и Китаем.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етско-китайское сближение было подкреплено визитом М.С. Горбачева в Пекин в мае 1989 г.</a:t>
            </a:r>
            <a:endParaRPr b="0" lang="en-US" sz="2400" spc="-1" strike="noStrike">
              <a:solidFill>
                <a:srgbClr val="000000"/>
              </a:solidFill>
              <a:latin typeface="Arial"/>
            </a:endParaRPr>
          </a:p>
        </p:txBody>
      </p:sp>
      <p:pic>
        <p:nvPicPr>
          <p:cNvPr id="76" name="Picture 2" descr="C:\Users\Степа\Desktop\Внешняя политика. Распад СССр\Отношения со странами соцлагеря\горбач и дэн сяопин.jpg"/>
          <p:cNvPicPr/>
          <p:nvPr/>
        </p:nvPicPr>
        <p:blipFill>
          <a:blip r:embed="rId1"/>
          <a:stretch/>
        </p:blipFill>
        <p:spPr>
          <a:xfrm>
            <a:off x="4592520" y="3586320"/>
            <a:ext cx="4267440" cy="300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Распад СССР</a:t>
            </a:r>
            <a:endParaRPr b="0" lang="en-US" sz="48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Причины распада.</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авторитарный характер советской власти, гонения на церковь, преследование КГБ диссидентов, господство одной идеологии, запрет на общение с заграницей, цензура и т.д.;</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кризис доверия к власти, растущее недовольство населения к качеству жизни, перебоями в снабжении продовольствием и т.д.;</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рост техногенных катастроф (авиакатастрофы, чернобыльская авария, крушение «Адмирала Нахимова», взрывы газа и др.) и сокрытие информации о них;</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неудачные попытки реформирования советской системы, приведшие к развалу экономики и политической системы;</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Афганская война, холодная война, непрекращающаяся финансовая помощь странам соцлагеря, развитие ВПК в ущерб другим сферам экономики;</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моноцентризм принятия решений (Москве);</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снижение мировых цен на нефть, инициированное американским правительств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Первый этап.</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1989 году впервые было официально объявлено о начале экономического кризиса - рост экономики сменяется падением;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период 1989—1991 гг. доходит до максимума главная проблема советской экономики — хронический товарный дефицит — из свободной продажи исчезают практически все основные товары, кроме хлеба. В регионах страны вводится нормированное снабжение в форме талонов;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с 1991 года впервые зафиксирован демографический кризис (превышение смертности над рождаемостью);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1989 году происходит массовое падение просоветских коммунистических режимов в Восточной Европ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Первый этап.</a:t>
            </a:r>
            <a:endParaRPr b="0" lang="en-US" sz="4400" spc="-1" strike="noStrike">
              <a:solidFill>
                <a:srgbClr val="000000"/>
              </a:solidFill>
              <a:latin typeface="Arial"/>
            </a:endParaRPr>
          </a:p>
        </p:txBody>
      </p:sp>
      <p:sp>
        <p:nvSpPr>
          <p:cNvPr id="84"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16 декабря 1986 года в Алма-Ате состоялась демонстрация протеста против русификации;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июне 1989 года вспыхивают межэтнические столкновения в Новом Узене (Казахстан);</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апреле 1989 г. массовые демонстрации в Тбилис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1988 г. начались военные действия между Арменией и Азербайджаном из-за Нагорного Карабах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конце мая 1989 года в Ферганской области Узбекской ССР обострились отношения между узбеками и турками-месхетинцами;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мае 1990 года в узбекском городе Андижан произошёл погром евреев и армян;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спустя месяц, на территории Киргизской ССР разразились киргизо-узбекские столкновения (ошская резня).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512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пад СССР. Первый этап.</a:t>
            </a:r>
            <a:endParaRPr b="0" lang="en-US" sz="28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2" descr="C:\Users\Степа\Desktop\Внешняя политика. Распад СССр\Отношения со странами соцлагеря\алматинское восстание.jpg"/>
          <p:cNvPicPr/>
          <p:nvPr/>
        </p:nvPicPr>
        <p:blipFill>
          <a:blip r:embed="rId1"/>
          <a:stretch/>
        </p:blipFill>
        <p:spPr>
          <a:xfrm>
            <a:off x="4832280" y="776160"/>
            <a:ext cx="4218120" cy="2895840"/>
          </a:xfrm>
          <a:prstGeom prst="rect">
            <a:avLst/>
          </a:prstGeom>
          <a:ln w="0">
            <a:noFill/>
          </a:ln>
        </p:spPr>
      </p:pic>
      <p:pic>
        <p:nvPicPr>
          <p:cNvPr id="88" name="Picture 4" descr="C:\Users\Степа\Desktop\Внешняя политика. Распад СССр\Отношения со странами соцлагеря\демонстрации в тбилиси.jpg"/>
          <p:cNvPicPr/>
          <p:nvPr/>
        </p:nvPicPr>
        <p:blipFill>
          <a:blip r:embed="rId2"/>
          <a:stretch/>
        </p:blipFill>
        <p:spPr>
          <a:xfrm>
            <a:off x="152280" y="762120"/>
            <a:ext cx="4427640" cy="2895480"/>
          </a:xfrm>
          <a:prstGeom prst="rect">
            <a:avLst/>
          </a:prstGeom>
          <a:ln w="0">
            <a:noFill/>
          </a:ln>
        </p:spPr>
      </p:pic>
      <p:pic>
        <p:nvPicPr>
          <p:cNvPr id="89" name="Picture 5" descr="C:\Users\Степа\Desktop\Внешняя политика. Распад СССр\Отношения со странами соцлагеря\фергана.jpg"/>
          <p:cNvPicPr/>
          <p:nvPr/>
        </p:nvPicPr>
        <p:blipFill>
          <a:blip r:embed="rId3"/>
          <a:stretch/>
        </p:blipFill>
        <p:spPr>
          <a:xfrm>
            <a:off x="4876920" y="3886200"/>
            <a:ext cx="4197240" cy="2687760"/>
          </a:xfrm>
          <a:prstGeom prst="rect">
            <a:avLst/>
          </a:prstGeom>
          <a:ln w="0">
            <a:noFill/>
          </a:ln>
        </p:spPr>
      </p:pic>
      <p:pic>
        <p:nvPicPr>
          <p:cNvPr id="90" name="Picture 6" descr="C:\Users\Степа\Desktop\Внешняя политика. Распад СССр\Отношения со странами соцлагеря\новый узен.gif"/>
          <p:cNvPicPr/>
          <p:nvPr/>
        </p:nvPicPr>
        <p:blipFill>
          <a:blip r:embed="rId4"/>
          <a:stretch/>
        </p:blipFill>
        <p:spPr>
          <a:xfrm>
            <a:off x="152280" y="4267080"/>
            <a:ext cx="442764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Основные приоритеты во внешней политике.</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смягчение напряженности между Востоком и Западом посредством переговоров с США о разоружени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урегулирование региональных конфликтов;</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признание существующего миропорядка и расширение экономических связей со всеми государств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Второй этап.</a:t>
            </a:r>
            <a:endParaRPr b="0" lang="en-US" sz="4400" spc="-1" strike="noStrike">
              <a:solidFill>
                <a:srgbClr val="000000"/>
              </a:solidFill>
              <a:latin typeface="Arial"/>
            </a:endParaRPr>
          </a:p>
        </p:txBody>
      </p:sp>
      <p:sp>
        <p:nvSpPr>
          <p:cNvPr id="92"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конца 80-х годов усилилось движение за выход их состава СССР в республиках Прибалтики.</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енью 1988г. на выборах в центральные и местные органы власти Эстонии, Латвии и Литвы одержали победу представители народных фронтов.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оябре 1988 г. Декларацию о государственном суверенитете утвердил Верховный Совет Эстонской ССР. Идентичные документы были приняты Литвой, Латвией, Азербайджанской ССР (1989 г.) и Молдавской ССР (1990 г.).</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кабрь 1990 гг. -  IV съезд народных депутатов СССР  высказался за сохранение СССР и его преобразование в демократическое федеративное государство.  Постановление «Об общей концепции союзного договора и порядке его заключения».</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оответствии с постановлением съезда был проведен всесоюзный референдум для решения вопроса о сохранении обновленного Союза как федерации суверенных республик (76,4% за сохранение).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апреле — мае 1991 г. в Ново-Огарево состоялись переговоры М. С. Горбачева с руководителями девяти союзных республик по вопросу о новом союзном договоре. Все участники переговоров поддержали идею создания обновленного Союза. Его проект предусматривал создание Союза Суверенных Государств (ССГ) как демократической федерации равноправных советских суверенных республик. Подписание договора было назначено на 20 августа 1991 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2" descr="C:\Users\Степа\Desktop\Внешняя политика. Распад СССр\о референдуме.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3" descr="C:\Users\Степа\Desktop\Внешняя политика. Распад СССр\x_25aa0306.jpg"/>
          <p:cNvPicPr/>
          <p:nvPr/>
        </p:nvPicPr>
        <p:blipFill>
          <a:blip r:embed="rId1"/>
          <a:stretch/>
        </p:blipFill>
        <p:spPr>
          <a:xfrm>
            <a:off x="3487680" y="208080"/>
            <a:ext cx="5562720" cy="4973400"/>
          </a:xfrm>
          <a:prstGeom prst="rect">
            <a:avLst/>
          </a:prstGeom>
          <a:ln w="0">
            <a:noFill/>
          </a:ln>
        </p:spPr>
      </p:pic>
      <p:pic>
        <p:nvPicPr>
          <p:cNvPr id="97" name="Picture 4" descr="C:\Users\Степа\Desktop\Внешняя политика. Распад СССр\x_bff7eaff.jpg"/>
          <p:cNvPicPr/>
          <p:nvPr/>
        </p:nvPicPr>
        <p:blipFill>
          <a:blip r:embed="rId2"/>
          <a:stretch/>
        </p:blipFill>
        <p:spPr>
          <a:xfrm>
            <a:off x="0" y="1743120"/>
            <a:ext cx="6653160" cy="46227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2" descr="C:\Users\Степа\Desktop\Внешняя политика. Распад СССр\x_8bc3f4c9.jpg"/>
          <p:cNvPicPr/>
          <p:nvPr/>
        </p:nvPicPr>
        <p:blipFill>
          <a:blip r:embed="rId1"/>
          <a:stretch/>
        </p:blipFill>
        <p:spPr>
          <a:xfrm>
            <a:off x="685800" y="160200"/>
            <a:ext cx="7848720" cy="3573720"/>
          </a:xfrm>
          <a:prstGeom prst="rect">
            <a:avLst/>
          </a:prstGeom>
          <a:ln w="0">
            <a:noFill/>
          </a:ln>
        </p:spPr>
      </p:pic>
      <p:pic>
        <p:nvPicPr>
          <p:cNvPr id="102" name="Picture 3" descr="C:\Users\Степа\Desktop\Внешняя политика. Распад СССр\x_d93fe561.jpg"/>
          <p:cNvPicPr/>
          <p:nvPr/>
        </p:nvPicPr>
        <p:blipFill>
          <a:blip r:embed="rId2"/>
          <a:stretch/>
        </p:blipFill>
        <p:spPr>
          <a:xfrm>
            <a:off x="762120" y="3733920"/>
            <a:ext cx="4717800" cy="29988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101"/>
                                        </p:tgtEl>
                                        <p:attrNameLst>
                                          <p:attrName>style.visibility</p:attrName>
                                        </p:attrNameLst>
                                      </p:cBhvr>
                                      <p:to>
                                        <p:strVal val="visible"/>
                                      </p:to>
                                    </p:set>
                                    <p:animEffect filter="fade" transition="in">
                                      <p:cBhvr additive="repl">
                                        <p:cTn id="15" dur="1000"/>
                                        <p:tgtEl>
                                          <p:spTgt spid="101"/>
                                        </p:tgtEl>
                                      </p:cBhvr>
                                    </p:animEffect>
                                    <p:anim calcmode="lin" valueType="num">
                                      <p:cBhvr additive="repl">
                                        <p:cTn id="16" dur="1000" fill="hold"/>
                                        <p:tgtEl>
                                          <p:spTgt spid="101"/>
                                        </p:tgtEl>
                                        <p:attrNameLst>
                                          <p:attrName>ppt_x</p:attrName>
                                        </p:attrNameLst>
                                      </p:cBhvr>
                                      <p:tavLst>
                                        <p:tav tm="0">
                                          <p:val>
                                            <p:strVal val="#ppt_x"/>
                                          </p:val>
                                        </p:tav>
                                        <p:tav tm="100000">
                                          <p:val>
                                            <p:strVal val="#ppt_x"/>
                                          </p:val>
                                        </p:tav>
                                      </p:tavLst>
                                    </p:anim>
                                    <p:anim calcmode="lin" valueType="num">
                                      <p:cBhvr additive="repl">
                                        <p:cTn id="17"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2"/>
                                        </p:tgtEl>
                                        <p:attrNameLst>
                                          <p:attrName>style.visibility</p:attrName>
                                        </p:attrNameLst>
                                      </p:cBhvr>
                                      <p:to>
                                        <p:strVal val="visible"/>
                                      </p:to>
                                    </p:set>
                                    <p:anim calcmode="lin" valueType="num">
                                      <p:cBhvr additive="base">
                                        <p:cTn id="22" dur="500" fill="hold"/>
                                        <p:tgtEl>
                                          <p:spTgt spid="102"/>
                                        </p:tgtEl>
                                        <p:attrNameLst>
                                          <p:attrName>ppt_x</p:attrName>
                                        </p:attrNameLst>
                                      </p:cBhvr>
                                      <p:tavLst>
                                        <p:tav tm="0">
                                          <p:val>
                                            <p:strVal val="#ppt_x"/>
                                          </p:val>
                                        </p:tav>
                                        <p:tav tm="100000">
                                          <p:val>
                                            <p:strVal val="#ppt_x"/>
                                          </p:val>
                                        </p:tav>
                                      </p:tavLst>
                                    </p:anim>
                                    <p:anim calcmode="lin" valueType="num">
                                      <p:cBhvr additive="base">
                                        <p:cTn id="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Третий этап.</a:t>
            </a:r>
            <a:endParaRPr b="0" lang="en-US" sz="4400" spc="-1" strike="noStrike">
              <a:solidFill>
                <a:srgbClr val="000000"/>
              </a:solidFill>
              <a:latin typeface="Arial"/>
            </a:endParaRPr>
          </a:p>
        </p:txBody>
      </p:sp>
      <p:sp>
        <p:nvSpPr>
          <p:cNvPr id="104" name=""/>
          <p:cNvSpPr txBox="1"/>
          <p:nvPr/>
        </p:nvSpPr>
        <p:spPr>
          <a:xfrm>
            <a:off x="457200" y="1219320"/>
            <a:ext cx="8229600" cy="53337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ночь на 19 августа президент СССР М. С. Горбачев был отстранен от власти. Создание ГКЧП.  В его состав вошли вице- президент Г. И. Янаев, премьер-министр В. С. Павлов, председатель КГБ В. А. Крючков, министр обороны Д. Т. Язов и другие представители властных структур.  Центром августовских событий стала Москва.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2 августа члены ГКЧП были арестованы.</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конце августа заявили о создании самостоятельных государств Украина, а затем и другие республики. В декабре 1991 г. в Беловежской пуще (БССР) состоялось совещание руководителей трех суверенных государств — России (Б. Н. Ельцин), Украины (Л. М. Кравчук) и Белоруссии (С. С. Шушкевич). 8 декабря они заявили о прекращении действия союзного договора 1922 г. и об окончании деятельности государственных структур бывшего Союза. Тогда же была достигнута договоренность о создании СНГ.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ССР перестал существовать.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5 декабря Президент СССР М. С. Горбачев объявил о прекращении своей деятельности на посту Президента СССР. </a:t>
            </a:r>
            <a:endParaRPr b="0" lang="en-US" sz="20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C:\Users\Степа\Desktop\Внешняя политика. Распад СССр\карикатура ГКЧП.jpg"/>
          <p:cNvPicPr/>
          <p:nvPr/>
        </p:nvPicPr>
        <p:blipFill>
          <a:blip r:embed="rId1"/>
          <a:stretch/>
        </p:blipFill>
        <p:spPr>
          <a:xfrm>
            <a:off x="-6192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9 августа. С 6 утра по телевидению показывают «Лебединое озеро»</a:t>
            </a:r>
            <a:endParaRPr b="0" lang="en-US" sz="2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Степа\Desktop\Внешняя политика. Распад СССр\августовский путч\19 августа. С 6 утра по телевидению показывают Лебединое озеро.jpg"/>
          <p:cNvPicPr/>
          <p:nvPr/>
        </p:nvPicPr>
        <p:blipFill>
          <a:blip r:embed="rId1"/>
          <a:stretch/>
        </p:blipFill>
        <p:spPr>
          <a:xfrm>
            <a:off x="609480" y="1371600"/>
            <a:ext cx="7966080" cy="526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Августовский путч»</a:t>
            </a:r>
            <a:endParaRPr b="0" lang="en-US" sz="36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2" descr="C:\Users\Степа\Desktop\Внешняя политика. Распад СССр\августовский путч\августовский путч 1.jpg"/>
          <p:cNvPicPr/>
          <p:nvPr/>
        </p:nvPicPr>
        <p:blipFill>
          <a:blip r:embed="rId1"/>
          <a:stretch/>
        </p:blipFill>
        <p:spPr>
          <a:xfrm>
            <a:off x="380880" y="1023840"/>
            <a:ext cx="8382240" cy="549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Ельцин зачитывает обращение к россиянам</a:t>
            </a:r>
            <a:endParaRPr b="0" lang="en-US" sz="36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2" descr="C:\Users\Степа\Desktop\Внешняя политика. Распад СССр\августовский путч\Борис Ельцин зачитывает обращение к гражданам России.jpg"/>
          <p:cNvPicPr/>
          <p:nvPr/>
        </p:nvPicPr>
        <p:blipFill>
          <a:blip r:embed="rId1"/>
          <a:stretch/>
        </p:blipFill>
        <p:spPr>
          <a:xfrm>
            <a:off x="1066680" y="1433520"/>
            <a:ext cx="7301160" cy="531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сквичи строят баррикады </a:t>
            </a:r>
            <a:endParaRPr b="0" lang="en-US" sz="28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Степа\Desktop\Внешняя политика. Распад СССр\августовский путч\Москвичи строят баррикады.jpg"/>
          <p:cNvPicPr/>
          <p:nvPr/>
        </p:nvPicPr>
        <p:blipFill>
          <a:blip r:embed="rId1"/>
          <a:stretch/>
        </p:blipFill>
        <p:spPr>
          <a:xfrm>
            <a:off x="457200" y="1066680"/>
            <a:ext cx="8209080" cy="545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Концепция нового политического мышления.</a:t>
            </a:r>
            <a:endParaRPr b="0" lang="en-US" sz="4400" spc="-1" strike="noStrike">
              <a:solidFill>
                <a:srgbClr val="000000"/>
              </a:solidFill>
              <a:latin typeface="Arial"/>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идеи о расколе современного мира на две противоположные общественно-политические системы;</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признание мира целостным и неделимым;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принципа пролетарского интернационализма и признание приоритета общечеловеческих ценностей над классовыми, национальными, идеологическими, религиозными и др.</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применения силы в качестве средства разрешения международных проблем;</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признание в качестве универсального способа решения международных вопросов не баланса сил двух систем, а баланса их интересов.</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2" descr="C:\Users\Степа\Desktop\Внешняя политика. Распад СССр\распад ссср карта примитивная.png"/>
          <p:cNvPicPr/>
          <p:nvPr/>
        </p:nvPicPr>
        <p:blipFill>
          <a:blip r:embed="rId1"/>
          <a:stretch/>
        </p:blipFill>
        <p:spPr>
          <a:xfrm>
            <a:off x="-12600" y="0"/>
            <a:ext cx="91566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слабление позиций СССР в странах Восточной Европы. Распад соцлагеря.</a:t>
            </a:r>
            <a:endParaRPr b="0" lang="en-US" sz="36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 1986-1989 гг. объем безвозмездной помощи зарубежным странам составлял почти 56 млрд. инвалютных рублей. 47% этой помощи приходилось на долю Кубы.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должается сотрудничество с ГДР и Румынией.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1989 г. начался вывод советских войск из стран Восточной и Центральной Европы.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екратилась активная политика СССР в отношении этих стран и, наоборот, усилилась и расширилась американская поддержка реформистских сил в Восточной Европе.</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слабление позиций СССР в странах Восточной Европы. Распад соцлагеря.</a:t>
            </a:r>
            <a:endParaRPr b="0" lang="en-US" sz="3600" spc="-1" strike="noStrike">
              <a:solidFill>
                <a:srgbClr val="000000"/>
              </a:solidFill>
              <a:latin typeface="Arial"/>
            </a:endParaRPr>
          </a:p>
        </p:txBody>
      </p:sp>
      <p:sp>
        <p:nvSpPr>
          <p:cNvPr id="50" name=""/>
          <p:cNvSpPr txBox="1"/>
          <p:nvPr/>
        </p:nvSpPr>
        <p:spPr>
          <a:xfrm>
            <a:off x="457200" y="2742840"/>
            <a:ext cx="8229600" cy="3382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1989-1990 гг. произошли бархатные революции в Польше, ГДР, Чехословакии, Венгрии, Болгарии, Албании. Был свергнут режим Чаушеску в Румын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40"/>
            <a:ext cx="82296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Польша.</a:t>
            </a:r>
            <a:endParaRPr b="0" lang="en-US" sz="4400" spc="-1" strike="noStrike">
              <a:solidFill>
                <a:srgbClr val="000000"/>
              </a:solidFill>
              <a:latin typeface="Arial"/>
            </a:endParaRPr>
          </a:p>
        </p:txBody>
      </p:sp>
      <p:sp>
        <p:nvSpPr>
          <p:cNvPr id="52" name=""/>
          <p:cNvSpPr txBox="1"/>
          <p:nvPr/>
        </p:nvSpPr>
        <p:spPr>
          <a:xfrm>
            <a:off x="0" y="1066680"/>
            <a:ext cx="4191120" cy="4983120"/>
          </a:xfrm>
          <a:prstGeom prst="rect">
            <a:avLst/>
          </a:prstGeom>
          <a:noFill/>
          <a:ln w="0">
            <a:noFill/>
          </a:ln>
        </p:spPr>
        <p:txBody>
          <a:bodyPr anchor="t">
            <a:normAutofit fontScale="96000"/>
          </a:bodyPr>
          <a:p>
            <a:pPr marL="329040" indent="-329040">
              <a:lnSpc>
                <a:spcPct val="10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В Польше нарастает сильнейшая оппозиция коммунистическому режиму. В 1989 г. проводится парламентская реформа. Происходит легализация оппозиционного профсоюза «Солидарность». Формируется первое некоммунистическое правительство. 23 декабря 1990 г. лидер «Солидарности» Лех Валенса становится президентом Польши.</a:t>
            </a:r>
            <a:endParaRPr b="0" lang="en-US" sz="2300" spc="-1" strike="noStrike">
              <a:solidFill>
                <a:srgbClr val="000000"/>
              </a:solidFill>
              <a:latin typeface="Arial"/>
            </a:endParaRPr>
          </a:p>
        </p:txBody>
      </p:sp>
      <p:pic>
        <p:nvPicPr>
          <p:cNvPr id="53" name="Picture 2" descr="C:\Users\Степа\Desktop\Внешняя политика. Распад СССр\Отношения со странами соцлагеря\Солидарность.польша.jpg"/>
          <p:cNvPicPr/>
          <p:nvPr/>
        </p:nvPicPr>
        <p:blipFill>
          <a:blip r:embed="rId1"/>
          <a:stretch/>
        </p:blipFill>
        <p:spPr>
          <a:xfrm>
            <a:off x="4038480" y="914400"/>
            <a:ext cx="4953240" cy="2171880"/>
          </a:xfrm>
          <a:prstGeom prst="rect">
            <a:avLst/>
          </a:prstGeom>
          <a:ln w="0">
            <a:noFill/>
          </a:ln>
        </p:spPr>
      </p:pic>
      <p:pic>
        <p:nvPicPr>
          <p:cNvPr id="54" name="Picture 3" descr="C:\Users\Степа\Desktop\Внешняя политика. Распад СССр\Отношения со странами соцлагеря\валенса.jpg"/>
          <p:cNvPicPr/>
          <p:nvPr/>
        </p:nvPicPr>
        <p:blipFill>
          <a:blip r:embed="rId2"/>
          <a:stretch/>
        </p:blipFill>
        <p:spPr>
          <a:xfrm>
            <a:off x="4479840" y="3121200"/>
            <a:ext cx="4070520" cy="373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Венгрия.</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Венгрии в 1988 г. смещен Генсек ВСРП Янош Кадар. Парламент принимает «демократический пакет» законов. В октябре 1989 г. парламентом были одобрены многопартийные выборы и прямые выборы президента. Страна переименована из ВНР в В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ГДР.</a:t>
            </a:r>
            <a:endParaRPr b="0" lang="en-US" sz="4400" spc="-1" strike="noStrike">
              <a:solidFill>
                <a:srgbClr val="000000"/>
              </a:solidFill>
              <a:latin typeface="Arial"/>
            </a:endParaRPr>
          </a:p>
        </p:txBody>
      </p:sp>
      <p:sp>
        <p:nvSpPr>
          <p:cNvPr id="58" name=""/>
          <p:cNvSpPr txBox="1"/>
          <p:nvPr/>
        </p:nvSpPr>
        <p:spPr>
          <a:xfrm>
            <a:off x="304560" y="1600200"/>
            <a:ext cx="838188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ГДР происходят постоянные демонстрации. Люди требовали гражданских свобод, разрушения границ между ГДР и ФРГ. В результате протестов в отставку уходит руководство СЕПГ (Хонекер и другие). 9 ноября 1989г. снос Берлинской стены. В 1990 г. произошло объединение Германии в форме включения ГДР в состав ФР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пад соцлагеря. Чехословакия.</a:t>
            </a:r>
            <a:endParaRPr b="0" lang="en-US" sz="2800" spc="-1" strike="noStrike">
              <a:solidFill>
                <a:srgbClr val="000000"/>
              </a:solidFill>
              <a:latin typeface="Arial"/>
            </a:endParaRPr>
          </a:p>
        </p:txBody>
      </p:sp>
      <p:sp>
        <p:nvSpPr>
          <p:cNvPr id="60" name=""/>
          <p:cNvSpPr txBox="1"/>
          <p:nvPr/>
        </p:nvSpPr>
        <p:spPr>
          <a:xfrm>
            <a:off x="5638680" y="914400"/>
            <a:ext cx="3353040" cy="452592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Чехословакии проходят массовые демонстрации, происходят столкновения студентов с полицией, происходят забастовки. В ноября 1989 г. компартия отказывается от монополии на власть. В декабре 1989 г. лидер коммунистов Густав Гусак принимает первое некоммунистическое правительство и уходит в отставку. Дубчек избран спикером парламента, а Вацлав Гавел стал президентом</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61" name="Picture 2" descr="C:\Users\Степа\Desktop\Внешняя политика. Распад СССр\Отношения со странами соцлагеря\бархатная революция в чехии.jpg"/>
          <p:cNvPicPr/>
          <p:nvPr/>
        </p:nvPicPr>
        <p:blipFill>
          <a:blip r:embed="rId1"/>
          <a:stretch/>
        </p:blipFill>
        <p:spPr>
          <a:xfrm>
            <a:off x="374760" y="685800"/>
            <a:ext cx="5257800" cy="3476520"/>
          </a:xfrm>
          <a:prstGeom prst="rect">
            <a:avLst/>
          </a:prstGeom>
          <a:ln w="0">
            <a:noFill/>
          </a:ln>
        </p:spPr>
      </p:pic>
      <p:pic>
        <p:nvPicPr>
          <p:cNvPr id="62" name="Picture 3" descr="C:\Users\Степа\Desktop\Внешняя политика. Распад СССр\Отношения со странами соцлагеря\Дубчек.jpg"/>
          <p:cNvPicPr/>
          <p:nvPr/>
        </p:nvPicPr>
        <p:blipFill>
          <a:blip r:embed="rId2"/>
          <a:stretch/>
        </p:blipFill>
        <p:spPr>
          <a:xfrm>
            <a:off x="374760" y="4303800"/>
            <a:ext cx="2209680" cy="2533680"/>
          </a:xfrm>
          <a:prstGeom prst="rect">
            <a:avLst/>
          </a:prstGeom>
          <a:ln w="0">
            <a:noFill/>
          </a:ln>
        </p:spPr>
      </p:pic>
      <p:pic>
        <p:nvPicPr>
          <p:cNvPr id="63" name="Picture 4" descr="C:\Users\Степа\Desktop\Внешняя политика. Распад СССр\Отношения со странами соцлагеря\Гавел.jpg"/>
          <p:cNvPicPr/>
          <p:nvPr/>
        </p:nvPicPr>
        <p:blipFill>
          <a:blip r:embed="rId3"/>
          <a:stretch/>
        </p:blipFill>
        <p:spPr>
          <a:xfrm>
            <a:off x="3562200" y="4303800"/>
            <a:ext cx="2041560" cy="25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2:26:42Z</dcterms:created>
  <dc:creator>Степа</dc:creator>
  <dc:description/>
  <dc:language>en-US</dc:language>
  <cp:lastModifiedBy>Степа</cp:lastModifiedBy>
  <dcterms:modified xsi:type="dcterms:W3CDTF">2017-09-10T13:39:18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