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29.jpeg" ContentType="image/jpeg"/>
  <Override PartName="/ppt/media/image35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4.jpeg" ContentType="image/jpeg"/>
  <Override PartName="/ppt/media/image11.jpeg" ContentType="image/jpeg"/>
  <Override PartName="/ppt/media/image8.png" ContentType="image/png"/>
  <Override PartName="/ppt/media/image38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22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1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6.png" ContentType="image/png"/>
  <Override PartName="/ppt/media/image6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E24-C83A-4744-B35E-70B70E56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8873-2914-4CD1-8396-82E7480E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8F33-BC4C-4B26-93B1-774A366F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895-D45C-4069-A62C-3413C211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6106-C3F2-4DE0-BD76-D163A9E8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79F5-C2FB-4A6A-835D-6CBA0304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5329-4E37-48A6-AE5D-00D7EAAE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19FA-9A70-489C-B9CB-D4B98325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97C0-3ED2-4350-AA8C-EAAC1CF9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4B36-DB77-421D-853C-0FDF8AB4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DD15-06F5-4405-BEE4-E6EEAC3B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2996-81D8-487A-89E6-756D68FE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1CE8-1DFA-4EFB-8258-317E01BA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CEEE-27A9-4925-952C-FEBACBBA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9875-E845-4E47-9FFE-EA1D4717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74F5-6869-44EA-9E6D-A014C4BC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7F15-6363-4DAD-A4E3-1883EC8F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83A67-8E98-4C8C-A2AF-A921E8E0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0A58D-6862-49F1-85ED-70296108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0C8D8-BA5C-4B68-A686-B8D58CD3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BD25E-0490-40E8-8E1B-4A42019B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952A2-7158-40E2-B2C9-0044FFDB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1EA1-EDE0-43FA-9845-27B6181B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72217-1DE1-4BEB-891B-70BE50DF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AB82F-5760-4B27-AC00-9C6BC816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812B3-AD67-4AF0-A790-2212AA56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D8424-C56F-463E-9377-C2366B4B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68812-8D15-4802-A29D-B91EA0DF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96A3F-3F30-45AB-95E2-113A2A34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8C05A-0C16-433A-B171-FFBA2D49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A33A7-105D-41FC-8FDC-6283FF68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6BE76-8475-45FE-9CBE-B1D49362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F0BD3-6E85-43DA-9B66-74E877E6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322-5466-4049-905D-2C7AE316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B23D0-B226-43BF-A140-0F9C4CC2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89422-0873-44A0-BF04-E138BB4E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C6B83-DDE6-4662-8212-2B22F2DB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02DD2-C131-4D23-995E-BD64A54F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C62A2-481A-42A8-962F-0F8514FC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F745F-A25F-47A7-B2AF-77F9E9DF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0C7D7-BDC4-46DF-9F46-486264C6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75F60-B5D6-4088-8771-D136AB76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52A98-2E1B-4498-9E23-AFD7F3A3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151-7908-45A1-AB71-C481DCFC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3338-0471-4189-8108-4D8BCC61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04C-6B3A-4DA3-9763-8DCA9F77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664-5B6E-4141-8412-9071F0FA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EED-3391-49EC-BE24-CDB99D3F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9E78-C194-4AD7-9FA6-AB2A201C62C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3338-B9AC-4C8F-9A5A-297339B81F8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FF99-A049-4A26-B70D-094489C519C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D48F-D5F3-423A-8126-D27D2AF6B94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7851960" cy="841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1643040"/>
            <a:ext cx="7854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АКТИВНАЯ ПОЗИЦИЯ РОДИТЕЛЕЙ В ОБРАЗОВАТЕЛЬНОМ ПРОЦЕССЕ ДОУ – ЗАЛОГ УСПЕШНОГО ФОРМИРОВАНИЯ ОТНОШЕНИЙ МЕЖДУ ДЕТЬМИ В КОЛЛЕКТИВЕ СВЕРСТНИК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ыполнила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оспитатель высшей квалификационной категори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узина Елена Владимировн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зержинск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2013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G:\фото разные 157.jpg"/>
          <p:cNvPicPr/>
          <p:nvPr/>
        </p:nvPicPr>
        <p:blipFill>
          <a:blip r:embed="rId2"/>
          <a:stretch/>
        </p:blipFill>
        <p:spPr>
          <a:xfrm>
            <a:off x="3348000" y="189000"/>
            <a:ext cx="3483000" cy="2612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G:\фото разные 159.jpg"/>
          <p:cNvPicPr/>
          <p:nvPr/>
        </p:nvPicPr>
        <p:blipFill>
          <a:blip r:embed="rId3"/>
          <a:stretch/>
        </p:blipFill>
        <p:spPr>
          <a:xfrm>
            <a:off x="324000" y="2060640"/>
            <a:ext cx="3483000" cy="2612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G:\фото разные 162.jpg"/>
          <p:cNvPicPr/>
          <p:nvPr/>
        </p:nvPicPr>
        <p:blipFill>
          <a:blip r:embed="rId4"/>
          <a:stretch/>
        </p:blipFill>
        <p:spPr>
          <a:xfrm>
            <a:off x="2411280" y="3860640"/>
            <a:ext cx="3484800" cy="2613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G:\фото разные 173.jpg"/>
          <p:cNvPicPr/>
          <p:nvPr/>
        </p:nvPicPr>
        <p:blipFill>
          <a:blip r:embed="rId5"/>
          <a:stretch/>
        </p:blipFill>
        <p:spPr>
          <a:xfrm>
            <a:off x="5364000" y="2060640"/>
            <a:ext cx="34830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G:\фото разные 114.jpg"/>
          <p:cNvPicPr/>
          <p:nvPr/>
        </p:nvPicPr>
        <p:blipFill>
          <a:blip r:embed="rId2"/>
          <a:stretch/>
        </p:blipFill>
        <p:spPr>
          <a:xfrm>
            <a:off x="900000" y="1144440"/>
            <a:ext cx="3527640" cy="264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G:\фото разные 115.jpg"/>
          <p:cNvPicPr/>
          <p:nvPr/>
        </p:nvPicPr>
        <p:blipFill>
          <a:blip r:embed="rId3"/>
          <a:stretch/>
        </p:blipFill>
        <p:spPr>
          <a:xfrm>
            <a:off x="4716360" y="1144440"/>
            <a:ext cx="3527640" cy="2646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G:\фото разные 116.jpg"/>
          <p:cNvPicPr/>
          <p:nvPr/>
        </p:nvPicPr>
        <p:blipFill>
          <a:blip r:embed="rId4"/>
          <a:stretch/>
        </p:blipFill>
        <p:spPr>
          <a:xfrm>
            <a:off x="2830680" y="3790800"/>
            <a:ext cx="3527280" cy="26463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0" y="47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ие родителей в конкур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Правильное пи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Заключительный этап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57120" y="1428480"/>
            <a:ext cx="413856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одведение итогов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награждение самы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активных родителей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азмещение и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фотографий на  сайт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ОУ, что даёт стиму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ругим родителя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активнее участвовать 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жизни группы, д/сад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Содержимое 4" descr="спортивныйпраздник 2013 031.jpg"/>
          <p:cNvPicPr/>
          <p:nvPr/>
        </p:nvPicPr>
        <p:blipFill>
          <a:blip r:embed="rId2"/>
          <a:stretch/>
        </p:blipFill>
        <p:spPr>
          <a:xfrm>
            <a:off x="4714920" y="1333440"/>
            <a:ext cx="2000160" cy="15001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43" name="Содержимое 4" descr="спортивныйпраздник 2013 031.jpg"/>
          <p:cNvPicPr/>
          <p:nvPr/>
        </p:nvPicPr>
        <p:blipFill>
          <a:blip r:embed="rId3"/>
          <a:stretch/>
        </p:blipFill>
        <p:spPr>
          <a:xfrm>
            <a:off x="6929280" y="1714680"/>
            <a:ext cx="2000520" cy="150012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44" name="Содержимое 4" descr="спортивныйпраздник 2013 031.jpg"/>
          <p:cNvPicPr/>
          <p:nvPr/>
        </p:nvPicPr>
        <p:blipFill>
          <a:blip r:embed="rId4"/>
          <a:stretch/>
        </p:blipFill>
        <p:spPr>
          <a:xfrm>
            <a:off x="4786200" y="3071880"/>
            <a:ext cx="2000520" cy="150012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45" name="Содержимое 4" descr="спортивныйпраздник 2013 031.jpg"/>
          <p:cNvPicPr/>
          <p:nvPr/>
        </p:nvPicPr>
        <p:blipFill>
          <a:blip r:embed="rId5"/>
          <a:stretch/>
        </p:blipFill>
        <p:spPr>
          <a:xfrm>
            <a:off x="7180200" y="3537000"/>
            <a:ext cx="1500120" cy="200016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46" name="Содержимое 4" descr="спортивныйпраздник 2013 031.jpg"/>
          <p:cNvPicPr/>
          <p:nvPr/>
        </p:nvPicPr>
        <p:blipFill>
          <a:blip r:embed="rId6"/>
          <a:stretch/>
        </p:blipFill>
        <p:spPr>
          <a:xfrm>
            <a:off x="5143680" y="4714920"/>
            <a:ext cx="1500120" cy="20001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alibri"/>
              </a:rPr>
              <a:t>Анкетировани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6760" y="1428840"/>
            <a:ext cx="3071880" cy="48196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onstantia"/>
              </a:rPr>
              <a:t>На  заключительном этапе было проведено повторное анкетирование родителей по тем же направлениям. Из диаграммы видно, что процент заинтересованности и желания участвовать в жизни группы у родителей значительно вырос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onstantia"/>
              </a:rPr>
              <a:t>В перспективе планируется создать ряд портфолио, а именно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onstantia"/>
              </a:rPr>
              <a:t>-портфолио ребёнк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onstantia"/>
              </a:rPr>
              <a:t>-портфолио семь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onstantia"/>
              </a:rPr>
              <a:t>- портфолио группы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Содержимое 4" descr=""/>
          <p:cNvPicPr/>
          <p:nvPr/>
        </p:nvPicPr>
        <p:blipFill>
          <a:blip r:embed="rId2"/>
          <a:stretch/>
        </p:blipFill>
        <p:spPr>
          <a:xfrm>
            <a:off x="3575160" y="1432080"/>
            <a:ext cx="5111640" cy="46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Вывод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На протяжение года формировался не только коллектив взрослых, но и в детском коллективе происходили изменения. Дети стали более дружными, бережно относятся к тому, что смастерили вместе с родителями, испытывают гордость за них. Поэтому группа раннего возраста - это визитная карточка ДО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Рисунок 3" descr="IMG_0738.jpg"/>
          <p:cNvPicPr/>
          <p:nvPr/>
        </p:nvPicPr>
        <p:blipFill>
          <a:blip r:embed="rId2"/>
          <a:stretch/>
        </p:blipFill>
        <p:spPr>
          <a:xfrm>
            <a:off x="901800" y="3895560"/>
            <a:ext cx="3670200" cy="291960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4" descr="IMG_0738.jpg"/>
          <p:cNvPicPr/>
          <p:nvPr/>
        </p:nvPicPr>
        <p:blipFill>
          <a:blip r:embed="rId3"/>
          <a:stretch/>
        </p:blipFill>
        <p:spPr>
          <a:xfrm>
            <a:off x="4548240" y="3895560"/>
            <a:ext cx="3668760" cy="29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2"/>
          <a:stretch/>
        </p:blipFill>
        <p:spPr>
          <a:xfrm>
            <a:off x="500040" y="500040"/>
            <a:ext cx="7772400" cy="40654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30280" y="385776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alibri"/>
              </a:rPr>
              <a:t>Актуальность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2920" y="1285560"/>
            <a:ext cx="3286080" cy="496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onstantia"/>
              </a:rPr>
              <a:t>Актуальность проблемы заключается в том, что оттого, как сложатся взаимоотношения между родителями группы,  зависит и формирование отношений в детском коллективе группы. Не стоит забывать, что ребёнок подражает действиям взрослого ("Как папа...", "Как мама..."). Это в раннем возрасте количество мероприятий, где могут участвовать родители, ограничено, а в дошкольном – это и организация экскурсий, и мини-походы, и посещение детских представлений. Значит уже в группах раннего возраста нужно заложить этот крепкий фундамент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Содержимое 4" descr="IMG_0752.jpg"/>
          <p:cNvPicPr/>
          <p:nvPr/>
        </p:nvPicPr>
        <p:blipFill>
          <a:blip r:embed="rId2"/>
          <a:stretch/>
        </p:blipFill>
        <p:spPr>
          <a:xfrm>
            <a:off x="4552920" y="1371600"/>
            <a:ext cx="387180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Два блока работы с родителя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357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Constantia"/>
              </a:rPr>
              <a:t>педагогическое просвещение родителей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традиционные формы общения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педагога с родителями: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onstantia"/>
              </a:rPr>
              <a:t>коллективные </a:t>
            </a: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(круглый стол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родительские собрания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конференции и т.д.)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onstantia"/>
              </a:rPr>
              <a:t>индивидуальные</a:t>
            </a: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 (беседы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консультации…)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onstantia"/>
              </a:rPr>
              <a:t>наглядно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onstantia"/>
              </a:rPr>
              <a:t>информационные(</a:t>
            </a: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 род. уголок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информационные стенды о жизни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д/сада, группы)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48320" y="1357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onstantia"/>
              </a:rPr>
              <a:t>включение родителей в деятельность ДОУ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нетрадиционные формы общения педагога с родителями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</a:rPr>
              <a:t>информационно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</a:rPr>
              <a:t>аналитические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(анкеты, опросы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срезы…)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</a:rPr>
              <a:t>познавательные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(консультации специалистов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семинары-практикумы…)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</a:rPr>
              <a:t>наглядно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</a:rPr>
              <a:t>информационные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</a:rPr>
              <a:t>информационно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</a:rPr>
              <a:t>ознакомительные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</a:rPr>
              <a:t>информационно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</a:rPr>
              <a:t>просветительские 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(выпуск газет, день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открытых дверей, просмотр занятий…)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</a:rPr>
              <a:t>досуговые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( конкурсы, выставки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совмест. мероприятия…)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Рисунок 4" descr="IMG_0741.jpg"/>
          <p:cNvPicPr/>
          <p:nvPr/>
        </p:nvPicPr>
        <p:blipFill>
          <a:blip r:embed="rId2"/>
          <a:stretch/>
        </p:blipFill>
        <p:spPr>
          <a:xfrm>
            <a:off x="927000" y="4638600"/>
            <a:ext cx="2578320" cy="20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Цел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785680"/>
            <a:ext cx="82296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Задач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Горизонтальный свиток 3"/>
          <p:cNvSpPr/>
          <p:nvPr/>
        </p:nvSpPr>
        <p:spPr>
          <a:xfrm>
            <a:off x="1143000" y="1214280"/>
            <a:ext cx="6786720" cy="1643400"/>
          </a:xfrm>
          <a:prstGeom prst="horizontalScroll">
            <a:avLst>
              <a:gd name="adj" fmla="val 12500"/>
            </a:avLst>
          </a:prstGeom>
          <a:solidFill>
            <a:srgbClr val="91c6f7"/>
          </a:solidFill>
          <a:ln w="25560">
            <a:solidFill>
              <a:srgbClr val="20c9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Побуждать родителей участвовать  в различных выставках, конкурсах, фестивалях разного уровня, через взаимное сотрудничество и сотвор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Схема 4" descr=""/>
          <p:cNvPicPr/>
          <p:nvPr/>
        </p:nvPicPr>
        <p:blipFill>
          <a:blip r:embed="rId2"/>
          <a:stretch/>
        </p:blipFill>
        <p:spPr>
          <a:xfrm>
            <a:off x="1487520" y="3359160"/>
            <a:ext cx="664524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1 этап работы</a:t>
            </a:r>
            <a:br>
              <a:rPr sz="4500"/>
            </a:b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Анкетирование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9" name="Содержимое 4"/>
          <p:cNvGraphicFramePr/>
          <p:nvPr/>
        </p:nvGraphicFramePr>
        <p:xfrm>
          <a:off x="285840" y="1500120"/>
          <a:ext cx="5357880" cy="4853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0" name="Содержимое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1500120"/>
                    <a:ext cx="535788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 txBox="1"/>
          <p:nvPr/>
        </p:nvSpPr>
        <p:spPr>
          <a:xfrm>
            <a:off x="6072120" y="928800"/>
            <a:ext cx="292896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Исследовались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увлечения или хобб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родителей, наличи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определённых умен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и возможностей, и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отношение 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конкурсам, выставкам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Познакомит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родителей с перечне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Проводимы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мероприятий в стена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ДОУ и за ег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пределами; такж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обращаю внимани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родителей на стенд с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грамотами 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дипломами прежних лет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Основной этап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13840" y="1357200"/>
            <a:ext cx="4281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Работа строилась на взаимодействие с теми родителями, кто желает участвовать в жизни группы, поддерживает педагога, даже если таких родителей меньшинство. Постепенно, тактично вовлекались  и остальные родители в сотрудничество. С менее активными родителями велась индивидуальная работа. Как показала практика, активность родителей в желании принять участие в конкурсах, выставках к концу года возрастает, растёт авторитет родителей. Родители, становятся более общительнее между собой, предлагают совместные идеи, привлекают дете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Содержимое 4" descr="постройки 2013 002.jpg"/>
          <p:cNvPicPr/>
          <p:nvPr/>
        </p:nvPicPr>
        <p:blipFill>
          <a:blip r:embed="rId2"/>
          <a:stretch/>
        </p:blipFill>
        <p:spPr>
          <a:xfrm>
            <a:off x="4024440" y="1773360"/>
            <a:ext cx="2398680" cy="179856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15" name="Содержимое 4" descr="постройки 2013 002.jpg"/>
          <p:cNvPicPr/>
          <p:nvPr/>
        </p:nvPicPr>
        <p:blipFill>
          <a:blip r:embed="rId3"/>
          <a:stretch/>
        </p:blipFill>
        <p:spPr>
          <a:xfrm>
            <a:off x="5195880" y="4076640"/>
            <a:ext cx="2398680" cy="179856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16" name="Picture 8" descr="G:\ледяная сказка 2012 001.jpg"/>
          <p:cNvPicPr/>
          <p:nvPr/>
        </p:nvPicPr>
        <p:blipFill>
          <a:blip r:embed="rId4"/>
          <a:stretch/>
        </p:blipFill>
        <p:spPr>
          <a:xfrm>
            <a:off x="6732720" y="1125360"/>
            <a:ext cx="2068560" cy="27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G:\35лет дет.саду 2011год 030.jpg"/>
          <p:cNvPicPr/>
          <p:nvPr/>
        </p:nvPicPr>
        <p:blipFill>
          <a:blip r:embed="rId2"/>
          <a:stretch/>
        </p:blipFill>
        <p:spPr>
          <a:xfrm>
            <a:off x="539640" y="476280"/>
            <a:ext cx="3988080" cy="2990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G:\35лет дет.саду 2011год 034.jpg"/>
          <p:cNvPicPr/>
          <p:nvPr/>
        </p:nvPicPr>
        <p:blipFill>
          <a:blip r:embed="rId3"/>
          <a:stretch/>
        </p:blipFill>
        <p:spPr>
          <a:xfrm>
            <a:off x="4211640" y="1628640"/>
            <a:ext cx="4221000" cy="3165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G:\35лет дет.саду 2011год 032.jpg"/>
          <p:cNvPicPr/>
          <p:nvPr/>
        </p:nvPicPr>
        <p:blipFill>
          <a:blip r:embed="rId4"/>
          <a:stretch/>
        </p:blipFill>
        <p:spPr>
          <a:xfrm>
            <a:off x="1403280" y="3557520"/>
            <a:ext cx="4087800" cy="30654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4643280" y="268200"/>
            <a:ext cx="43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ие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онцерте к юбиле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д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G:\креативная ёлка 2011 009.jpg"/>
          <p:cNvPicPr/>
          <p:nvPr/>
        </p:nvPicPr>
        <p:blipFill>
          <a:blip r:embed="rId2"/>
          <a:stretch/>
        </p:blipFill>
        <p:spPr>
          <a:xfrm>
            <a:off x="3780000" y="2744640"/>
            <a:ext cx="5111640" cy="3834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G:\Деньзащиты детей2011 009.jpg"/>
          <p:cNvPicPr/>
          <p:nvPr/>
        </p:nvPicPr>
        <p:blipFill>
          <a:blip r:embed="rId3"/>
          <a:stretch/>
        </p:blipFill>
        <p:spPr>
          <a:xfrm>
            <a:off x="179280" y="189000"/>
            <a:ext cx="4896000" cy="3671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5"/>
          <p:cNvSpPr/>
          <p:nvPr/>
        </p:nvSpPr>
        <p:spPr>
          <a:xfrm>
            <a:off x="5265360" y="692280"/>
            <a:ext cx="3626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ие родите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онкурсе плака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Берегите ле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16200" y="4662360"/>
            <a:ext cx="373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ие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городском конкур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уш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G:\постройки 2013 002.jpg"/>
          <p:cNvPicPr/>
          <p:nvPr/>
        </p:nvPicPr>
        <p:blipFill>
          <a:blip r:embed="rId2"/>
          <a:stretch/>
        </p:blipFill>
        <p:spPr>
          <a:xfrm>
            <a:off x="2987640" y="260280"/>
            <a:ext cx="3330720" cy="2498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G:\постройки 2013 006.jpg"/>
          <p:cNvPicPr/>
          <p:nvPr/>
        </p:nvPicPr>
        <p:blipFill>
          <a:blip r:embed="rId3"/>
          <a:stretch/>
        </p:blipFill>
        <p:spPr>
          <a:xfrm>
            <a:off x="2987640" y="4005360"/>
            <a:ext cx="3330720" cy="2498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G:\постройки 2013 004.jpg"/>
          <p:cNvPicPr/>
          <p:nvPr/>
        </p:nvPicPr>
        <p:blipFill>
          <a:blip r:embed="rId4"/>
          <a:stretch/>
        </p:blipFill>
        <p:spPr>
          <a:xfrm>
            <a:off x="324000" y="2205000"/>
            <a:ext cx="3330360" cy="2498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G:\постройки 2013 012.jpg"/>
          <p:cNvPicPr/>
          <p:nvPr/>
        </p:nvPicPr>
        <p:blipFill>
          <a:blip r:embed="rId5"/>
          <a:stretch/>
        </p:blipFill>
        <p:spPr>
          <a:xfrm>
            <a:off x="5435640" y="2205000"/>
            <a:ext cx="3332160" cy="24987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4"/>
          <p:cNvSpPr/>
          <p:nvPr/>
        </p:nvSpPr>
        <p:spPr>
          <a:xfrm>
            <a:off x="611640" y="760320"/>
            <a:ext cx="194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6632640" y="976320"/>
            <a:ext cx="19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онкур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Прямоугольник 6" descr=""/>
          <p:cNvPicPr/>
          <p:nvPr/>
        </p:nvPicPr>
        <p:blipFill>
          <a:blip r:embed="rId6"/>
          <a:stretch/>
        </p:blipFill>
        <p:spPr>
          <a:xfrm>
            <a:off x="993600" y="5711760"/>
            <a:ext cx="715032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05:47:11Z</dcterms:created>
  <dc:creator>ммд</dc:creator>
  <dc:description/>
  <dc:language>en-US</dc:language>
  <cp:lastModifiedBy>Пользователь Windows</cp:lastModifiedBy>
  <dcterms:modified xsi:type="dcterms:W3CDTF">2017-09-10T20:11:31Z</dcterms:modified>
  <cp:revision>19</cp:revision>
  <dc:subject/>
  <dc:title>МБДОУ Центр развития ребёнка – детский сад №127 </dc:title>
</cp:coreProperties>
</file>