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1DD-4739-4968-8F4D-E5EA8792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AC1-F75C-4C8C-BF98-295BF356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F5B-140A-460F-9B2F-7D63FD37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2A7-017F-45FA-A136-7E922363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4D80-E8BF-4C90-9222-71CE81BB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DE35-8C54-47C4-8518-8D1A7329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4F1E-A829-405F-A146-37986F75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758B-FA53-44D4-84FB-0C786EFB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9B05-9EEE-4AB7-AA1E-767F7C91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F051-57B0-4BF3-B941-1A41E4A5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AAAA-D072-4998-A3EF-6156E4FA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1CF-11C3-46E3-B5C2-551FCAA9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DF3B-D06E-40ED-A9EC-92D50962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926C-53AE-4B36-BBEA-E427576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629B-1F8B-4478-869C-53080319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B8A-7215-4D36-B127-EBB35E7D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3F92-6571-446F-BC10-2013DF9C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12A9-5ACD-4C07-A47E-AAA21847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13E0-A75C-4918-9ECF-17806B16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F1CBD-B955-4307-9DC9-BEDD280A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1571-DDB7-4414-B52D-367922D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2ED5-D0EF-4020-B7DB-EB558C02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5AB-8C55-4C73-93D5-F57AE892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2395-AAA6-42A7-B68A-E0654FEA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300F-CF59-4665-8F9F-93F6EDF6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02F0-C9A0-43DB-81B7-18A8B768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0AE7-2D96-40C9-8343-5F5F387C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C6E1-0B0F-41F7-A004-CBB38731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0F50-B8B1-4EA5-9EF3-AABE2683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2EEB-4EBE-4E82-B0D0-57435CD7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6A78-C971-4E18-A05C-C988004A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32C71-6B88-4F64-9899-6A17F5DA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D47D-CB08-418F-A6C2-8C581B47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AF2-A5B1-45C9-98D2-2F84C61B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C726-A211-4685-9A44-820B306C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54B8-DC72-4F0E-B532-71918B1A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5BEB5-E9B6-496C-929D-E89A786E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D760C-8F3E-4C87-A7B2-8F0AE5CB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192FE-BE1A-43AC-A78A-F33A1311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15BE-7CCB-4B44-B1EB-2DF6BDD1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DF40-A5F1-4D24-A9F6-76C0D84C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A392E-A8C3-4345-BCDD-E68E7180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23A0-EC8F-47B2-920C-94E03372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9D3-BB3D-4AD0-AF2F-F35DF88F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D4F-22E3-48AB-B5AC-5ACA5EE0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C48-B0E1-4BAB-B77B-BCC48917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BF4-4D64-4C69-B3FC-F280EFC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681-5429-4932-B354-C55609F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ED32-40AE-49F5-BE37-B4209C3FD9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F8DA-5C1C-48FA-9325-3F68DD7B925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4C2B-177E-49AF-8E2F-E342C74BF6B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A118-C982-4723-95FC-1C2CC8C5A5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7851960" cy="841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1643040"/>
            <a:ext cx="7854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АКТИВНАЯ ПОЗИЦИЯ РОДИТЕЛЕЙ В ОБРАЗОВАТЕЛЬНОМ ПРОЦЕССЕ ДОУ – ЗАЛОГ УСПЕШНОГО ФОРМИРОВАНИЯ ОТНОШЕНИЙ МЕЖДУ ДЕТЬМИ В КОЛЛЕКТИВЕ СВЕРСТНИК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полнил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оспитатель высшей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зина Елена Владимиро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зержинск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2013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G:\фото разные 157.jpg"/>
          <p:cNvPicPr/>
          <p:nvPr/>
        </p:nvPicPr>
        <p:blipFill>
          <a:blip r:embed="rId2"/>
          <a:stretch/>
        </p:blipFill>
        <p:spPr>
          <a:xfrm>
            <a:off x="3348000" y="189000"/>
            <a:ext cx="3483000" cy="2612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G:\фото разные 159.jpg"/>
          <p:cNvPicPr/>
          <p:nvPr/>
        </p:nvPicPr>
        <p:blipFill>
          <a:blip r:embed="rId3"/>
          <a:stretch/>
        </p:blipFill>
        <p:spPr>
          <a:xfrm>
            <a:off x="324000" y="2060640"/>
            <a:ext cx="3483000" cy="2612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G:\фото разные 162.jpg"/>
          <p:cNvPicPr/>
          <p:nvPr/>
        </p:nvPicPr>
        <p:blipFill>
          <a:blip r:embed="rId4"/>
          <a:stretch/>
        </p:blipFill>
        <p:spPr>
          <a:xfrm>
            <a:off x="2411280" y="3860640"/>
            <a:ext cx="3484800" cy="2613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G:\фото разные 173.jpg"/>
          <p:cNvPicPr/>
          <p:nvPr/>
        </p:nvPicPr>
        <p:blipFill>
          <a:blip r:embed="rId5"/>
          <a:stretch/>
        </p:blipFill>
        <p:spPr>
          <a:xfrm>
            <a:off x="5364000" y="2060640"/>
            <a:ext cx="3483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фото разные 114.jpg"/>
          <p:cNvPicPr/>
          <p:nvPr/>
        </p:nvPicPr>
        <p:blipFill>
          <a:blip r:embed="rId2"/>
          <a:stretch/>
        </p:blipFill>
        <p:spPr>
          <a:xfrm>
            <a:off x="900000" y="11444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G:\фото разные 115.jpg"/>
          <p:cNvPicPr/>
          <p:nvPr/>
        </p:nvPicPr>
        <p:blipFill>
          <a:blip r:embed="rId3"/>
          <a:stretch/>
        </p:blipFill>
        <p:spPr>
          <a:xfrm>
            <a:off x="4716360" y="11444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G:\фото разные 116.jpg"/>
          <p:cNvPicPr/>
          <p:nvPr/>
        </p:nvPicPr>
        <p:blipFill>
          <a:blip r:embed="rId4"/>
          <a:stretch/>
        </p:blipFill>
        <p:spPr>
          <a:xfrm>
            <a:off x="2830680" y="379080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0" y="47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родителей в конкур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равильное пи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Заключительный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7120" y="1428480"/>
            <a:ext cx="413856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одведение итогов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аграждение самы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ктивных родителе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мещение 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фотографий на  сайт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У, что даёт стиму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ругим родителя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ктивнее участвовать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жизни группы, д/сад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Содержимое 4" descr="спортивныйпраздник 2013 031.jpg"/>
          <p:cNvPicPr/>
          <p:nvPr/>
        </p:nvPicPr>
        <p:blipFill>
          <a:blip r:embed="rId2"/>
          <a:stretch/>
        </p:blipFill>
        <p:spPr>
          <a:xfrm>
            <a:off x="4714920" y="1333440"/>
            <a:ext cx="2000160" cy="15001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3" name="Содержимое 4" descr="спортивныйпраздник 2013 031.jpg"/>
          <p:cNvPicPr/>
          <p:nvPr/>
        </p:nvPicPr>
        <p:blipFill>
          <a:blip r:embed="rId3"/>
          <a:stretch/>
        </p:blipFill>
        <p:spPr>
          <a:xfrm>
            <a:off x="6929280" y="1714680"/>
            <a:ext cx="2000520" cy="15001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4" name="Содержимое 4" descr="спортивныйпраздник 2013 031.jpg"/>
          <p:cNvPicPr/>
          <p:nvPr/>
        </p:nvPicPr>
        <p:blipFill>
          <a:blip r:embed="rId4"/>
          <a:stretch/>
        </p:blipFill>
        <p:spPr>
          <a:xfrm>
            <a:off x="4786200" y="3071880"/>
            <a:ext cx="2000520" cy="150012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5" name="Содержимое 4" descr="спортивныйпраздник 2013 031.jpg"/>
          <p:cNvPicPr/>
          <p:nvPr/>
        </p:nvPicPr>
        <p:blipFill>
          <a:blip r:embed="rId5"/>
          <a:stretch/>
        </p:blipFill>
        <p:spPr>
          <a:xfrm>
            <a:off x="7180200" y="3537000"/>
            <a:ext cx="1500120" cy="200016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6" name="Содержимое 4" descr="спортивныйпраздник 2013 031.jpg"/>
          <p:cNvPicPr/>
          <p:nvPr/>
        </p:nvPicPr>
        <p:blipFill>
          <a:blip r:embed="rId6"/>
          <a:stretch/>
        </p:blipFill>
        <p:spPr>
          <a:xfrm>
            <a:off x="5143680" y="4714920"/>
            <a:ext cx="1500120" cy="20001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Анкетировани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3071880" cy="48196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nstantia"/>
              </a:rPr>
              <a:t>На  заключительном этапе было проведено повторное анкетирование родителей по тем же направлениям. Из диаграммы видно, что процент заинтересованности и желания участвовать в жизни группы у родителей значительно вырос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nstantia"/>
              </a:rPr>
              <a:t>В перспективе планируется создать ряд портфолио, а именно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nstantia"/>
              </a:rPr>
              <a:t>-портфолио ребёнк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nstantia"/>
              </a:rPr>
              <a:t>-портфолио семь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nstantia"/>
              </a:rPr>
              <a:t>- портфолио группы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Содержимое 4" descr=""/>
          <p:cNvPicPr/>
          <p:nvPr/>
        </p:nvPicPr>
        <p:blipFill>
          <a:blip r:embed="rId2"/>
          <a:stretch/>
        </p:blipFill>
        <p:spPr>
          <a:xfrm>
            <a:off x="3575160" y="1432080"/>
            <a:ext cx="5111640" cy="46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На протяжение года формировался не только коллектив взрослых, но и в детском коллективе происходили изменения. Дети стали более дружными, бережно относятся к тому, что смастерили вместе с родителями, испытывают гордость за них. Поэтому группа раннего возраста - это визитная карточка ДО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Рисунок 3" descr="IMG_0738.jpg"/>
          <p:cNvPicPr/>
          <p:nvPr/>
        </p:nvPicPr>
        <p:blipFill>
          <a:blip r:embed="rId2"/>
          <a:stretch/>
        </p:blipFill>
        <p:spPr>
          <a:xfrm>
            <a:off x="901800" y="3895560"/>
            <a:ext cx="3670200" cy="29196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IMG_0738.jpg"/>
          <p:cNvPicPr/>
          <p:nvPr/>
        </p:nvPicPr>
        <p:blipFill>
          <a:blip r:embed="rId3"/>
          <a:stretch/>
        </p:blipFill>
        <p:spPr>
          <a:xfrm>
            <a:off x="4548240" y="3895560"/>
            <a:ext cx="3668760" cy="29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7772400" cy="4065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0280" y="3857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Актуальность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2920" y="1285560"/>
            <a:ext cx="328608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onstantia"/>
              </a:rPr>
              <a:t>Актуальность проблемы заключается в том, что оттого, как сложатся взаимоотношения между родителями группы,  зависит и формирование отношений в детском коллективе группы. Не стоит забывать, что ребёнок подражает действиям взрослого ("Как папа...", "Как мама..."). Это в раннем возрасте количество мероприятий, где могут участвовать родители, ограничено, а в дошкольном – это и организация экскурсий, и мини-походы, и посещение детских представлений. Значит уже в группах раннего возраста нужно заложить этот крепкий фундамент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Содержимое 4" descr="IMG_0752.jpg"/>
          <p:cNvPicPr/>
          <p:nvPr/>
        </p:nvPicPr>
        <p:blipFill>
          <a:blip r:embed="rId2"/>
          <a:stretch/>
        </p:blipFill>
        <p:spPr>
          <a:xfrm>
            <a:off x="4552920" y="1371600"/>
            <a:ext cx="38718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Два блока работы с родителя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357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onstantia"/>
              </a:rPr>
              <a:t>педагогическое просвещение родителе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традиционные формы общения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педагога с родителями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onstantia"/>
              </a:rPr>
              <a:t>коллективные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(круглый стол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родительские собрания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конференции и т.д.)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onstantia"/>
              </a:rPr>
              <a:t>индивидуальные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(беседы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консультации…)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onstantia"/>
              </a:rPr>
              <a:t>наглядн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onstantia"/>
              </a:rPr>
              <a:t>информационные(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род. уголок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информационные стенды о жизни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д/сада, группы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357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onstantia"/>
              </a:rPr>
              <a:t>включение родителей в деятельность ДОУ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нетрадиционные формы общения педагога с родителями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информационн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аналитические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(анкеты, опросы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резы…)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познавательные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(консультации специалистов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еминары-практикумы…)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наглядн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информационные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информационн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ознакомительные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информационн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просветительские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(выпуск газет, ден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открытых дверей, просмотр занятий…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досуговые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( конкурсы, выставки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овмест. мероприятия…)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4" descr="IMG_0741.jpg"/>
          <p:cNvPicPr/>
          <p:nvPr/>
        </p:nvPicPr>
        <p:blipFill>
          <a:blip r:embed="rId2"/>
          <a:stretch/>
        </p:blipFill>
        <p:spPr>
          <a:xfrm>
            <a:off x="927000" y="4638600"/>
            <a:ext cx="25783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Це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78568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Задач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Горизонтальный свиток 3"/>
          <p:cNvSpPr/>
          <p:nvPr/>
        </p:nvSpPr>
        <p:spPr>
          <a:xfrm>
            <a:off x="1143000" y="1214280"/>
            <a:ext cx="6786720" cy="1643400"/>
          </a:xfrm>
          <a:prstGeom prst="horizontalScroll">
            <a:avLst>
              <a:gd name="adj" fmla="val 12500"/>
            </a:avLst>
          </a:prstGeom>
          <a:solidFill>
            <a:srgbClr val="91c6f7"/>
          </a:solidFill>
          <a:ln w="25560">
            <a:solidFill>
              <a:srgbClr val="20c9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Побуждать родителей участвовать  в различных выставках, конкурсах, фестивалях разного уровня, через взаимное сотрудничество и со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хема 4" descr=""/>
          <p:cNvPicPr/>
          <p:nvPr/>
        </p:nvPicPr>
        <p:blipFill>
          <a:blip r:embed="rId2"/>
          <a:stretch/>
        </p:blipFill>
        <p:spPr>
          <a:xfrm>
            <a:off x="1487520" y="3359160"/>
            <a:ext cx="664524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1 этап работы</a:t>
            </a:r>
            <a:br>
              <a:rPr sz="4500"/>
            </a:b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Анкетирование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Содержимое 4"/>
          <p:cNvGraphicFramePr/>
          <p:nvPr/>
        </p:nvGraphicFramePr>
        <p:xfrm>
          <a:off x="285840" y="1500120"/>
          <a:ext cx="5357880" cy="485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0" name="Содержимое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1500120"/>
                    <a:ext cx="53578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 txBox="1"/>
          <p:nvPr/>
        </p:nvSpPr>
        <p:spPr>
          <a:xfrm>
            <a:off x="6072120" y="928800"/>
            <a:ext cx="2928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Исследовались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увлечения или хобб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одителей, налич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определённых умен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и возможностей, и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отношение 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конкурсам, выставкам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Познакоми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одителей с перечне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Проводимы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мероприятий в стена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ДОУ и за ег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пределами; такж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обращаю внима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одителей на стенд 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грамотами 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дипломами прежних лет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Основной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13840" y="1357200"/>
            <a:ext cx="4281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абота строилась на взаимодействие с теми родителями, кто желает участвовать в жизни группы, поддерживает педагога, даже если таких родителей меньшинство. Постепенно, тактично вовлекались  и остальные родители в сотрудничество. С менее активными родителями велась индивидуальная работа. Как показала практика, активность родителей в желании принять участие в конкурсах, выставках к концу года возрастает, растёт авторитет родителей. Родители, становятся более общительнее между собой, предлагают совместные идеи, привлекают де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Содержимое 4" descr="постройки 2013 002.jpg"/>
          <p:cNvPicPr/>
          <p:nvPr/>
        </p:nvPicPr>
        <p:blipFill>
          <a:blip r:embed="rId2"/>
          <a:stretch/>
        </p:blipFill>
        <p:spPr>
          <a:xfrm>
            <a:off x="4024440" y="1773360"/>
            <a:ext cx="2398680" cy="179856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5" name="Содержимое 4" descr="постройки 2013 002.jpg"/>
          <p:cNvPicPr/>
          <p:nvPr/>
        </p:nvPicPr>
        <p:blipFill>
          <a:blip r:embed="rId3"/>
          <a:stretch/>
        </p:blipFill>
        <p:spPr>
          <a:xfrm>
            <a:off x="5195880" y="4076640"/>
            <a:ext cx="2398680" cy="17985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6" name="Picture 8" descr="G:\ледяная сказка 2012 001.jpg"/>
          <p:cNvPicPr/>
          <p:nvPr/>
        </p:nvPicPr>
        <p:blipFill>
          <a:blip r:embed="rId4"/>
          <a:stretch/>
        </p:blipFill>
        <p:spPr>
          <a:xfrm>
            <a:off x="6732720" y="1125360"/>
            <a:ext cx="206856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G:\35лет дет.саду 2011год 030.jpg"/>
          <p:cNvPicPr/>
          <p:nvPr/>
        </p:nvPicPr>
        <p:blipFill>
          <a:blip r:embed="rId2"/>
          <a:stretch/>
        </p:blipFill>
        <p:spPr>
          <a:xfrm>
            <a:off x="539640" y="476280"/>
            <a:ext cx="3988080" cy="2990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G:\35лет дет.саду 2011год 034.jpg"/>
          <p:cNvPicPr/>
          <p:nvPr/>
        </p:nvPicPr>
        <p:blipFill>
          <a:blip r:embed="rId3"/>
          <a:stretch/>
        </p:blipFill>
        <p:spPr>
          <a:xfrm>
            <a:off x="4211640" y="1628640"/>
            <a:ext cx="4221000" cy="3165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G:\35лет дет.саду 2011год 032.jpg"/>
          <p:cNvPicPr/>
          <p:nvPr/>
        </p:nvPicPr>
        <p:blipFill>
          <a:blip r:embed="rId4"/>
          <a:stretch/>
        </p:blipFill>
        <p:spPr>
          <a:xfrm>
            <a:off x="1403280" y="3557520"/>
            <a:ext cx="4087800" cy="30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643280" y="268200"/>
            <a:ext cx="43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онцерте к юбиле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д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G:\креативная ёлка 2011 009.jpg"/>
          <p:cNvPicPr/>
          <p:nvPr/>
        </p:nvPicPr>
        <p:blipFill>
          <a:blip r:embed="rId2"/>
          <a:stretch/>
        </p:blipFill>
        <p:spPr>
          <a:xfrm>
            <a:off x="3780000" y="2744640"/>
            <a:ext cx="5111640" cy="383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G:\Деньзащиты детей2011 009.jpg"/>
          <p:cNvPicPr/>
          <p:nvPr/>
        </p:nvPicPr>
        <p:blipFill>
          <a:blip r:embed="rId3"/>
          <a:stretch/>
        </p:blipFill>
        <p:spPr>
          <a:xfrm>
            <a:off x="179280" y="18900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5265360" y="692280"/>
            <a:ext cx="362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род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онкурсе плак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Берегите ле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6200" y="4662360"/>
            <a:ext cx="373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родском конкур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у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G:\постройки 2013 002.jpg"/>
          <p:cNvPicPr/>
          <p:nvPr/>
        </p:nvPicPr>
        <p:blipFill>
          <a:blip r:embed="rId2"/>
          <a:stretch/>
        </p:blipFill>
        <p:spPr>
          <a:xfrm>
            <a:off x="2987640" y="260280"/>
            <a:ext cx="3330720" cy="2498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G:\постройки 2013 006.jpg"/>
          <p:cNvPicPr/>
          <p:nvPr/>
        </p:nvPicPr>
        <p:blipFill>
          <a:blip r:embed="rId3"/>
          <a:stretch/>
        </p:blipFill>
        <p:spPr>
          <a:xfrm>
            <a:off x="2987640" y="4005360"/>
            <a:ext cx="3330720" cy="2498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G:\постройки 2013 004.jpg"/>
          <p:cNvPicPr/>
          <p:nvPr/>
        </p:nvPicPr>
        <p:blipFill>
          <a:blip r:embed="rId4"/>
          <a:stretch/>
        </p:blipFill>
        <p:spPr>
          <a:xfrm>
            <a:off x="324000" y="2205000"/>
            <a:ext cx="3330360" cy="2498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G:\постройки 2013 012.jpg"/>
          <p:cNvPicPr/>
          <p:nvPr/>
        </p:nvPicPr>
        <p:blipFill>
          <a:blip r:embed="rId5"/>
          <a:stretch/>
        </p:blipFill>
        <p:spPr>
          <a:xfrm>
            <a:off x="5435640" y="2205000"/>
            <a:ext cx="3332160" cy="24987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611640" y="760320"/>
            <a:ext cx="194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6632640" y="97632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онкур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оугольник 6" descr=""/>
          <p:cNvPicPr/>
          <p:nvPr/>
        </p:nvPicPr>
        <p:blipFill>
          <a:blip r:embed="rId6"/>
          <a:stretch/>
        </p:blipFill>
        <p:spPr>
          <a:xfrm>
            <a:off x="993600" y="5711760"/>
            <a:ext cx="715032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5:47:11Z</dcterms:created>
  <dc:creator>ммд</dc:creator>
  <dc:description/>
  <dc:language>en-US</dc:language>
  <cp:lastModifiedBy>Пользователь Windows</cp:lastModifiedBy>
  <dcterms:modified xsi:type="dcterms:W3CDTF">2017-09-10T20:11:31Z</dcterms:modified>
  <cp:revision>19</cp:revision>
  <dc:subject/>
  <dc:title>МБДОУ Центр развития ребёнка – детский сад №127 </dc:title>
</cp:coreProperties>
</file>