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12.jpeg" ContentType="image/jpeg"/>
  <Override PartName="/ppt/media/image29.jpeg" ContentType="image/jpeg"/>
  <Override PartName="/ppt/media/image33.jpeg" ContentType="image/jpeg"/>
  <Override PartName="/ppt/media/image6.jpeg" ContentType="image/jpeg"/>
  <Override PartName="/ppt/media/image7.jpeg" ContentType="image/jpeg"/>
  <Override PartName="/ppt/media/image20.png" ContentType="image/png"/>
  <Override PartName="/ppt/media/image36.png" ContentType="image/png"/>
  <Override PartName="/ppt/media/image39.png" ContentType="image/png"/>
  <Override PartName="/ppt/media/image40.png" ContentType="image/png"/>
  <Override PartName="/ppt/media/image11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3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239-54ED-404A-A604-14548FA5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589-57E1-4343-9BF1-000E784A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CB2-0E8A-498D-BD60-F1686369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0E0-A8B3-4C13-8C8E-62DD6CF7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C7A0-9AA2-45F2-8305-DAC25969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23F4-4E79-4BA8-B6C5-0163C752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B7D1-4F98-45E0-8397-B5DC1CBC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8F9D-570B-43D2-8DDB-D8E7CA3D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139A-462E-4C1F-A6D6-BD57F646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C2A8-0046-4142-9445-A8752663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382B-1F1C-4FCD-8D64-B7622696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CEF-C34C-4559-A873-5369AF7C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FEC1-6304-48D1-B0B7-2D8C6B94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CFF2-42C1-4F12-A02D-40C57545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F5D1-05D4-41CF-A419-E7CA289B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688E-5841-41FD-9A83-D2DD0BCD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AD03-4449-407D-B52D-5992A0E0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09A-7FB8-45A9-88ED-A14B9FB5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7AD-455B-47A3-96C6-AE6D17A9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661-54A0-4AD8-8BD3-3FA02EC6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C3A-3BC9-46D9-8FE4-5E44FAE5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ED5-25A7-4A61-8550-C7F954C7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8AE-6558-4BE9-A9CA-43CDC75A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FDD-3596-4A25-A955-2A3847FF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5D86-AD07-4C55-877D-D93842051F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863D-D5D3-4CC3-BFD7-ABF9AC7A65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734544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144360" y="3141720"/>
            <a:ext cx="889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роительстве сельского дома можно использовать один из двух типов фундамента: каменный или бетонный. Для каменного фундамента необходимо 9 тонн природного камня и 9 мешков цемента. Для бетонного фундамента необходимо 7 тонн щебня и 50 мешков цемента. Тонна камня стоит 1450 рублей, щебень стоит 680 рублей за тонну, а мешок цемента стоит 220 рублей. Сколько рублей будет стоить материал для фундамента, если выбрать наиболее дешёвый вариан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&amp;Rcy;&amp;icy;&amp;scy;&amp;ocy;&amp;vcy;&amp;acy;&amp;ncy;&amp;ncy;&amp;ocy;&amp;iecy; &amp;kcy;&amp;acy;&amp;rcy;&amp;tcy;&amp;icy;&amp;ncy;&amp;kcy;&amp;icy; &amp;ncy;&amp;acy; &amp;rcy;&amp;acy;&amp;bcy;&amp;ocy;&amp;chcy;&amp;icy;&amp;jcy; &amp;scy;&amp;tcy;&amp;ocy;&amp;lcy;, &amp;Rcy;&amp;icy;&amp;scy;&amp;ocy;&amp;vcy;&amp;acy;&amp;ncy;&amp;ncy;&amp;ocy;&amp;iecy; &amp;ocy;&amp;bcy;&amp;ocy;&amp;icy; &amp;dcy;&amp;lcy;&amp;yacy; &amp;rcy;&amp;acy;&amp;bcy;&amp;ocy;&amp;chcy;&amp;iecy;&amp;gcy;&amp;ocy; &amp;scy;&amp;tcy;&amp;ocy;&amp;lcy;&amp;acy;."/>
          <p:cNvPicPr/>
          <p:nvPr/>
        </p:nvPicPr>
        <p:blipFill>
          <a:blip r:embed="rId2"/>
          <a:stretch/>
        </p:blipFill>
        <p:spPr>
          <a:xfrm>
            <a:off x="6294600" y="0"/>
            <a:ext cx="2849400" cy="227664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4" descr=""/>
          <p:cNvPicPr/>
          <p:nvPr/>
        </p:nvPicPr>
        <p:blipFill>
          <a:blip r:embed="rId3"/>
          <a:stretch/>
        </p:blipFill>
        <p:spPr>
          <a:xfrm>
            <a:off x="-66600" y="1158840"/>
            <a:ext cx="76737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24000" y="12996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троительной фирме нужно приобрести 75 кубометров пенобетона у из трех поставщиков. Цены и условия доставки приведены в таб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колько рублей придется заплатить за самую дешевую покупку с достав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2060640"/>
          <a:ext cx="7993080" cy="4584600"/>
        </p:xfrm>
        <a:graphic>
          <a:graphicData uri="http://schemas.openxmlformats.org/drawingml/2006/table">
            <a:tbl>
              <a:tblPr/>
              <a:tblGrid>
                <a:gridCol w="1439640"/>
                <a:gridCol w="2448000"/>
                <a:gridCol w="1509840"/>
                <a:gridCol w="2595600"/>
              </a:tblGrid>
              <a:tr h="1295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вщик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пенобетона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. за за 1м.куб. 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доставк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 услов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2244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0 руб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47960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0 руб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заказе на сумму больше 150000 руб. доставка бесплат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8728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 руб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заказе более 80  доставка бесплат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58120" y="482760"/>
            <a:ext cx="861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ужно приобрести 10 кубометров бруса у одного из трё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тавщиков.  Цены и условия доставки приведены в табли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колько рублей придётся заплатить за самую дешевую покуп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достав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2205000"/>
          <a:ext cx="8064360" cy="4278240"/>
        </p:xfrm>
        <a:graphic>
          <a:graphicData uri="http://schemas.openxmlformats.org/drawingml/2006/table">
            <a:tbl>
              <a:tblPr/>
              <a:tblGrid>
                <a:gridCol w="1768320"/>
                <a:gridCol w="1562400"/>
                <a:gridCol w="1692000"/>
                <a:gridCol w="3041640"/>
              </a:tblGrid>
              <a:tr h="109224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вщ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бруса  (руб. за м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доставки (руб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25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49440"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заказе на сумму больш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0 руб. доставка беспла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4040"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заказе более 5 м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став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платно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395280" y="21348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ужно приобрести 50 листов кровельного железа у одного из трех  поставщиков.  Цены и условия доставки приведены в табли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колько рублей придется заплатить за самую дешевую покупку  с достав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276640"/>
          <a:ext cx="7777080" cy="4011480"/>
        </p:xfrm>
        <a:graphic>
          <a:graphicData uri="http://schemas.openxmlformats.org/drawingml/2006/table">
            <a:tbl>
              <a:tblPr/>
              <a:tblGrid>
                <a:gridCol w="1655640"/>
                <a:gridCol w="1965240"/>
                <a:gridCol w="1552680"/>
                <a:gridCol w="2603520"/>
              </a:tblGrid>
              <a:tr h="1087200">
                <a:tc>
                  <a:txBody>
                    <a:bodyPr lIns="81000" rIns="81000" tIns="40320" bIns="40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щ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желез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руб.за лист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достав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руб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ые услов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16160">
                <a:tc>
                  <a:txBody>
                    <a:bodyPr lIns="81000" rIns="81000" tIns="40320" bIns="40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22000">
                <a:tc>
                  <a:txBody>
                    <a:bodyPr lIns="81000" rIns="81000" tIns="40320" bIns="40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заказе на сумму больше 150000руб.доставка бесплатн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86480">
                <a:tc>
                  <a:txBody>
                    <a:bodyPr lIns="81000" rIns="81000" tIns="40320" bIns="40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1000" rIns="81000" tIns="40320" bIns="40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заказе 50 листов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авка бесплатн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324000" y="40464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ый подрядчик планирует купить 20 тонн облицовочного кирпича у одного из трёх поставщиков. Один кирпич весит 5 кг. Цена кирпича и условия доставки всей покупки приведены в таб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4000" y="2492280"/>
          <a:ext cx="8424720" cy="3760920"/>
        </p:xfrm>
        <a:graphic>
          <a:graphicData uri="http://schemas.openxmlformats.org/drawingml/2006/table">
            <a:tbl>
              <a:tblPr/>
              <a:tblGrid>
                <a:gridCol w="1641240"/>
                <a:gridCol w="1133640"/>
                <a:gridCol w="1793880"/>
                <a:gridCol w="3855960"/>
              </a:tblGrid>
              <a:tr h="1694160">
                <a:tc>
                  <a:txBody>
                    <a:bodyPr lIns="9360" rIns="936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вщик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кирпича 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. за шт)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доставки 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.)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е услови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3520"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23840"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ка бесплатно, если сумма заказа превышает 200 000 руб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23840"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ка со скидкой 50%, если сумма заказа превышает 240 000 руб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9" descr="&amp;gcy;&amp;rcy;&amp;ucy;&amp;zcy;&amp;ocy;&amp;vcy;&amp;ycy;&amp;iecy; &amp;mcy;&amp;acy;&amp;shcy;&amp;icy;&amp;ncy;&amp;ycy; &amp;kcy;&amp;acy;&amp;rcy;&amp;tcy;&amp;icy;&amp;ncy;&amp;kcy;&amp;icy; &amp;dcy;&amp;lcy;&amp;yacy; &amp;dcy;&amp;iecy;&amp;tcy;&amp;iecy;&amp;jcy;"/>
          <p:cNvPicPr/>
          <p:nvPr/>
        </p:nvPicPr>
        <p:blipFill>
          <a:blip r:embed="rId2"/>
          <a:stretch/>
        </p:blipFill>
        <p:spPr>
          <a:xfrm>
            <a:off x="611280" y="260280"/>
            <a:ext cx="2197080" cy="17258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399960" y="1997280"/>
            <a:ext cx="87440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ля транспортировки 36 тонн груза на 500 км можно воспользоваться  услугами одной из трех фирм-перевозчиков. Стоимость перевозки и  грузоподъемность автомобилей для каждого перевозчика указана в  таблице. Сколько рублей придется заплатить за самую дешевую  перевозку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4005360"/>
          <a:ext cx="8353440" cy="2528640"/>
        </p:xfrm>
        <a:graphic>
          <a:graphicData uri="http://schemas.openxmlformats.org/drawingml/2006/table">
            <a:tbl>
              <a:tblPr/>
              <a:tblGrid>
                <a:gridCol w="1913040"/>
                <a:gridCol w="3549600"/>
                <a:gridCol w="2890800"/>
              </a:tblGrid>
              <a:tr h="1177920">
                <a:tc>
                  <a:txBody>
                    <a:bodyPr lIns="3240" rIns="3240" tIns="3240" bIns="3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возчик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перевозки одним автомобилем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руб. на 100 км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оподъемность автомобилей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тонн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600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16" name="Прямоугольник 5" descr=""/>
          <p:cNvPicPr/>
          <p:nvPr/>
        </p:nvPicPr>
        <p:blipFill>
          <a:blip r:embed="rId3"/>
          <a:stretch/>
        </p:blipFill>
        <p:spPr>
          <a:xfrm>
            <a:off x="2152800" y="469800"/>
            <a:ext cx="6997680" cy="1571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2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12924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провайдер (компания, оказывающая  услуги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ению  к сети Интернет) предлагает   шесть  тарифных план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2060640"/>
          <a:ext cx="8640720" cy="2949480"/>
        </p:xfrm>
        <a:graphic>
          <a:graphicData uri="http://schemas.openxmlformats.org/drawingml/2006/table">
            <a:tbl>
              <a:tblPr/>
              <a:tblGrid>
                <a:gridCol w="2160360"/>
                <a:gridCol w="2880000"/>
                <a:gridCol w="3600360"/>
              </a:tblGrid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ифный пла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нентская пл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траф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400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лан "0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 р. за 1 M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868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лан "500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 р. за 500 Мb тр в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р. за 1 Mb сверх 500 M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868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План "800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 р. за 800 Mb тр в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 р. за 1 Mb сверх 800 M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868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План "700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 р. за 700 Мb тр в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р. за 1 Mb сверх 700 M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868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План "1000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 р. за 1000 Mb тр в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 р. за 1 Mb сверх 1000 M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2820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План "Безлимитный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р. в меся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3"/>
          <p:cNvSpPr/>
          <p:nvPr/>
        </p:nvSpPr>
        <p:spPr>
          <a:xfrm>
            <a:off x="324000" y="511128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ь планирует, что его трафик составит 1100 Mb 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этого, выбирает наиболее дешевый тарифный пла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ублей заплатит пользователь за месяц, если его траф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 будет равен 1100 Mb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5" descr=""/>
          <p:cNvPicPr/>
          <p:nvPr/>
        </p:nvPicPr>
        <p:blipFill>
          <a:blip r:embed="rId2"/>
          <a:stretch/>
        </p:blipFill>
        <p:spPr>
          <a:xfrm>
            <a:off x="-476280" y="-152280"/>
            <a:ext cx="8798040" cy="151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&amp;Tcy;&amp;Tcy; Mobile &amp;vcy; &amp;scy;&amp;rcy;&amp;iecy;&amp;dcy;&amp;iecy; &amp;icy;&amp;gcy;&amp;rcy;&amp;ocy;&amp;kcy;&amp;ocy;&amp;vcy; &amp;scy;&amp;ocy;&amp;tcy;&amp;ocy;&amp;vcy;&amp;ycy;&amp;khcy; &amp;tcy;&amp;iecy;&amp;lcy;&amp;iecy;&amp;fcy;&amp;ocy;&amp;ncy;&amp;ncy;&amp;ycy;&amp;khcy; &amp;kcy;&amp;ocy;&amp;mcy;&amp;pcy;&amp;acy;&amp;ncy;&amp;icy;&amp;jcy; &amp;Kcy;&amp;ocy;&amp;mcy;&amp;pcy;&amp;softcy;&amp;yucy;&amp;tcy;&amp;iecy;&amp;rcy;&amp;ncy;&amp;ycy;&amp;iecy; &amp;ncy;&amp;ocy;&amp;vcy;&amp;ocy;&amp;scy;&amp;tcy;&amp;icy;"/>
          <p:cNvPicPr/>
          <p:nvPr/>
        </p:nvPicPr>
        <p:blipFill>
          <a:blip r:embed="rId3"/>
          <a:stretch/>
        </p:blipFill>
        <p:spPr>
          <a:xfrm>
            <a:off x="6956280" y="189000"/>
            <a:ext cx="2079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6360" y="549720"/>
            <a:ext cx="91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компания предоставляет на выбор три тарифных пл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1341360"/>
          <a:ext cx="8424720" cy="2417760"/>
        </p:xfrm>
        <a:graphic>
          <a:graphicData uri="http://schemas.openxmlformats.org/drawingml/2006/table">
            <a:tbl>
              <a:tblPr/>
              <a:tblGrid>
                <a:gridCol w="2808360"/>
                <a:gridCol w="2346120"/>
                <a:gridCol w="3270240"/>
              </a:tblGrid>
              <a:tr h="68868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ифный пла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нентская плат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1 минуту разговор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5352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овремен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5 р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2384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Комбинирован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р. за 350 минут в месяц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ыше 350 минут в месяц — 0,3 р. за каждую минуту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53520">
                <a:tc>
                  <a:txBody>
                    <a:bodyPr lIns="9000" rIns="9000" tIns="9000" bIns="9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Безлимит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р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р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250920" y="394488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нент выбрал наиболее дешевый тарифный план,  исходя из предположения, что общая длительность  телефонного разговора составляет 700 минут в меся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умму он должен заплатить за месяц, если об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разговоров в этом месяце действ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равна 700 мин? Ответ дайте в рубл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1500480" y="191160"/>
            <a:ext cx="61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ИЗНЕС-ПЛАН  НА ПОСТРОЙКУ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обкладкой кирпи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TextBox 7" descr=""/>
          <p:cNvPicPr/>
          <p:nvPr/>
        </p:nvPicPr>
        <p:blipFill>
          <a:blip r:embed="rId1"/>
          <a:stretch/>
        </p:blipFill>
        <p:spPr>
          <a:xfrm>
            <a:off x="317520" y="1085760"/>
            <a:ext cx="8515440" cy="469908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11" descr=""/>
          <p:cNvPicPr/>
          <p:nvPr/>
        </p:nvPicPr>
        <p:blipFill>
          <a:blip r:embed="rId2"/>
          <a:stretch/>
        </p:blipFill>
        <p:spPr>
          <a:xfrm>
            <a:off x="298440" y="5248440"/>
            <a:ext cx="8169120" cy="89028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13" descr=""/>
          <p:cNvPicPr/>
          <p:nvPr/>
        </p:nvPicPr>
        <p:blipFill>
          <a:blip r:embed="rId3"/>
          <a:stretch/>
        </p:blipFill>
        <p:spPr>
          <a:xfrm>
            <a:off x="171360" y="6066000"/>
            <a:ext cx="858204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573480" y="26136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ИЗНЕС-ПЛАН  НА ПОСТРОЙКУ ДОМА без обкл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extBox 2" descr=""/>
          <p:cNvPicPr/>
          <p:nvPr/>
        </p:nvPicPr>
        <p:blipFill>
          <a:blip r:embed="rId1"/>
          <a:stretch/>
        </p:blipFill>
        <p:spPr>
          <a:xfrm>
            <a:off x="317520" y="871560"/>
            <a:ext cx="8515440" cy="437688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3" descr=""/>
          <p:cNvPicPr/>
          <p:nvPr/>
        </p:nvPicPr>
        <p:blipFill>
          <a:blip r:embed="rId2"/>
          <a:stretch/>
        </p:blipFill>
        <p:spPr>
          <a:xfrm>
            <a:off x="225360" y="4743360"/>
            <a:ext cx="8925120" cy="153504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4" descr=""/>
          <p:cNvPicPr/>
          <p:nvPr/>
        </p:nvPicPr>
        <p:blipFill>
          <a:blip r:embed="rId3"/>
          <a:stretch/>
        </p:blipFill>
        <p:spPr>
          <a:xfrm>
            <a:off x="-6480" y="5967360"/>
            <a:ext cx="8759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kul-sh1.ru/images/stories/ege2015/ege_ballu2015.jpg"/>
          <p:cNvPicPr/>
          <p:nvPr/>
        </p:nvPicPr>
        <p:blipFill>
          <a:blip r:embed="rId1"/>
          <a:stretch/>
        </p:blipFill>
        <p:spPr>
          <a:xfrm>
            <a:off x="5580000" y="0"/>
            <a:ext cx="3276720" cy="3789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0" y="3716280"/>
            <a:ext cx="97218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  – одно существительное, выражающее главную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u’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  – два прилагательных (или причастий), выражающих главную мысл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 – три глагола, описывающие действия в рамках тем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раза, несущая определенный смысл, выражающа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ношение автора к тем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5  – заключение в форме существительного (ассоциация с первым словом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4" descr=""/>
          <p:cNvPicPr/>
          <p:nvPr/>
        </p:nvPicPr>
        <p:blipFill>
          <a:blip r:embed="rId2"/>
          <a:stretch/>
        </p:blipFill>
        <p:spPr>
          <a:xfrm>
            <a:off x="457200" y="165240"/>
            <a:ext cx="4614840" cy="5364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5" descr=""/>
          <p:cNvPicPr/>
          <p:nvPr/>
        </p:nvPicPr>
        <p:blipFill>
          <a:blip r:embed="rId3"/>
          <a:stretch/>
        </p:blipFill>
        <p:spPr>
          <a:xfrm>
            <a:off x="-66600" y="-6480"/>
            <a:ext cx="5248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684360" y="476280"/>
            <a:ext cx="6983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ая программ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Обеспечение жильем молодых сем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437040" y="1627560"/>
            <a:ext cx="86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выплата равна 30%  от расчетной стоимости жил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324000" y="263700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общей площади жилого помещения – 21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му. Норматив стоимости 1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й площади в Белинском районе 29425 руб. Определите величину социальной выплаты для нашей семьи, состоящей из двух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TextBox 5" descr=""/>
          <p:cNvPicPr/>
          <p:nvPr/>
        </p:nvPicPr>
        <p:blipFill>
          <a:blip r:embed="rId2"/>
          <a:stretch/>
        </p:blipFill>
        <p:spPr>
          <a:xfrm>
            <a:off x="1036800" y="4267080"/>
            <a:ext cx="7284960" cy="13050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6" descr=""/>
          <p:cNvPicPr/>
          <p:nvPr/>
        </p:nvPicPr>
        <p:blipFill>
          <a:blip r:embed="rId3"/>
          <a:stretch/>
        </p:blipFill>
        <p:spPr>
          <a:xfrm>
            <a:off x="1109520" y="5705640"/>
            <a:ext cx="591372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Nikonaft's &quot;3D&quot; set on Shutterstock"/>
          <p:cNvPicPr/>
          <p:nvPr/>
        </p:nvPicPr>
        <p:blipFill>
          <a:blip r:embed="rId2"/>
          <a:stretch/>
        </p:blipFill>
        <p:spPr>
          <a:xfrm>
            <a:off x="3419640" y="2421000"/>
            <a:ext cx="5724360" cy="42973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"/>
          <p:cNvSpPr/>
          <p:nvPr/>
        </p:nvSpPr>
        <p:spPr>
          <a:xfrm>
            <a:off x="1181880" y="333360"/>
            <a:ext cx="703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счёт кредитных выпл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431640" y="1268280"/>
            <a:ext cx="871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ть ежемесячную сумму платежа, если клиент собирается взять  в банке 79254 рублей под  20 %  годовых и планирует выплатить кредит за 1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324000" y="3068640"/>
            <a:ext cx="78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254 -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   -  2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 79245×20/100=1 5849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5849 +79245 =95094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094/12=792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85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385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755640" y="4221000"/>
          <a:ext cx="7561440" cy="2194200"/>
        </p:xfrm>
        <a:graphic>
          <a:graphicData uri="http://schemas.openxmlformats.org/drawingml/2006/table">
            <a:tbl>
              <a:tblPr/>
              <a:tblGrid>
                <a:gridCol w="3268800"/>
                <a:gridCol w="1604880"/>
                <a:gridCol w="2687760"/>
              </a:tblGrid>
              <a:tr h="109764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ер плит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плиток в пач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а пачки (руб. за пач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6612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см×40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6612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см×30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6612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см×40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1"/>
          <p:cNvSpPr/>
          <p:nvPr/>
        </p:nvSpPr>
        <p:spPr>
          <a:xfrm>
            <a:off x="395280" y="142488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мическая плитка одной и той же торговой марки выпускается  трех разных размеров. Плитка упакована в пачки. Требуется купить плитку,  чтобы облицевать пол квадратной комнаты со стороной 3 м 60 см.  Размеры плитки, количество плиток в пачки стоимость  пачки приведены в таб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ублей обойдется самый дешевый вариант покуп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1" descr=""/>
          <p:cNvPicPr/>
          <p:nvPr/>
        </p:nvPicPr>
        <p:blipFill>
          <a:blip r:embed="rId2"/>
          <a:stretch/>
        </p:blipFill>
        <p:spPr>
          <a:xfrm>
            <a:off x="109440" y="755640"/>
            <a:ext cx="5254560" cy="181620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" descr=""/>
          <p:cNvPicPr/>
          <p:nvPr/>
        </p:nvPicPr>
        <p:blipFill>
          <a:blip r:embed="rId3"/>
          <a:stretch/>
        </p:blipFill>
        <p:spPr>
          <a:xfrm>
            <a:off x="523800" y="2036880"/>
            <a:ext cx="4621320" cy="537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http://kul-sh1.ru/images/stories/ege2015/ege_ballu2015.jpg"/>
          <p:cNvPicPr/>
          <p:nvPr/>
        </p:nvPicPr>
        <p:blipFill>
          <a:blip r:embed="rId4"/>
          <a:stretch/>
        </p:blipFill>
        <p:spPr>
          <a:xfrm>
            <a:off x="5183280" y="620640"/>
            <a:ext cx="3960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"/>
          <p:cNvPicPr/>
          <p:nvPr/>
        </p:nvPicPr>
        <p:blipFill>
          <a:blip r:embed="rId2"/>
          <a:srcRect l="0" t="2750" r="0" b="25856"/>
          <a:stretch/>
        </p:blipFill>
        <p:spPr>
          <a:xfrm>
            <a:off x="0" y="-531720"/>
            <a:ext cx="9144000" cy="489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&amp;Kcy;&amp;acy;&amp;lcy;&amp;iecy;&amp;ncy;&amp;dcy;&amp;acy;&amp;rcy;&amp;softcy; &amp;dcy;&amp;ncy;&amp;iecy;&amp;jcy; &amp;rcy;&amp;ocy;&amp;zhcy;&amp;dcy;&amp;iecy;&amp;ncy;&amp;icy;&amp;jcy;/03 &amp;Icy;&amp;yucy;&amp;ncy;&amp;yacy;"/>
          <p:cNvPicPr/>
          <p:nvPr/>
        </p:nvPicPr>
        <p:blipFill>
          <a:blip r:embed="rId3"/>
          <a:stretch/>
        </p:blipFill>
        <p:spPr>
          <a:xfrm>
            <a:off x="6551640" y="3770280"/>
            <a:ext cx="2484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087640" y="333360"/>
            <a:ext cx="7056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енную важность имеют те методы науки, которые позволяют решать задачу, общую для всей практической деятельности человека, как располагать своими средствами для достижения по возможности большей выгоды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.Л. Чебыш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tomaovsjnka - &amp;Rcy;&amp;ucy;&amp;scy;&amp;scy;&amp;kcy;&amp;icy;&amp;jcy; &amp;mcy;&amp;acy;&amp;tcy;&amp;iecy;&amp;mcy;&amp;acy;&amp;tcy;&amp;icy;&amp;kcy; &amp;icy; &amp;mcy;&amp;iecy;&amp;khcy;&amp;acy;&amp;ncy;&amp;icy;&amp;kcy; &amp;Pcy;&amp;acy;&amp;fcy;&amp;ncy;&amp;ucy;&amp;tcy;&amp;icy;&amp;jcy; &amp;CHcy;&amp;iecy;&amp;bcy;&amp;ycy;&amp;shcy;&amp;iecy;&amp;vcy; (1821 - 1894) &amp;Icy;&amp;ncy;&amp;tcy;&amp;iecy;&amp;rcy;&amp;iecy;&amp;scy;&amp;ncy;&amp;ycy;&amp;iecy; &amp;mcy;&amp;icy;&amp;rcy;&amp;ocy;&amp;vcy;&amp;ycy;&amp;iecy; &amp;ncy;&amp;ocy;&amp;vcy;&amp;ocy;&amp;scy;&amp;tcy;&amp;icy;"/>
          <p:cNvPicPr/>
          <p:nvPr/>
        </p:nvPicPr>
        <p:blipFill>
          <a:blip r:embed="rId2"/>
          <a:stretch/>
        </p:blipFill>
        <p:spPr>
          <a:xfrm>
            <a:off x="684360" y="2349360"/>
            <a:ext cx="3477960" cy="4149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468360" y="4076640"/>
            <a:ext cx="83534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А. Фурсенк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« Новая жизнь потребовала новых знаний. Сегодня, так сказать, бытовая математика нужна практически всем. Математику нужно знать для экономики, для повседневной жизни. Изменения в КИМах – это требование жизн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&amp;Scy;&amp;ocy;&amp;vcy;&amp;iecy;&amp;tcy; &amp;Fcy;&amp;ocy;&amp;ncy;&amp;dcy;&amp;acy;"/>
          <p:cNvPicPr/>
          <p:nvPr/>
        </p:nvPicPr>
        <p:blipFill>
          <a:blip r:embed="rId2"/>
          <a:stretch/>
        </p:blipFill>
        <p:spPr>
          <a:xfrm>
            <a:off x="5219640" y="260280"/>
            <a:ext cx="2952720" cy="394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7345440" cy="388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3419640" y="3959280"/>
            <a:ext cx="572436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&amp;Pcy;&amp;rcy;&amp;iecy;&amp;zcy;&amp;icy;&amp;dcy;&amp;iecy;&amp;ncy;&amp;tcy; &amp;Rcy;&amp;ocy;&amp;scy;&amp;scy;&amp;icy;&amp;icy; &amp;Vcy;&amp;lcy;&amp;acy;&amp;dcy;&amp;icy;&amp;mcy;&amp;icy;&amp;rcy; &amp;Pcy;&amp;ucy;&amp;tcy;&amp;icy;&amp;ncy; &amp;pcy;&amp;ocy;&amp;zcy;&amp;dcy;&amp;rcy;&amp;acy;&amp;vcy;&amp;icy;&amp;lcy; &amp;zhcy;&amp;icy;&amp;tcy;&amp;iecy;&amp;lcy;&amp;iecy;&amp;jcy; &amp;Kcy;&amp;acy;&amp;rcy;&amp;acy;&amp;chcy;&amp;acy;&amp;iecy;&amp;vcy;&amp;ocy;-&amp;CHcy;&amp;iecy;&amp;rcy;&amp;kcy;&amp;iecy;&amp;scy;&amp;icy;&amp;icy; &amp;scy; &amp;Dcy;&amp;ncy;&amp;iecy;&amp;mcy; &amp;Pcy;&amp;ocy;&amp;bcy;&amp;iecy;&amp;dcy;&amp;ycy;"/>
          <p:cNvPicPr/>
          <p:nvPr/>
        </p:nvPicPr>
        <p:blipFill>
          <a:blip r:embed="rId2"/>
          <a:stretch/>
        </p:blipFill>
        <p:spPr>
          <a:xfrm>
            <a:off x="826920" y="620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kul-sh1.ru/images/stories/ege2015/ege_kalend2015.jpg"/>
          <p:cNvPicPr/>
          <p:nvPr/>
        </p:nvPicPr>
        <p:blipFill>
          <a:blip r:embed="rId2"/>
          <a:stretch/>
        </p:blipFill>
        <p:spPr>
          <a:xfrm>
            <a:off x="5003640" y="333360"/>
            <a:ext cx="364356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3" descr=""/>
          <p:cNvPicPr/>
          <p:nvPr/>
        </p:nvPicPr>
        <p:blipFill>
          <a:blip r:embed="rId3"/>
          <a:stretch/>
        </p:blipFill>
        <p:spPr>
          <a:xfrm>
            <a:off x="974880" y="1573200"/>
            <a:ext cx="7132320" cy="115092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4" descr=""/>
          <p:cNvPicPr/>
          <p:nvPr/>
        </p:nvPicPr>
        <p:blipFill>
          <a:blip r:embed="rId4"/>
          <a:stretch/>
        </p:blipFill>
        <p:spPr>
          <a:xfrm>
            <a:off x="139680" y="2498760"/>
            <a:ext cx="8845560" cy="113976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5" descr=""/>
          <p:cNvPicPr/>
          <p:nvPr/>
        </p:nvPicPr>
        <p:blipFill>
          <a:blip r:embed="rId5"/>
          <a:stretch/>
        </p:blipFill>
        <p:spPr>
          <a:xfrm>
            <a:off x="237960" y="3956040"/>
            <a:ext cx="8498160" cy="7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0" y="1197000"/>
            <a:ext cx="3635280" cy="53150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3"/>
          <a:stretch/>
        </p:blipFill>
        <p:spPr>
          <a:xfrm>
            <a:off x="2646360" y="2335320"/>
            <a:ext cx="11928600" cy="4863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611280" y="1125360"/>
            <a:ext cx="88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Закупить стройматериалы на выгодн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. Найти компанию-перевозчика для транспортировки      стройматериалов по самым дешёвым расцен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одключиться к наи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ёвому  Интернет - тарифу 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ой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300720" y="2924280"/>
            <a:ext cx="252720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15:05Z</dcterms:created>
  <dc:creator>Геймер</dc:creator>
  <dc:description/>
  <dc:language>en-US</dc:language>
  <cp:lastModifiedBy>Геймер</cp:lastModifiedBy>
  <dcterms:modified xsi:type="dcterms:W3CDTF">2017-09-10T18:25:45Z</dcterms:modified>
  <cp:revision>40</cp:revision>
  <dc:subject/>
  <dc:title>Слайд 1</dc:title>
</cp:coreProperties>
</file>