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260-4ECE-4223-9C6F-E20C3030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57C-A548-40B4-BFAA-C1F70A74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D50-7B2F-488F-8377-818D574E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90D-0805-4852-B2AD-E5BFEC98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6F5E-CA12-4DC0-BBEB-39C8B979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7047-9210-455A-A6A1-D50BC82E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181A-B99A-4332-A1F9-3803491D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E2C4-9DB4-4A88-9106-6567CD46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E96D-7372-4878-8531-6C064617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0B45-5EE9-40D5-8E86-07971700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6E1F-BF30-4E60-9142-50C77A61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0F8-F1B1-4601-80F5-6EA7A77C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F287-60C2-47B9-8F99-91BDADA4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5B8F-560E-45B8-A67F-20ED510D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96DC-5B37-4EEA-AF95-53647CBB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5EA7-3B1A-4335-903F-D208C7FB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9EF3-F4FA-403C-B0A6-CF41E55F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E9A2F-F785-4920-8BB2-6896CF84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A8776-8CB8-4A0A-AA6C-5D33E4B1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47A76-830B-4E82-967A-34313474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09E5C-C6CC-4DD7-A08C-EF7FBCF8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A555F-C60D-4823-A580-C98CC2E6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7DF-0272-402C-8D96-E34E77C1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D82E2-07C0-44B4-AF47-1B8E078E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B242D-55F5-4BE2-9B9B-C6D989A8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9ECD9-76AB-4F0F-AFCB-E23A2FDD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0BF0D-2B57-40D8-BE1B-9E8D475D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B008F-AC5B-48B3-A54E-76EFF79C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D8FAD-B47D-4974-8BD9-FF168338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11449-045C-404E-AA06-F9A8E0DA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2EA40-186D-43E0-8459-FEB3A12D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6F5BF5-D409-4AB4-BD5B-9561E2D6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EAEBA2-DA16-4610-93F8-ED1A56D4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6A2E-9193-460C-8C1D-456F17A8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AA2457-B236-4BBF-AD59-E881FA5B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09C4E6-7E7F-45E7-96E5-50F28338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35490E-8590-4BEE-93C3-1A461888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41B87-C97A-4045-A247-E1115ABF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03B386-C529-4058-B29A-70BBD603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66B065-B7B2-4604-8311-C0140BA9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9DB41-C2F4-4A9F-8CC5-338E7202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5707D6-CADE-411E-9B19-D143F911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386142-D29F-4172-8D3C-B267CD52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248D9D-5810-4284-8017-2CAFD5B0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854-A9ED-4AB7-BE68-DF85DDB1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71B9C3-5566-4E93-9956-41EB2108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3799A-D6ED-4B55-A736-577EBA83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E5B7E-2C4A-4CE0-9E6E-12582E0B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2BB1A3-4DF8-4434-B7CC-848CBCC2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3B9D4-18F3-4136-A87E-DB3422A7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F5356-077C-4709-A721-1A29B789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E9DFCA-A45C-4C9C-B704-66897022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B61BD-DB35-433E-ABFE-6601DD36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AAAC5-E534-4D66-9127-A2452A71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359A54-131F-4D8E-9893-0FB300CF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D62-3E28-4FE6-84A6-29FD781F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6B096E-A33D-4054-87E0-0EE3A805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65D6D-3F18-484F-9AA0-84BCE34A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35BE0-F2C8-4613-B102-AEEFD585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68982-A53A-4479-A666-CB2D571F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311FC-17D8-4A25-A3E1-70E443B7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1FA5A-5977-47CD-883E-ABE79677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D223F-C8E7-4E79-B914-7584A241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AD143-2160-414A-83D1-C11EBBBD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9B3CF-ABA9-45FC-B1E5-7756A4F8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6A953-D3E7-4F56-B93D-FF0221E4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A64-38C8-4E7E-A9F6-9E863AAA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36F4C-9292-4411-A068-61C7647A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F71C1-9770-42F2-8293-EEFFE61F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E875E-7DA7-46C3-99B2-A4435C20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A6FCB3-2A9C-4C88-95CF-D3C24B6C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27708C-3F25-4E93-ABA8-067BCA24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62BF48-D3EE-495B-A197-9C39BE50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5F15DC-DFC2-4561-8226-037CAAB0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3893BF-A081-455B-B1A2-E7EE7899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772D61-38C9-4337-BD4F-787E871E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A759B3-B4A2-4FFE-9094-2B2962DD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5FB8-08AE-4B45-9D71-1CD6E719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8DBC2B-87DF-496A-83A3-8355490C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0971E2-656A-4CBA-B3FD-A8E241C9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286976-384E-41C7-9889-5D33C103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D73AF-C87E-4806-94DB-167D7297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9B2C67-4BC5-49E2-ABF0-62D91CA8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1F279-E2D1-4C6A-8EDC-136A936E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6B0C8-EEBC-4099-B10C-5E962A7B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AAF22-A7F8-47C2-AD5F-11205A5B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EAD55-3A5E-45D1-8B93-8EF60B46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98502-1FB0-46F4-A6AD-A2F3E17D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32E-6B50-4411-ABFE-64C92C2E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87A08-AD3F-4783-A6F4-6DDF5EEA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1E3D6-B09A-49E9-BF7E-2950E3D9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56171-5D10-415E-8507-AC59F4E7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06A4B-3B06-46CF-A6D1-55DFF0A2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D4606-E184-46EA-888A-D9A4290C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FDCD7-95DD-4A61-B06E-0161E3FA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E7385-6DA8-4C73-A7C3-FEE46733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4FAB-DDD4-47AD-A14C-1320311E371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0BE1-971D-4D5A-9939-F70474101DD7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70FD-0DA0-4794-AE27-38F8BC0F8C6C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B37C-7E87-4E2D-9094-27F1585B8E5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1F44-5C3D-402A-9053-5DD5B7ECFCE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8FAF-6250-4F09-BBFC-E0B24749C840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E99F-D4C9-431E-964F-92812063BD88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D73A-8E40-4E3A-B2D9-76955FC1E2C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1 ПРИРОДНОЕ И ОБЩЕСТВЕННОЕ В ЧЕЛОВЕКЕ (ЧЕЛОВЕК КАК РЕЗУЛЬТАТ БИОЛОГИЧЕСКОЙ И СОЦИОКУЛЬТУРНОЙ ЭВОЛЮЦИИ)</a:t>
            </a:r>
            <a:br>
              <a:rPr sz="4000"/>
            </a:b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АПОУ «Бугульминский строительно-технический колледж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5"/>
          <p:cNvSpPr/>
          <p:nvPr/>
        </p:nvSpPr>
        <p:spPr>
          <a:xfrm>
            <a:off x="0" y="60008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мирнов А.В., кандидат психологических нау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856800" y="2743200"/>
            <a:ext cx="7637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Человек является биологическим видом, происхождение его природное, естественное. Генетически связан с высшими млекопитающими. Эта теория относится к материалистическим теориям (естественнонаучным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785880" y="1600200"/>
            <a:ext cx="8205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еория Эволюции Чарльза Дарвин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(материалистическая).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99680" y="2743200"/>
            <a:ext cx="79945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Фридрих Энгельс заявляет, что главная причина появления человека (точнее, его эволюция) это труд. Под влиянием труда у человека сформировалось сознание, а также язык и творческие способности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856800" y="2743200"/>
            <a:ext cx="7637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Фридрих Энгельс заявляет, что главная причина появления человека (точнее, его эволюция) это труд. Под влиянием труда у человека сформировалось сознание, а также язык и творческие способности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785880" y="1600200"/>
            <a:ext cx="8205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Естественнонаучная теория         Ф. Энгельс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(материалистическая).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928800" y="2743200"/>
            <a:ext cx="75657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еловек по своей сути есть существо _______________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428760" y="1600200"/>
            <a:ext cx="856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еловек — высшая ступень развития живых организмов на Земле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928800" y="2743200"/>
            <a:ext cx="75657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еловек по своей сути есть существо биосоциальное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28760" y="1600200"/>
            <a:ext cx="856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еловек — высшая ступень развития живых организмов на Земле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отличия человека от животного:</a:t>
            </a:r>
            <a:br>
              <a:rPr sz="4400"/>
            </a:b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4"/>
          <p:cNvSpPr/>
          <p:nvPr/>
        </p:nvSpPr>
        <p:spPr>
          <a:xfrm>
            <a:off x="1571760" y="571680"/>
            <a:ext cx="7286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ловек обладает ___________ и членораздельной речью. Только человек может размышлять о своем прошлом, критически оценивая его, и думать о будущем, строя план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4"/>
          <p:cNvSpPr/>
          <p:nvPr/>
        </p:nvSpPr>
        <p:spPr>
          <a:xfrm>
            <a:off x="1571760" y="571680"/>
            <a:ext cx="7286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ловек обладает мышлением и членораздельной речью. Только человек может размышлять о своем прошлом, критически оценивая его, и думать о будущем, строя план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1571760" y="571680"/>
            <a:ext cx="72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ловек способен к сознательной целенаправленной творческ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4"/>
          <p:cNvSpPr/>
          <p:nvPr/>
        </p:nvSpPr>
        <p:spPr>
          <a:xfrm>
            <a:off x="1571760" y="571680"/>
            <a:ext cx="7286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ловек в процессе своей деятельности преобразует окружающую действительность, создает необходимые ему материальные и духовные блага и ценност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еория происхождения человека, суть которой заключается в изучении процесса его возникновения и развития, получила название ___________________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4"/>
          <p:cNvSpPr/>
          <p:nvPr/>
        </p:nvSpPr>
        <p:spPr>
          <a:xfrm>
            <a:off x="1571760" y="571680"/>
            <a:ext cx="7286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ловек способен изготавливать орудия труда и использовать их как средство производства материальных бла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4"/>
          <p:cNvSpPr/>
          <p:nvPr/>
        </p:nvSpPr>
        <p:spPr>
          <a:xfrm>
            <a:off x="1571760" y="571680"/>
            <a:ext cx="7286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ловек воспроизводит не только свою биологическую, но и социальную сущность и поэтому должен удовлетворять не только свои материальные, но и духовные потребност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1071360" y="2743200"/>
            <a:ext cx="742284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человек – существо уникальное (открытое миру, неповторимое, духовно незавершенное)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1071360" y="2743200"/>
            <a:ext cx="742284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существо универсальное (способное к любому виду деятельности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071360" y="2743200"/>
            <a:ext cx="742284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существо целостное (интегрирует (соединяет) в себе физическое, психическое и духовное начало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000080" y="2742840"/>
            <a:ext cx="749448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Общественное и индивидуальное созн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Самосознание индивида и социальное повед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готовиться к устному зачету по темам: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85480" y="714240"/>
            <a:ext cx="870588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нтропогенез (от гр. anthropos — человек и genesis — происхождение).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Существует несколько подходов к решению вопроса о происхождении человека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856800" y="2743200"/>
            <a:ext cx="7637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дразумевает божественное происхождение человека. Душа – источник человеческого в человек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856800" y="2743200"/>
            <a:ext cx="7637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дразумевает божественное происхождение человека. Душа – источник человеческого в человек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85480" y="1600200"/>
            <a:ext cx="870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елигиозная теори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(божественная; теологическая)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99680" y="2743200"/>
            <a:ext cx="79945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Суть теории состоит в том, что человек является существом внеземным, пришельцы из космоса, посетив Землю, оставили на ней человеческие существа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856800" y="2743200"/>
            <a:ext cx="7637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Суть теории состоит в том, что человек является существом внеземным, пришельцы из космоса, посетив Землю, оставили на ней человеческие существа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1356840" y="1600200"/>
            <a:ext cx="76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Теория палеовизита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99680" y="2743200"/>
            <a:ext cx="79945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 является биологическим видом, происхождение его природное, естественное. Генетически связан с высшими млекопитающими. Эта теория относится к материалистическим теориям (естественнонаучным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1T16:20:49Z</dcterms:created>
  <dc:creator>Admin</dc:creator>
  <dc:description/>
  <dc:language>en-US</dc:language>
  <cp:lastModifiedBy>Admin</cp:lastModifiedBy>
  <dcterms:modified xsi:type="dcterms:W3CDTF">2017-09-11T16:51:04Z</dcterms:modified>
  <cp:revision>18</cp:revision>
  <dc:subject/>
  <dc:title>1 Природное и общественное в человеке (человек как результат биологической и социокультурной эволюции) </dc:title>
</cp:coreProperties>
</file>