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6.gif" ContentType="image/gif"/>
  <Override PartName="/ppt/media/image25.png" ContentType="image/png"/>
  <Override PartName="/ppt/media/image2.gif" ContentType="image/gif"/>
  <Override PartName="/ppt/media/image19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35.png" ContentType="image/png"/>
  <Override PartName="/ppt/media/image13.jpeg" ContentType="image/jpeg"/>
  <Override PartName="/ppt/media/image23.png" ContentType="image/png"/>
  <Override PartName="/ppt/media/image30.png" ContentType="image/png"/>
  <Override PartName="/ppt/media/image31.png" ContentType="image/png"/>
  <Override PartName="/ppt/media/image3.png" ContentType="image/png"/>
  <Override PartName="/ppt/media/image26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0.png" ContentType="image/png"/>
  <Override PartName="/ppt/media/image4.gif" ContentType="image/gif"/>
  <Override PartName="/ppt/media/image33.jpeg" ContentType="image/jpeg"/>
  <Override PartName="/ppt/media/image27.png" ContentType="image/png"/>
  <Override PartName="/ppt/media/image24.png" ContentType="image/png"/>
  <Override PartName="/ppt/media/image1.gif" ContentType="image/gif"/>
  <Override PartName="/ppt/media/image15.jpeg" ContentType="image/jpeg"/>
  <Override PartName="/ppt/media/image16.png" ContentType="image/png"/>
  <Override PartName="/ppt/media/image17.png" ContentType="image/pn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292-C244-41FE-8D81-F0BBA224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265-BDB2-460E-B64B-6C6916D6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D9C-F22F-415B-ABD2-74153374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17E-2965-4BAC-B2DC-92C2CD6A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A7C-E170-4573-88DE-CAAA6766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9D7-1736-4B76-8723-1FD2E35B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D68-E677-4702-BD5C-70DEE8D0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CC8-8658-4558-9527-D24E4E04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937-7245-4818-9630-5F9FA4F4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1F7-25E9-43CF-9990-CAA60DB5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528-A5C9-43B6-A079-3430C99B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67A-16AA-4046-B86E-7E584978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E757-7C61-433E-8DE4-139DE9B9C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678168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2209680"/>
            <a:ext cx="80010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Wir fahren in eine alte deutsche Stadt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14600" y="121932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Auf  der  Straße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2494080" cy="2362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14600" y="15228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latin typeface="Monotype Corsiva"/>
              </a:rPr>
              <a:t>Wernigerode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993300"/>
              </a:solidFill>
              <a:latin typeface="Monotype Corsiva"/>
              <a:ea typeface="Monotype Corsiv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1600200" cy="17748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57600" y="4191120"/>
            <a:ext cx="1676520" cy="16761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629400" y="3962520"/>
            <a:ext cx="1677960" cy="19810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762120" y="3886200"/>
            <a:ext cx="1753920" cy="20574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391520" y="1295280"/>
            <a:ext cx="1447560" cy="16765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5181480" y="1066680"/>
            <a:ext cx="1517760" cy="17528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666880" y="1066680"/>
            <a:ext cx="1524240" cy="17528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533520" y="31240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Georgia"/>
              </a:rPr>
              <a:t>Bru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297180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Georgia"/>
              </a:rPr>
              <a:t>West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297180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Georgia"/>
              </a:rPr>
              <a:t>Kleinstes H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15240" y="312408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Georgia"/>
              </a:rPr>
              <a:t>Harz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6095880"/>
            <a:ext cx="20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Georgia"/>
              </a:rPr>
              <a:t>Gotisches H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601992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Georgia"/>
              </a:rPr>
              <a:t>Nikolaipla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Georgia"/>
              </a:rPr>
              <a:t>Dorfki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500"/>
                            </p:stCondLst>
                            <p:childTnLst>
                              <p:par>
                                <p:cTn id="3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38280" y="609480"/>
            <a:ext cx="5029200" cy="571500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38080" y="1066680"/>
            <a:ext cx="571680" cy="533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710400">
            <a:off x="6553080" y="2895480"/>
            <a:ext cx="1981440" cy="16401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720600">
            <a:off x="5028840" y="4952520"/>
            <a:ext cx="1903320" cy="15242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21007200">
            <a:off x="685800" y="533160"/>
            <a:ext cx="2050920" cy="16891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733920" y="304920"/>
            <a:ext cx="2057400" cy="16761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 rot="640200">
            <a:off x="6705360" y="618840"/>
            <a:ext cx="1977840" cy="16207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 rot="20761800">
            <a:off x="1980720" y="4952520"/>
            <a:ext cx="1905120" cy="15242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7">
            <a:lum contrast="12000"/>
          </a:blip>
          <a:stretch/>
        </p:blipFill>
        <p:spPr>
          <a:xfrm rot="20964600">
            <a:off x="685800" y="2819160"/>
            <a:ext cx="1986120" cy="16509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3733920" y="2590920"/>
            <a:ext cx="1962000" cy="16002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</p:spTree>
  </p:cSld>
  <p:transition spd="med">
    <p:cover dir="l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657600" cy="38862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3810240" cy="41245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7620120" y="2590920"/>
            <a:ext cx="838080" cy="7617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762120"/>
            <a:ext cx="838440" cy="7617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cc9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36576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4343400" cy="35816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685800" y="838080"/>
            <a:ext cx="838080" cy="7621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5334120"/>
            <a:ext cx="838080" cy="7617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cc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28600" y="304920"/>
            <a:ext cx="3809880" cy="40384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800600" y="1905120"/>
            <a:ext cx="3886200" cy="46101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304920" y="380880"/>
            <a:ext cx="838080" cy="7621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2209680"/>
            <a:ext cx="838080" cy="7621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4920" y="380880"/>
            <a:ext cx="3886200" cy="40388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724280" y="2743200"/>
            <a:ext cx="3962520" cy="38862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533520" y="3505320"/>
            <a:ext cx="838080" cy="7617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48720" y="5867280"/>
            <a:ext cx="838080" cy="7621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228600"/>
          <a:ext cx="8229600" cy="584280"/>
        </p:xfrm>
        <a:graphic>
          <a:graphicData uri="http://schemas.openxmlformats.org/drawingml/2006/table">
            <a:tbl>
              <a:tblPr/>
              <a:tblGrid>
                <a:gridCol w="660240"/>
                <a:gridCol w="758880"/>
                <a:gridCol w="754200"/>
                <a:gridCol w="758880"/>
                <a:gridCol w="753840"/>
                <a:gridCol w="760680"/>
                <a:gridCol w="757080"/>
                <a:gridCol w="739800"/>
                <a:gridCol w="771480"/>
                <a:gridCol w="757440"/>
                <a:gridCol w="7570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2286000" cy="20574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 rot="20741400">
            <a:off x="457200" y="1523520"/>
            <a:ext cx="2286000" cy="21034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rot="20739600">
            <a:off x="1512720" y="3962160"/>
            <a:ext cx="2519640" cy="23637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 rot="1189200">
            <a:off x="5167080" y="4111560"/>
            <a:ext cx="2514600" cy="22860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 rot="1105800">
            <a:off x="6321240" y="1611360"/>
            <a:ext cx="2361960" cy="20574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981080" y="3808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14300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049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30492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380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380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01000" y="380880"/>
            <a:ext cx="6094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80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59436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) Begegnung          b) Bekanntschaft          c) Ein Tourist möchte wi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00400" y="762120"/>
            <a:ext cx="3352680" cy="4800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1-10-07T20:50:3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