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5.png" ContentType="image/png"/>
  <Override PartName="/ppt/media/image2.gif" ContentType="image/gif"/>
  <Override PartName="/ppt/media/image19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27.png" ContentType="image/png"/>
  <Override PartName="/ppt/media/image24.png" ContentType="image/png"/>
  <Override PartName="/ppt/media/image1.gif" ContentType="image/gif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135-5A3B-4E41-8EC8-BE28B5DB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B63-FBCD-48CE-9554-A3AE7E8E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761-8EF7-446B-ACB5-84DA9427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338-95AB-4125-B717-0571363A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0BB-89EF-409C-9BE5-F5F9EB7A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628-E4AB-4D86-A792-6785D6E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EF9-7828-4C65-BC88-8817524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B68-14E8-4912-9FBD-DF29D566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652-2C92-4731-8B0D-3C82AD4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F69-54D3-4A59-AF3B-0FCEA2F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839-D449-40DF-89A3-26ACDAC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32F-F1D5-481D-90AB-6788DBB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32B7-2D72-4CBE-B5AC-AD325DE4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78168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209680"/>
            <a:ext cx="80010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Wir fahren in eine alte deutsche Stadt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14600" y="12193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Auf  der  Straße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49408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14600" y="1522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latin typeface="Monotype Corsiva"/>
              </a:rPr>
              <a:t>Wernigerode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993300"/>
              </a:solidFill>
              <a:latin typeface="Monotype Corsiva"/>
              <a:ea typeface="Monotype Corsiv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600200" cy="17748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1676520" cy="16761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1677960" cy="19810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762120" y="3886200"/>
            <a:ext cx="1753920" cy="205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91520" y="1295280"/>
            <a:ext cx="1447560" cy="1676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181480" y="1066680"/>
            <a:ext cx="1517760" cy="1752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666880" y="1066680"/>
            <a:ext cx="1524240" cy="1752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33520" y="3124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Br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9718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West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97180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Kleinstes 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15240" y="31240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Harz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5880"/>
            <a:ext cx="20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Gotisches 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601992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Nikolaipl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Dorf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5029200" cy="57150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57168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710400">
            <a:off x="6553080" y="2895480"/>
            <a:ext cx="1981440" cy="1640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720600">
            <a:off x="5028840" y="4952520"/>
            <a:ext cx="1903320" cy="1524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007200">
            <a:off x="685800" y="533160"/>
            <a:ext cx="2050920" cy="16891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33920" y="304920"/>
            <a:ext cx="2057400" cy="1676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640200">
            <a:off x="6705360" y="618840"/>
            <a:ext cx="1977840" cy="1620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20761800">
            <a:off x="1980720" y="4952520"/>
            <a:ext cx="1905120" cy="1524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>
            <a:lum contrast="12000"/>
          </a:blip>
          <a:stretch/>
        </p:blipFill>
        <p:spPr>
          <a:xfrm rot="20964600">
            <a:off x="685800" y="2819160"/>
            <a:ext cx="1986120" cy="1650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733920" y="2590920"/>
            <a:ext cx="1962000" cy="1600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p:transition spd="med"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657600" cy="3886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10240" cy="41245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7620120" y="25909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762120"/>
            <a:ext cx="83844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6576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343400" cy="3581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85800" y="8380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53341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304920"/>
            <a:ext cx="3809880" cy="4038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00600" y="1905120"/>
            <a:ext cx="3886200" cy="4610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2096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380880"/>
            <a:ext cx="3886200" cy="403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24280" y="2743200"/>
            <a:ext cx="3962520" cy="3886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33520" y="35053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58672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28600"/>
          <a:ext cx="8229600" cy="584280"/>
        </p:xfrm>
        <a:graphic>
          <a:graphicData uri="http://schemas.openxmlformats.org/drawingml/2006/table">
            <a:tbl>
              <a:tblPr/>
              <a:tblGrid>
                <a:gridCol w="660240"/>
                <a:gridCol w="758880"/>
                <a:gridCol w="754200"/>
                <a:gridCol w="758880"/>
                <a:gridCol w="753840"/>
                <a:gridCol w="760680"/>
                <a:gridCol w="757080"/>
                <a:gridCol w="739800"/>
                <a:gridCol w="771480"/>
                <a:gridCol w="757440"/>
                <a:gridCol w="7570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286000" cy="2057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0741400">
            <a:off x="457200" y="1523520"/>
            <a:ext cx="2286000" cy="2103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739600">
            <a:off x="1512720" y="3962160"/>
            <a:ext cx="2519640" cy="2363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 rot="1189200">
            <a:off x="5167080" y="4111560"/>
            <a:ext cx="2514600" cy="22860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 rot="1105800">
            <a:off x="6321240" y="1611360"/>
            <a:ext cx="2361960" cy="2057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81080" y="3808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04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04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80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380880"/>
            <a:ext cx="6094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) Begegnung          b) Bekanntschaft          c) Ein Tourist möchte w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3352680" cy="480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1-10-07T20:50:3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