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6.png" ContentType="image/png"/>
  <Override PartName="/ppt/media/image7.gif" ContentType="image/gi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107-9AB9-44C6-8DA6-59A8742D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C2C-9929-4003-B79B-C87069EE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1F0-B7A0-468F-80A6-C3A5E3E4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EF8-761D-4558-9B01-A01C6138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3104-3829-4C4A-8730-7F59A15E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6108-1357-4D6F-BE3D-F8D3FFED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257B-FC19-4298-9BDF-9479E76C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46C7-0B95-437E-992E-6DDE9553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EBCF-4F63-42B3-AB85-320CE2A7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FBB4-1D14-46B7-90F0-B08C304B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517D-65F3-42B7-A57A-2CF1B755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78B-4A0C-4C9D-B4ED-8F67147D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C4DD-B9A0-4E75-8C53-4EB888D5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5E2D-2B46-4A0D-8DA2-68B677F3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338B-04F9-404E-ABE6-F518D284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C3E4-4D95-4C45-B36C-75BB16CE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0116-6393-49B6-A4A9-A3DBB1A1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BDF7D-3C7B-4BB9-B33C-D94C609F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0681C-4A3D-40B1-98AE-543987C7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482A-13F2-43C7-9B7D-98F9E40E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44DBB-B739-47F8-83DB-2E8A89C8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545C3-67E8-44D6-9639-58280BCB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9C6-FDF9-490B-9F9C-555D3A8E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776A-3232-4D28-9542-7AE88F47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BD690-0917-465D-B5C5-1A84506D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625E2-3222-4C6F-A062-450C18F2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2A89-36BA-429F-BA09-6CD4EF0E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5C97B-3072-4131-958E-A4CF62D4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059D-3D0D-44B5-816D-AB1BDBE6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49519-5F89-4BA6-9577-E3D62E1C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E54E4-6FD9-41D2-BC56-755E9488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FEAB-CA6E-46BE-9BAE-01A44733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69D04-4A96-4A60-98D6-60EE1ABB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CC2-D08B-4D75-8B1F-C4D82E59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44532-7591-4B74-9EE4-630D1FF8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4263D-956E-4AF4-9EEE-09824094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B7BC6-39B4-4E3F-AE67-428E4DB6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85E9B-47A0-43AB-8076-67787E97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FD6CA-12C2-41F4-801B-196EA3CA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D11C0-24CD-4383-8397-1C5976E4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17C9F-92C6-44AA-A144-873B787E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22937-37F4-42FB-AA8A-D03A95BF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5957F-FE35-4E6D-8368-935424C0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263-3FFE-410E-9230-732EB039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5A9-353F-4A23-84D1-30B423E8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7A7-A6B0-4BB2-8D51-1196B2D8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4DA6-6B30-4974-AFB8-712B835C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0B9-C1BD-4FC2-9A9A-44E79D94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638B-1CFC-4A01-8AAE-70FFC0C5C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D251-5293-4B37-9AB6-92FBF21B688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7C93-E35D-46E9-81E1-6EF2C96BC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2C45-9527-4848-9179-212B7827355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1332000" y="2060640"/>
            <a:ext cx="705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метрия вокруг на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AutoShape 33"/>
          <p:cNvSpPr/>
          <p:nvPr/>
        </p:nvSpPr>
        <p:spPr>
          <a:xfrm>
            <a:off x="900000" y="4076640"/>
            <a:ext cx="576360" cy="1081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44"/>
          <p:cNvSpPr/>
          <p:nvPr/>
        </p:nvSpPr>
        <p:spPr>
          <a:xfrm>
            <a:off x="6372360" y="549360"/>
            <a:ext cx="360360" cy="71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7"/>
          <p:cNvSpPr/>
          <p:nvPr/>
        </p:nvSpPr>
        <p:spPr>
          <a:xfrm>
            <a:off x="3708360" y="4797360"/>
            <a:ext cx="647640" cy="1368360"/>
          </a:xfrm>
          <a:prstGeom prst="diamond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48"/>
          <p:cNvSpPr/>
          <p:nvPr/>
        </p:nvSpPr>
        <p:spPr>
          <a:xfrm>
            <a:off x="900000" y="549360"/>
            <a:ext cx="792360" cy="86364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9" name="Picture 52" descr="connected_multiple_big"/>
          <p:cNvPicPr/>
          <p:nvPr/>
        </p:nvPicPr>
        <p:blipFill>
          <a:blip r:embed="rId1"/>
          <a:stretch/>
        </p:blipFill>
        <p:spPr>
          <a:xfrm>
            <a:off x="7599240" y="404640"/>
            <a:ext cx="1157400" cy="13687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3"/>
          <p:cNvSpPr/>
          <p:nvPr/>
        </p:nvSpPr>
        <p:spPr>
          <a:xfrm>
            <a:off x="3635280" y="765000"/>
            <a:ext cx="865440" cy="64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54"/>
          <p:cNvSpPr/>
          <p:nvPr/>
        </p:nvSpPr>
        <p:spPr>
          <a:xfrm>
            <a:off x="324000" y="5734080"/>
            <a:ext cx="47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тясова Е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СОШ 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5" descr="методисты"/>
          <p:cNvPicPr/>
          <p:nvPr/>
        </p:nvPicPr>
        <p:blipFill>
          <a:blip r:embed="rId2"/>
          <a:stretch/>
        </p:blipFill>
        <p:spPr>
          <a:xfrm>
            <a:off x="7500960" y="5013360"/>
            <a:ext cx="866880" cy="129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997000"/>
            <a:ext cx="7559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рисуй две точ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оведи через них ли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ямая линия у на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рисовалась в первый раз!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17" descr="методисты"/>
          <p:cNvPicPr/>
          <p:nvPr/>
        </p:nvPicPr>
        <p:blipFill>
          <a:blip r:embed="rId2"/>
          <a:stretch/>
        </p:blipFill>
        <p:spPr>
          <a:xfrm>
            <a:off x="7812000" y="4437000"/>
            <a:ext cx="1096920" cy="1368360"/>
          </a:xfrm>
          <a:prstGeom prst="rect">
            <a:avLst/>
          </a:prstGeom>
          <a:ln w="0">
            <a:noFill/>
          </a:ln>
        </p:spPr>
      </p:pic>
      <p:sp>
        <p:nvSpPr>
          <p:cNvPr id="246" name="Line 18"/>
          <p:cNvSpPr/>
          <p:nvPr/>
        </p:nvSpPr>
        <p:spPr>
          <a:xfrm flipV="1">
            <a:off x="5508720" y="2997000"/>
            <a:ext cx="358560" cy="431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5867280" y="2997360"/>
            <a:ext cx="505080" cy="7920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20"/>
          <p:cNvSpPr/>
          <p:nvPr/>
        </p:nvSpPr>
        <p:spPr>
          <a:xfrm flipV="1">
            <a:off x="6372360" y="2349360"/>
            <a:ext cx="792000" cy="14400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21"/>
          <p:cNvSpPr/>
          <p:nvPr/>
        </p:nvSpPr>
        <p:spPr>
          <a:xfrm>
            <a:off x="7164360" y="2349360"/>
            <a:ext cx="503280" cy="935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 flipV="1">
            <a:off x="7667640" y="2636640"/>
            <a:ext cx="1225440" cy="647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26"/>
          <p:cNvSpPr/>
          <p:nvPr/>
        </p:nvSpPr>
        <p:spPr>
          <a:xfrm>
            <a:off x="7451640" y="4076640"/>
            <a:ext cx="1800" cy="144360"/>
          </a:xfrm>
          <a:custGeom>
            <a:avLst/>
            <a:gdLst/>
            <a:ahLst/>
            <a:rect l="l" t="t" r="r" b="b"/>
            <a:pathLst>
              <a:path w="1" h="91">
                <a:moveTo>
                  <a:pt x="0" y="91"/>
                </a:moveTo>
                <a:cubicBezTo>
                  <a:pt x="0" y="91"/>
                  <a:pt x="0" y="0"/>
                  <a:pt x="0" y="0"/>
                </a:cubicBezTo>
                <a:cubicBezTo>
                  <a:pt x="0" y="0"/>
                  <a:pt x="0" y="91"/>
                  <a:pt x="0" y="91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reeform 29"/>
          <p:cNvSpPr/>
          <p:nvPr/>
        </p:nvSpPr>
        <p:spPr>
          <a:xfrm>
            <a:off x="5435640" y="3813120"/>
            <a:ext cx="2016000" cy="982800"/>
          </a:xfrm>
          <a:custGeom>
            <a:avLst/>
            <a:gdLst/>
            <a:ahLst/>
            <a:rect l="l" t="t" r="r" b="b"/>
            <a:pathLst>
              <a:path w="1270" h="619">
                <a:moveTo>
                  <a:pt x="0" y="393"/>
                </a:moveTo>
                <a:cubicBezTo>
                  <a:pt x="41" y="314"/>
                  <a:pt x="83" y="235"/>
                  <a:pt x="136" y="212"/>
                </a:cubicBezTo>
                <a:cubicBezTo>
                  <a:pt x="189" y="189"/>
                  <a:pt x="258" y="197"/>
                  <a:pt x="318" y="257"/>
                </a:cubicBezTo>
                <a:cubicBezTo>
                  <a:pt x="378" y="317"/>
                  <a:pt x="446" y="529"/>
                  <a:pt x="499" y="574"/>
                </a:cubicBezTo>
                <a:cubicBezTo>
                  <a:pt x="552" y="619"/>
                  <a:pt x="605" y="566"/>
                  <a:pt x="635" y="529"/>
                </a:cubicBezTo>
                <a:cubicBezTo>
                  <a:pt x="665" y="492"/>
                  <a:pt x="658" y="423"/>
                  <a:pt x="681" y="348"/>
                </a:cubicBezTo>
                <a:cubicBezTo>
                  <a:pt x="704" y="273"/>
                  <a:pt x="733" y="129"/>
                  <a:pt x="771" y="76"/>
                </a:cubicBezTo>
                <a:cubicBezTo>
                  <a:pt x="809" y="23"/>
                  <a:pt x="870" y="0"/>
                  <a:pt x="908" y="30"/>
                </a:cubicBezTo>
                <a:cubicBezTo>
                  <a:pt x="946" y="60"/>
                  <a:pt x="975" y="181"/>
                  <a:pt x="998" y="257"/>
                </a:cubicBezTo>
                <a:cubicBezTo>
                  <a:pt x="1021" y="333"/>
                  <a:pt x="1029" y="439"/>
                  <a:pt x="1044" y="484"/>
                </a:cubicBezTo>
                <a:cubicBezTo>
                  <a:pt x="1059" y="529"/>
                  <a:pt x="1066" y="522"/>
                  <a:pt x="1089" y="529"/>
                </a:cubicBezTo>
                <a:cubicBezTo>
                  <a:pt x="1112" y="536"/>
                  <a:pt x="1150" y="567"/>
                  <a:pt x="1180" y="529"/>
                </a:cubicBezTo>
                <a:cubicBezTo>
                  <a:pt x="1210" y="491"/>
                  <a:pt x="1255" y="370"/>
                  <a:pt x="1270" y="302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>
            <a:off x="755640" y="5950080"/>
            <a:ext cx="712800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1116000" y="189000"/>
            <a:ext cx="7201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очки. Лин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яма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611280" y="333360"/>
            <a:ext cx="633708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уч     Углы</a:t>
            </a:r>
            <a:endParaRPr b="1" i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Line 14"/>
          <p:cNvSpPr/>
          <p:nvPr/>
        </p:nvSpPr>
        <p:spPr>
          <a:xfrm flipH="1">
            <a:off x="6156360" y="692280"/>
            <a:ext cx="2232000" cy="223200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>
            <a:off x="8388360" y="765000"/>
            <a:ext cx="503280" cy="266544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539640" y="2708280"/>
            <a:ext cx="6337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 вершины по луч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вно с горки пока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ько луч теперь- «она»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зовётся «сторон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1" descr="методисты"/>
          <p:cNvPicPr/>
          <p:nvPr/>
        </p:nvPicPr>
        <p:blipFill>
          <a:blip r:embed="rId2"/>
          <a:stretch/>
        </p:blipFill>
        <p:spPr>
          <a:xfrm>
            <a:off x="7885080" y="4941720"/>
            <a:ext cx="901800" cy="1440000"/>
          </a:xfrm>
          <a:prstGeom prst="rect">
            <a:avLst/>
          </a:prstGeom>
          <a:ln w="0">
            <a:noFill/>
          </a:ln>
        </p:spPr>
      </p:pic>
      <p:sp>
        <p:nvSpPr>
          <p:cNvPr id="262" name="Oval 24"/>
          <p:cNvSpPr/>
          <p:nvPr/>
        </p:nvSpPr>
        <p:spPr>
          <a:xfrm>
            <a:off x="8317080" y="69228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25"/>
          <p:cNvSpPr/>
          <p:nvPr/>
        </p:nvSpPr>
        <p:spPr>
          <a:xfrm>
            <a:off x="7020000" y="2637000"/>
            <a:ext cx="129708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26"/>
          <p:cNvSpPr/>
          <p:nvPr/>
        </p:nvSpPr>
        <p:spPr>
          <a:xfrm>
            <a:off x="8317080" y="2637000"/>
            <a:ext cx="0" cy="107928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27"/>
          <p:cNvSpPr/>
          <p:nvPr/>
        </p:nvSpPr>
        <p:spPr>
          <a:xfrm>
            <a:off x="6300720" y="3284640"/>
            <a:ext cx="1366920" cy="649080"/>
          </a:xfrm>
          <a:prstGeom prst="line">
            <a:avLst/>
          </a:prstGeom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28"/>
          <p:cNvSpPr/>
          <p:nvPr/>
        </p:nvSpPr>
        <p:spPr>
          <a:xfrm flipH="1">
            <a:off x="7380360" y="3933720"/>
            <a:ext cx="287280" cy="1511280"/>
          </a:xfrm>
          <a:prstGeom prst="line">
            <a:avLst/>
          </a:prstGeom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29"/>
          <p:cNvSpPr/>
          <p:nvPr/>
        </p:nvSpPr>
        <p:spPr>
          <a:xfrm>
            <a:off x="8244000" y="2565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30"/>
          <p:cNvSpPr/>
          <p:nvPr/>
        </p:nvSpPr>
        <p:spPr>
          <a:xfrm>
            <a:off x="7596360" y="3860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1"/>
          <p:cNvSpPr/>
          <p:nvPr/>
        </p:nvSpPr>
        <p:spPr>
          <a:xfrm flipV="1">
            <a:off x="539640" y="1844640"/>
            <a:ext cx="3240360" cy="144000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32"/>
          <p:cNvSpPr/>
          <p:nvPr/>
        </p:nvSpPr>
        <p:spPr>
          <a:xfrm>
            <a:off x="3708360" y="1773360"/>
            <a:ext cx="144360" cy="14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aa2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ы на меня, ты на него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всех нас посмотр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нас всего, у нас всего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нас всего по тр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ри стороны и три уг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столько же верши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трижды- трудные де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ы трижды соверши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WordArt 4"/>
          <p:cNvSpPr txBox="1"/>
          <p:nvPr/>
        </p:nvSpPr>
        <p:spPr>
          <a:xfrm>
            <a:off x="1116000" y="333360"/>
            <a:ext cx="6478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еугольники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580000" y="1844640"/>
            <a:ext cx="1728720" cy="86364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7164360" y="3716280"/>
            <a:ext cx="649440" cy="1800360"/>
          </a:xfrm>
          <a:prstGeom prst="rtTriangle">
            <a:avLst/>
          </a:prstGeom>
          <a:solidFill>
            <a:srgbClr val="ffe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5364000" y="3573360"/>
            <a:ext cx="792360" cy="1656000"/>
          </a:xfrm>
          <a:prstGeom prst="flowChartMerge">
            <a:avLst/>
          </a:prstGeom>
          <a:solidFill>
            <a:srgbClr val="ffe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17"/>
          <p:cNvSpPr txBox="1"/>
          <p:nvPr/>
        </p:nvSpPr>
        <p:spPr>
          <a:xfrm>
            <a:off x="971640" y="0"/>
            <a:ext cx="54943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тырёхугольники</a:t>
            </a:r>
            <a:endParaRPr b="0" lang="en-US" sz="1800" spc="1" strike="noStrike">
              <a:ln w="0">
                <a:noFill/>
              </a:ln>
              <a:solidFill>
                <a:srgbClr val="00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8" name="AutoShape 22"/>
          <p:cNvSpPr/>
          <p:nvPr/>
        </p:nvSpPr>
        <p:spPr>
          <a:xfrm>
            <a:off x="5003640" y="2997360"/>
            <a:ext cx="2160720" cy="1584000"/>
          </a:xfrm>
          <a:prstGeom prst="parallelogram">
            <a:avLst>
              <a:gd name="adj" fmla="val 3410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24"/>
          <p:cNvSpPr/>
          <p:nvPr/>
        </p:nvSpPr>
        <p:spPr>
          <a:xfrm>
            <a:off x="6948360" y="4076640"/>
            <a:ext cx="1295640" cy="2376720"/>
          </a:xfrm>
          <a:prstGeom prst="diamond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6804000" y="907920"/>
            <a:ext cx="1944720" cy="1152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8101080" y="2708280"/>
            <a:ext cx="79200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7"/>
          <p:cNvSpPr/>
          <p:nvPr/>
        </p:nvSpPr>
        <p:spPr>
          <a:xfrm>
            <a:off x="684360" y="1341360"/>
            <a:ext cx="3816360" cy="73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ачерти прямоугольн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кажи вершины и стороны прямоуголь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смотри на другие четырёхугольн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считай сколько вершин и сторон у каждого четырёхуголь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колобок"/>
          <p:cNvPicPr/>
          <p:nvPr/>
        </p:nvPicPr>
        <p:blipFill>
          <a:blip r:embed="rId1"/>
          <a:stretch/>
        </p:blipFill>
        <p:spPr>
          <a:xfrm>
            <a:off x="6443640" y="184320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394920" y="4436640"/>
            <a:ext cx="7056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Круг- всем ребятам д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Окружность и круг появились не вд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Здесь ты видишь окружность и к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Самое главное то, что окружность- вок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WordArt 4"/>
          <p:cNvSpPr txBox="1"/>
          <p:nvPr/>
        </p:nvSpPr>
        <p:spPr>
          <a:xfrm>
            <a:off x="5076720" y="189000"/>
            <a:ext cx="36496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р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7" name="Oval 5"/>
          <p:cNvSpPr/>
          <p:nvPr/>
        </p:nvSpPr>
        <p:spPr>
          <a:xfrm>
            <a:off x="611280" y="1844640"/>
            <a:ext cx="2374920" cy="237636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3419640" y="1773360"/>
            <a:ext cx="2665080" cy="259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WordArt 8"/>
          <p:cNvSpPr txBox="1"/>
          <p:nvPr/>
        </p:nvSpPr>
        <p:spPr>
          <a:xfrm>
            <a:off x="250920" y="333360"/>
            <a:ext cx="402912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кружность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осмотри вок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акие геометрические фигуры тебя окружают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оставь на бумаге три точки. Соедини их отрез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акая фигура получилась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Раздели треугольник на две равные ч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колько треугольников получилось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WordArt 4"/>
          <p:cNvSpPr txBox="1"/>
          <p:nvPr/>
        </p:nvSpPr>
        <p:spPr>
          <a:xfrm>
            <a:off x="2627280" y="404640"/>
            <a:ext cx="460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полни зад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2" name="Picture 5" descr="nambe3"/>
          <p:cNvPicPr/>
          <p:nvPr/>
        </p:nvPicPr>
        <p:blipFill>
          <a:blip r:embed="rId2"/>
          <a:stretch/>
        </p:blipFill>
        <p:spPr>
          <a:xfrm>
            <a:off x="6396120" y="3753000"/>
            <a:ext cx="2633760" cy="27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4"/>
          <p:cNvSpPr txBox="1"/>
          <p:nvPr/>
        </p:nvSpPr>
        <p:spPr>
          <a:xfrm>
            <a:off x="1547640" y="54936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 себ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WordArt 8"/>
          <p:cNvSpPr txBox="1"/>
          <p:nvPr/>
        </p:nvSpPr>
        <p:spPr>
          <a:xfrm>
            <a:off x="1843200" y="2003400"/>
            <a:ext cx="545760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боту выполнил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 высшей категории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УСОШ 40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тясова Елена Ивановна.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07:22:58Z</dcterms:created>
  <dc:creator>_</dc:creator>
  <dc:description/>
  <dc:language>en-US</dc:language>
  <cp:lastModifiedBy>user</cp:lastModifiedBy>
  <dcterms:modified xsi:type="dcterms:W3CDTF">2017-09-07T16:06:05Z</dcterms:modified>
  <cp:revision>32</cp:revision>
  <dc:subject/>
  <dc:title>Слайд 1</dc:title>
</cp:coreProperties>
</file>