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4.jpeg" ContentType="image/jpeg"/>
  <Override PartName="/ppt/media/image8.gif" ContentType="image/gif"/>
  <Override PartName="/ppt/media/image6.png" ContentType="image/png"/>
  <Override PartName="/ppt/media/image7.gif" ContentType="image/gif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6489-9DF1-46C5-BAFB-0B624EE32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7A0B-DBBA-45E1-B96D-E89B6168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0B20-5182-40C5-8E80-0FE66887A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F8CB-CB89-41D9-B530-CEC4B16AF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A9DE-F055-4764-8E56-0B55A9C1E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ACF1A-038A-4781-AA48-F3962C3F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0829E-8929-454D-876E-5C3856D1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BAE04-B0A6-4CD5-8839-734EA3B3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B84B-9DFC-42C8-A1BA-36038BF8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D3D3-ED0C-4F79-B268-F90F415E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2E90-67A3-4894-91B6-13296387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3A00-402E-466F-A745-EB22A6BE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3D66-3191-486D-83C3-4D9274D9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17ED-5772-46D8-9FBE-1EB410C6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75EA-8FF9-4B62-8C01-0BE125CC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B20D-B4DF-42BC-BD99-F3374494D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DCA3-BE33-4724-B8A7-06D828A55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27FBF-10A0-4477-835D-2A6E959E3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D7D83-EDCB-481C-8BAE-E1AC6951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6D192-4E1C-4A78-85DB-0A3D4A32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2B6C5-E9E1-4446-9A89-BD4F7472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6EF79-6435-4AD9-99F9-F671B6B2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2172-0AAB-4D75-A574-34AD5197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098FD-2B9F-4938-AD73-1B20078E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0A681-8BBA-4D48-8B97-BF4E2476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58539-E8B8-405E-8512-1100A4C4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EA191-4E3A-44F5-ABEA-BA043E5D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374CE-E411-46DC-8FDD-4C89A4BE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4C2D8-A881-406F-88DA-90EFA23A2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89C3C-3248-4113-B561-B892854B0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AB797-EEB0-4847-95A0-888FA187A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60E5B-035B-403D-BCAE-8325293D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5E6F9-149B-4476-A37C-5746C15C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FA00-18AE-465D-8D01-AF457651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A4E32-4A4F-4BA5-9819-BFA99E8F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27C07-1EC6-4FE6-9C27-70468DCB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ADA3F-0E3B-4C40-9123-F7E83E82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80F27-8EF6-439D-B9BE-8932CAB9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1C93C-FBBC-4711-81A4-121AACF5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62025-AA6C-4B0F-BE7C-B4F56657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2EB1F-C538-4D8E-A954-0DD5AF3D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82142-1004-4CBE-A248-E78765A9C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970A1-4D2E-4E37-B036-3259E3161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78D9-054E-44A4-8419-0180FFA0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8969-A6DA-4798-8942-6A75E9E0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00E6-3578-4C40-87DE-4501313D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7270-BAAD-41CA-82FD-B2A83D6D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41D5-369C-45D3-BB42-E80B8294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5E9A-5E2F-4A4A-A955-4E3ED3065A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907A0-6546-47B3-92C2-F58BBA19CA9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4761-BC4E-4409-88B6-1A7B9CCE9B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1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0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1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4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85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D270-60E3-416E-986E-F31D192336C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WordArt 4"/>
          <p:cNvSpPr txBox="1"/>
          <p:nvPr/>
        </p:nvSpPr>
        <p:spPr>
          <a:xfrm>
            <a:off x="1332000" y="2060640"/>
            <a:ext cx="7056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еометрия вокруг нас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4" name="AutoShape 33"/>
          <p:cNvSpPr/>
          <p:nvPr/>
        </p:nvSpPr>
        <p:spPr>
          <a:xfrm>
            <a:off x="900000" y="4076640"/>
            <a:ext cx="576360" cy="108108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Oval 44"/>
          <p:cNvSpPr/>
          <p:nvPr/>
        </p:nvSpPr>
        <p:spPr>
          <a:xfrm>
            <a:off x="6372360" y="549360"/>
            <a:ext cx="360360" cy="718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47"/>
          <p:cNvSpPr/>
          <p:nvPr/>
        </p:nvSpPr>
        <p:spPr>
          <a:xfrm>
            <a:off x="3708360" y="4797360"/>
            <a:ext cx="647640" cy="1368360"/>
          </a:xfrm>
          <a:prstGeom prst="diamond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48"/>
          <p:cNvSpPr/>
          <p:nvPr/>
        </p:nvSpPr>
        <p:spPr>
          <a:xfrm>
            <a:off x="900000" y="549360"/>
            <a:ext cx="792360" cy="863640"/>
          </a:xfrm>
          <a:prstGeom prst="rtTriangl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39" name="Picture 52" descr="connected_multiple_big"/>
          <p:cNvPicPr/>
          <p:nvPr/>
        </p:nvPicPr>
        <p:blipFill>
          <a:blip r:embed="rId1"/>
          <a:stretch/>
        </p:blipFill>
        <p:spPr>
          <a:xfrm>
            <a:off x="7599240" y="404640"/>
            <a:ext cx="1157400" cy="136872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53"/>
          <p:cNvSpPr/>
          <p:nvPr/>
        </p:nvSpPr>
        <p:spPr>
          <a:xfrm>
            <a:off x="3635280" y="765000"/>
            <a:ext cx="865440" cy="64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54"/>
          <p:cNvSpPr/>
          <p:nvPr/>
        </p:nvSpPr>
        <p:spPr>
          <a:xfrm>
            <a:off x="324000" y="5734080"/>
            <a:ext cx="475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тясова Е.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УСОШ 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55" descr="методисты"/>
          <p:cNvPicPr/>
          <p:nvPr/>
        </p:nvPicPr>
        <p:blipFill>
          <a:blip r:embed="rId2"/>
          <a:stretch/>
        </p:blipFill>
        <p:spPr>
          <a:xfrm>
            <a:off x="7500960" y="5013360"/>
            <a:ext cx="866880" cy="1295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2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9280" y="2997000"/>
            <a:ext cx="75596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Нарисуй две точ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Проведи через них лини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Прямая линия у нас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нарисовалась в первый раз!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Picture 17" descr="методисты"/>
          <p:cNvPicPr/>
          <p:nvPr/>
        </p:nvPicPr>
        <p:blipFill>
          <a:blip r:embed="rId2"/>
          <a:stretch/>
        </p:blipFill>
        <p:spPr>
          <a:xfrm>
            <a:off x="7812000" y="4437000"/>
            <a:ext cx="1096920" cy="1368360"/>
          </a:xfrm>
          <a:prstGeom prst="rect">
            <a:avLst/>
          </a:prstGeom>
          <a:ln w="0">
            <a:noFill/>
          </a:ln>
        </p:spPr>
      </p:pic>
      <p:sp>
        <p:nvSpPr>
          <p:cNvPr id="246" name="Line 18"/>
          <p:cNvSpPr/>
          <p:nvPr/>
        </p:nvSpPr>
        <p:spPr>
          <a:xfrm flipV="1">
            <a:off x="5508720" y="2997000"/>
            <a:ext cx="358560" cy="43164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19"/>
          <p:cNvSpPr/>
          <p:nvPr/>
        </p:nvSpPr>
        <p:spPr>
          <a:xfrm>
            <a:off x="5867280" y="2997360"/>
            <a:ext cx="505080" cy="7920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20"/>
          <p:cNvSpPr/>
          <p:nvPr/>
        </p:nvSpPr>
        <p:spPr>
          <a:xfrm flipV="1">
            <a:off x="6372360" y="2349360"/>
            <a:ext cx="792000" cy="14400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21"/>
          <p:cNvSpPr/>
          <p:nvPr/>
        </p:nvSpPr>
        <p:spPr>
          <a:xfrm>
            <a:off x="7164360" y="2349360"/>
            <a:ext cx="503280" cy="9352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22"/>
          <p:cNvSpPr/>
          <p:nvPr/>
        </p:nvSpPr>
        <p:spPr>
          <a:xfrm flipV="1">
            <a:off x="7667640" y="2636640"/>
            <a:ext cx="1225440" cy="64764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Freeform 26"/>
          <p:cNvSpPr/>
          <p:nvPr/>
        </p:nvSpPr>
        <p:spPr>
          <a:xfrm>
            <a:off x="7451640" y="4076640"/>
            <a:ext cx="1800" cy="144360"/>
          </a:xfrm>
          <a:custGeom>
            <a:avLst/>
            <a:gdLst/>
            <a:ahLst/>
            <a:rect l="l" t="t" r="r" b="b"/>
            <a:pathLst>
              <a:path w="1" h="91">
                <a:moveTo>
                  <a:pt x="0" y="91"/>
                </a:moveTo>
                <a:cubicBezTo>
                  <a:pt x="0" y="91"/>
                  <a:pt x="0" y="0"/>
                  <a:pt x="0" y="0"/>
                </a:cubicBezTo>
                <a:cubicBezTo>
                  <a:pt x="0" y="0"/>
                  <a:pt x="0" y="91"/>
                  <a:pt x="0" y="91"/>
                </a:cubicBez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Freeform 29"/>
          <p:cNvSpPr/>
          <p:nvPr/>
        </p:nvSpPr>
        <p:spPr>
          <a:xfrm>
            <a:off x="5435640" y="3813120"/>
            <a:ext cx="2016000" cy="982800"/>
          </a:xfrm>
          <a:custGeom>
            <a:avLst/>
            <a:gdLst/>
            <a:ahLst/>
            <a:rect l="l" t="t" r="r" b="b"/>
            <a:pathLst>
              <a:path w="1270" h="619">
                <a:moveTo>
                  <a:pt x="0" y="393"/>
                </a:moveTo>
                <a:cubicBezTo>
                  <a:pt x="41" y="314"/>
                  <a:pt x="83" y="235"/>
                  <a:pt x="136" y="212"/>
                </a:cubicBezTo>
                <a:cubicBezTo>
                  <a:pt x="189" y="189"/>
                  <a:pt x="258" y="197"/>
                  <a:pt x="318" y="257"/>
                </a:cubicBezTo>
                <a:cubicBezTo>
                  <a:pt x="378" y="317"/>
                  <a:pt x="446" y="529"/>
                  <a:pt x="499" y="574"/>
                </a:cubicBezTo>
                <a:cubicBezTo>
                  <a:pt x="552" y="619"/>
                  <a:pt x="605" y="566"/>
                  <a:pt x="635" y="529"/>
                </a:cubicBezTo>
                <a:cubicBezTo>
                  <a:pt x="665" y="492"/>
                  <a:pt x="658" y="423"/>
                  <a:pt x="681" y="348"/>
                </a:cubicBezTo>
                <a:cubicBezTo>
                  <a:pt x="704" y="273"/>
                  <a:pt x="733" y="129"/>
                  <a:pt x="771" y="76"/>
                </a:cubicBezTo>
                <a:cubicBezTo>
                  <a:pt x="809" y="23"/>
                  <a:pt x="870" y="0"/>
                  <a:pt x="908" y="30"/>
                </a:cubicBezTo>
                <a:cubicBezTo>
                  <a:pt x="946" y="60"/>
                  <a:pt x="975" y="181"/>
                  <a:pt x="998" y="257"/>
                </a:cubicBezTo>
                <a:cubicBezTo>
                  <a:pt x="1021" y="333"/>
                  <a:pt x="1029" y="439"/>
                  <a:pt x="1044" y="484"/>
                </a:cubicBezTo>
                <a:cubicBezTo>
                  <a:pt x="1059" y="529"/>
                  <a:pt x="1066" y="522"/>
                  <a:pt x="1089" y="529"/>
                </a:cubicBezTo>
                <a:cubicBezTo>
                  <a:pt x="1112" y="536"/>
                  <a:pt x="1150" y="567"/>
                  <a:pt x="1180" y="529"/>
                </a:cubicBezTo>
                <a:cubicBezTo>
                  <a:pt x="1210" y="491"/>
                  <a:pt x="1255" y="370"/>
                  <a:pt x="1270" y="302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9"/>
          <p:cNvSpPr/>
          <p:nvPr/>
        </p:nvSpPr>
        <p:spPr>
          <a:xfrm>
            <a:off x="755640" y="5950080"/>
            <a:ext cx="712800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WordArt 5"/>
          <p:cNvSpPr txBox="1"/>
          <p:nvPr/>
        </p:nvSpPr>
        <p:spPr>
          <a:xfrm>
            <a:off x="1116000" y="189000"/>
            <a:ext cx="720108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Точки. Лини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ряма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WordArt 4"/>
          <p:cNvSpPr txBox="1"/>
          <p:nvPr/>
        </p:nvSpPr>
        <p:spPr>
          <a:xfrm>
            <a:off x="611280" y="333360"/>
            <a:ext cx="6337080" cy="144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Луч     Углы</a:t>
            </a:r>
            <a:endParaRPr b="1" i="1" lang="en-US" sz="8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8" name="Line 14"/>
          <p:cNvSpPr/>
          <p:nvPr/>
        </p:nvSpPr>
        <p:spPr>
          <a:xfrm flipH="1">
            <a:off x="6156360" y="692280"/>
            <a:ext cx="2232000" cy="2232000"/>
          </a:xfrm>
          <a:prstGeom prst="line">
            <a:avLst/>
          </a:prstGeom>
          <a:ln w="76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15"/>
          <p:cNvSpPr/>
          <p:nvPr/>
        </p:nvSpPr>
        <p:spPr>
          <a:xfrm>
            <a:off x="8388360" y="765000"/>
            <a:ext cx="503280" cy="2665440"/>
          </a:xfrm>
          <a:prstGeom prst="line">
            <a:avLst/>
          </a:prstGeom>
          <a:ln w="76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9"/>
          <p:cNvSpPr/>
          <p:nvPr/>
        </p:nvSpPr>
        <p:spPr>
          <a:xfrm>
            <a:off x="539640" y="2708280"/>
            <a:ext cx="63374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 вершины по луч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овно с горки покач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лько луч теперь- «она»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 зовётся «сторон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21" descr="методисты"/>
          <p:cNvPicPr/>
          <p:nvPr/>
        </p:nvPicPr>
        <p:blipFill>
          <a:blip r:embed="rId2"/>
          <a:stretch/>
        </p:blipFill>
        <p:spPr>
          <a:xfrm>
            <a:off x="7885080" y="4941720"/>
            <a:ext cx="901800" cy="1440000"/>
          </a:xfrm>
          <a:prstGeom prst="rect">
            <a:avLst/>
          </a:prstGeom>
          <a:ln w="0">
            <a:noFill/>
          </a:ln>
        </p:spPr>
      </p:pic>
      <p:sp>
        <p:nvSpPr>
          <p:cNvPr id="262" name="Oval 24"/>
          <p:cNvSpPr/>
          <p:nvPr/>
        </p:nvSpPr>
        <p:spPr>
          <a:xfrm>
            <a:off x="8317080" y="692280"/>
            <a:ext cx="1425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25"/>
          <p:cNvSpPr/>
          <p:nvPr/>
        </p:nvSpPr>
        <p:spPr>
          <a:xfrm>
            <a:off x="7020000" y="2637000"/>
            <a:ext cx="129708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26"/>
          <p:cNvSpPr/>
          <p:nvPr/>
        </p:nvSpPr>
        <p:spPr>
          <a:xfrm>
            <a:off x="8317080" y="2637000"/>
            <a:ext cx="0" cy="107928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27"/>
          <p:cNvSpPr/>
          <p:nvPr/>
        </p:nvSpPr>
        <p:spPr>
          <a:xfrm>
            <a:off x="6300720" y="3284640"/>
            <a:ext cx="1366920" cy="649080"/>
          </a:xfrm>
          <a:prstGeom prst="line">
            <a:avLst/>
          </a:prstGeom>
          <a:ln w="7632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28"/>
          <p:cNvSpPr/>
          <p:nvPr/>
        </p:nvSpPr>
        <p:spPr>
          <a:xfrm flipH="1">
            <a:off x="7380360" y="3933720"/>
            <a:ext cx="287280" cy="1511280"/>
          </a:xfrm>
          <a:prstGeom prst="line">
            <a:avLst/>
          </a:prstGeom>
          <a:ln w="7632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Oval 29"/>
          <p:cNvSpPr/>
          <p:nvPr/>
        </p:nvSpPr>
        <p:spPr>
          <a:xfrm>
            <a:off x="8244000" y="2565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Oval 30"/>
          <p:cNvSpPr/>
          <p:nvPr/>
        </p:nvSpPr>
        <p:spPr>
          <a:xfrm>
            <a:off x="7596360" y="3860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31"/>
          <p:cNvSpPr/>
          <p:nvPr/>
        </p:nvSpPr>
        <p:spPr>
          <a:xfrm flipV="1">
            <a:off x="539640" y="1844640"/>
            <a:ext cx="3240360" cy="1440000"/>
          </a:xfrm>
          <a:prstGeom prst="line">
            <a:avLst/>
          </a:prstGeom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Oval 32"/>
          <p:cNvSpPr/>
          <p:nvPr/>
        </p:nvSpPr>
        <p:spPr>
          <a:xfrm>
            <a:off x="3708360" y="1773360"/>
            <a:ext cx="144360" cy="144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aa2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ы на меня, ты на него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 всех нас посмотр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 нас всего, у нас всего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 нас всего по тр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ри стороны и три угл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 столько же вершин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 трижды- трудные дел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ы трижды соверши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WordArt 4"/>
          <p:cNvSpPr txBox="1"/>
          <p:nvPr/>
        </p:nvSpPr>
        <p:spPr>
          <a:xfrm>
            <a:off x="1116000" y="333360"/>
            <a:ext cx="6478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реугольники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5580000" y="1844640"/>
            <a:ext cx="1728720" cy="863640"/>
          </a:xfrm>
          <a:prstGeom prst="triangle">
            <a:avLst>
              <a:gd name="adj" fmla="val 50000"/>
            </a:avLst>
          </a:prstGeom>
          <a:solidFill>
            <a:srgbClr val="ffe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6"/>
          <p:cNvSpPr/>
          <p:nvPr/>
        </p:nvSpPr>
        <p:spPr>
          <a:xfrm>
            <a:off x="7164360" y="3716280"/>
            <a:ext cx="649440" cy="1800360"/>
          </a:xfrm>
          <a:prstGeom prst="rtTriangle">
            <a:avLst/>
          </a:prstGeom>
          <a:solidFill>
            <a:srgbClr val="ffe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5364000" y="3573360"/>
            <a:ext cx="792360" cy="1656000"/>
          </a:xfrm>
          <a:prstGeom prst="flowChartMerge">
            <a:avLst/>
          </a:prstGeom>
          <a:solidFill>
            <a:srgbClr val="ffe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ff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WordArt 17"/>
          <p:cNvSpPr txBox="1"/>
          <p:nvPr/>
        </p:nvSpPr>
        <p:spPr>
          <a:xfrm>
            <a:off x="971640" y="0"/>
            <a:ext cx="54943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етырёхугольники</a:t>
            </a:r>
            <a:endParaRPr b="0" lang="en-US" sz="1800" spc="1" strike="noStrike">
              <a:ln w="0">
                <a:noFill/>
              </a:ln>
              <a:solidFill>
                <a:srgbClr val="0033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8" name="AutoShape 22"/>
          <p:cNvSpPr/>
          <p:nvPr/>
        </p:nvSpPr>
        <p:spPr>
          <a:xfrm>
            <a:off x="5003640" y="2997360"/>
            <a:ext cx="2160720" cy="1584000"/>
          </a:xfrm>
          <a:prstGeom prst="parallelogram">
            <a:avLst>
              <a:gd name="adj" fmla="val 34102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AutoShape 24"/>
          <p:cNvSpPr/>
          <p:nvPr/>
        </p:nvSpPr>
        <p:spPr>
          <a:xfrm>
            <a:off x="6948360" y="4076640"/>
            <a:ext cx="1295640" cy="2376720"/>
          </a:xfrm>
          <a:prstGeom prst="diamond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25"/>
          <p:cNvSpPr/>
          <p:nvPr/>
        </p:nvSpPr>
        <p:spPr>
          <a:xfrm>
            <a:off x="6804000" y="907920"/>
            <a:ext cx="1944720" cy="1152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26"/>
          <p:cNvSpPr/>
          <p:nvPr/>
        </p:nvSpPr>
        <p:spPr>
          <a:xfrm>
            <a:off x="8101080" y="2708280"/>
            <a:ext cx="792000" cy="792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27"/>
          <p:cNvSpPr/>
          <p:nvPr/>
        </p:nvSpPr>
        <p:spPr>
          <a:xfrm>
            <a:off x="684360" y="1341360"/>
            <a:ext cx="3816360" cy="73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Начерти прямоугольни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Покажи вершины и стороны прямоугольни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Посмотри на другие четырёхугольни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Посчитай сколько вершин и сторон у каждого четырёхугольни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7" descr="колобок"/>
          <p:cNvPicPr/>
          <p:nvPr/>
        </p:nvPicPr>
        <p:blipFill>
          <a:blip r:embed="rId1"/>
          <a:stretch/>
        </p:blipFill>
        <p:spPr>
          <a:xfrm>
            <a:off x="6443640" y="1843200"/>
            <a:ext cx="2700360" cy="270036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394920" y="4436640"/>
            <a:ext cx="7056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Круг- всем ребятам дру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Окружность и круг появились не вдру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Здесь ты видишь окружность и кру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Самое главное то, что окружность- вокру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WordArt 4"/>
          <p:cNvSpPr txBox="1"/>
          <p:nvPr/>
        </p:nvSpPr>
        <p:spPr>
          <a:xfrm>
            <a:off x="5076720" y="189000"/>
            <a:ext cx="36496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ру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87" name="Oval 5"/>
          <p:cNvSpPr/>
          <p:nvPr/>
        </p:nvSpPr>
        <p:spPr>
          <a:xfrm>
            <a:off x="611280" y="1844640"/>
            <a:ext cx="2374920" cy="2376360"/>
          </a:xfrm>
          <a:prstGeom prst="ellipse">
            <a:avLst/>
          </a:prstGeom>
          <a:noFill/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Oval 6"/>
          <p:cNvSpPr/>
          <p:nvPr/>
        </p:nvSpPr>
        <p:spPr>
          <a:xfrm>
            <a:off x="3419640" y="1773360"/>
            <a:ext cx="2665080" cy="2592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WordArt 8"/>
          <p:cNvSpPr txBox="1"/>
          <p:nvPr/>
        </p:nvSpPr>
        <p:spPr>
          <a:xfrm>
            <a:off x="250920" y="333360"/>
            <a:ext cx="4029120" cy="14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кружность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wipe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Посмотри вокру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Какие геометрические фигуры тебя окружают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Поставь на бумаге три точки. Соедини их отрезк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Какая фигура получилась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Раздели треугольник на две равные ча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Сколько треугольников получилось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WordArt 4"/>
          <p:cNvSpPr txBox="1"/>
          <p:nvPr/>
        </p:nvSpPr>
        <p:spPr>
          <a:xfrm>
            <a:off x="2627280" y="404640"/>
            <a:ext cx="4608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полни зада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2" name="Picture 5" descr="nambe3"/>
          <p:cNvPicPr/>
          <p:nvPr/>
        </p:nvPicPr>
        <p:blipFill>
          <a:blip r:embed="rId2"/>
          <a:stretch/>
        </p:blipFill>
        <p:spPr>
          <a:xfrm>
            <a:off x="6396120" y="3753000"/>
            <a:ext cx="2633760" cy="2771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WordArt 4"/>
          <p:cNvSpPr txBox="1"/>
          <p:nvPr/>
        </p:nvSpPr>
        <p:spPr>
          <a:xfrm>
            <a:off x="1547640" y="549360"/>
            <a:ext cx="3456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О себе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4" name="WordArt 8"/>
          <p:cNvSpPr txBox="1"/>
          <p:nvPr/>
        </p:nvSpPr>
        <p:spPr>
          <a:xfrm>
            <a:off x="1843200" y="2003400"/>
            <a:ext cx="5457600" cy="285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боту выполнил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итель высшей категории 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УСОШ 40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итясова Елена Ивановна.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ipe dir="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5T07:22:58Z</dcterms:created>
  <dc:creator>_</dc:creator>
  <dc:description/>
  <dc:language>en-US</dc:language>
  <cp:lastModifiedBy>user</cp:lastModifiedBy>
  <dcterms:modified xsi:type="dcterms:W3CDTF">2017-09-07T16:06:05Z</dcterms:modified>
  <cp:revision>32</cp:revision>
  <dc:subject/>
  <dc:title>Слайд 1</dc:title>
</cp:coreProperties>
</file>