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1FB-4322-43AC-B9CF-3502E58C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CED-8637-4CC8-B2A7-8E9237F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A51-344D-4EE7-ACEB-CCBFC79B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A0A-A795-47B4-866B-5020DE4D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BD3-0672-4C20-A352-72ABDAE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4E-253D-441A-9AC9-59E20FEC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29E-1C59-4EDA-AE50-8990A38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521-265D-4552-9B8A-4F639AE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CA8-5F45-4B14-8C9C-5CBEFD8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2B7-1115-4CC4-A064-CC4E5B1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A6C-51EC-42E9-BA3F-7A1E0EB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5D3-FEBD-4401-8302-FFB6A8D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95C-3583-4E3F-95D6-D9C83F221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161645"/>
                </a:solidFill>
                <a:latin typeface="Arial"/>
              </a:rPr>
              <a:t>"Путешеств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161645"/>
                </a:solidFill>
                <a:latin typeface="Arial"/>
              </a:rPr>
              <a:t>по городу фразеологизмов"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01680" y="620640"/>
            <a:ext cx="68486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одберите необходимое слово и запишите фразеолог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47280" y="1268280"/>
            <a:ext cx="759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нее этих двух ребят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ете не найдёш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них обычно говоря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до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варищ твой просит украд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 списать из тетрад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адо! Ведь этим ты друг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жеш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исходили город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льно вдоль и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ак устали мы в дорог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ел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гра “Четвёртый лишний”.</a:t>
            </a:r>
            <a:br>
              <a:rPr sz="32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з 4 фразеологизмов выделить “лишний”, т. е. тот, который не соответствует общему значению остальных фразеолог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ть пруд пруд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 наплак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ьма-тьмуща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блоку негде уп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ово в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ютелька в тютель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илами на воде писа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мар носа не подточ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все лопат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мя голов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шьим шаг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гновенье 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ртинная гале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19"/>
          <p:cNvPicPr/>
          <p:nvPr/>
        </p:nvPicPr>
        <p:blipFill>
          <a:blip r:embed="rId1"/>
          <a:stretch/>
        </p:blipFill>
        <p:spPr>
          <a:xfrm>
            <a:off x="3005280" y="1469880"/>
            <a:ext cx="2987640" cy="4060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351160" y="5183280"/>
            <a:ext cx="87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79280" y="560232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79280" y="5602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читать ворон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4284720" y="57610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здельничать, глядеть по сторо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исать неразборчи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8"/>
          <p:cNvPicPr/>
          <p:nvPr/>
        </p:nvPicPr>
        <p:blipFill>
          <a:blip r:embed="rId1"/>
          <a:srcRect l="0" t="0" r="0" b="-930"/>
          <a:stretch/>
        </p:blipFill>
        <p:spPr>
          <a:xfrm>
            <a:off x="2411280" y="1992240"/>
            <a:ext cx="4597560" cy="3241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27280" y="573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Как курица ла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ить крокодиловы сл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5"/>
          <p:cNvPicPr/>
          <p:nvPr/>
        </p:nvPicPr>
        <p:blipFill>
          <a:blip r:embed="rId1"/>
          <a:srcRect l="0" t="0" r="0" b="-1656"/>
          <a:stretch/>
        </p:blipFill>
        <p:spPr>
          <a:xfrm>
            <a:off x="1979640" y="1916280"/>
            <a:ext cx="5199120" cy="280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356000" y="587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5170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итворно, неискренне жал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Льёт как из ве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7"/>
          <p:cNvPicPr/>
          <p:nvPr/>
        </p:nvPicPr>
        <p:blipFill>
          <a:blip r:embed="rId1"/>
          <a:srcRect l="0" t="0" r="0" b="-1084"/>
          <a:stretch/>
        </p:blipFill>
        <p:spPr>
          <a:xfrm>
            <a:off x="2050920" y="1628640"/>
            <a:ext cx="4930920" cy="3527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79280" y="5315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Идёт проливной 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тавлять палки в колё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11"/>
          <p:cNvPicPr/>
          <p:nvPr/>
        </p:nvPicPr>
        <p:blipFill>
          <a:blip r:embed="rId1"/>
          <a:stretch/>
        </p:blipFill>
        <p:spPr>
          <a:xfrm>
            <a:off x="2124000" y="1773360"/>
            <a:ext cx="4873680" cy="362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0" y="55306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шать в каком-либо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03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«Для тех, кто интересуется историей, культурой своего народа - фразеология одна из самых увлекательных и занимательных сф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язы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Н.М. Ша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есть в гало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18"/>
          <p:cNvPicPr/>
          <p:nvPr/>
        </p:nvPicPr>
        <p:blipFill>
          <a:blip r:embed="rId1"/>
          <a:stretch/>
        </p:blipFill>
        <p:spPr>
          <a:xfrm>
            <a:off x="2484360" y="1484280"/>
            <a:ext cx="4641840" cy="3365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0" y="54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Оказаться в неловком по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87" descr="naanonc.jpg"/>
          <p:cNvPicPr/>
          <p:nvPr/>
        </p:nvPicPr>
        <p:blipFill>
          <a:blip r:embed="rId1"/>
          <a:stretch/>
        </p:blipFill>
        <p:spPr>
          <a:xfrm>
            <a:off x="500040" y="1785960"/>
            <a:ext cx="2286000" cy="223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6072120" y="1714680"/>
            <a:ext cx="2500560" cy="24224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0" descr="page_044.png"/>
          <p:cNvPicPr/>
          <p:nvPr/>
        </p:nvPicPr>
        <p:blipFill>
          <a:blip r:embed="rId3"/>
          <a:stretch/>
        </p:blipFill>
        <p:spPr>
          <a:xfrm>
            <a:off x="1500120" y="4286160"/>
            <a:ext cx="2857680" cy="2379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6" descr="15.gif"/>
          <p:cNvPicPr/>
          <p:nvPr/>
        </p:nvPicPr>
        <p:blipFill>
          <a:blip r:embed="rId4"/>
          <a:stretch/>
        </p:blipFill>
        <p:spPr>
          <a:xfrm>
            <a:off x="5857920" y="5000760"/>
            <a:ext cx="2714760" cy="1552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2000160" y="64296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разеологизмы - син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3071880" y="228600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пытны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928800" y="128592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Тёртый кал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429160" y="128592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треляный 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500280" y="35719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ыстро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42960" y="43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 всех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4929120" y="457200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Только пятки свер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12"/>
          <p:cNvCxnSpPr>
            <a:stCxn id="107" idx="1"/>
            <a:endCxn id="108" idx="2"/>
          </p:cNvCxnSpPr>
          <p:nvPr/>
        </p:nvCxnSpPr>
        <p:spPr>
          <a:xfrm flipH="1" flipV="1">
            <a:off x="2106000" y="1747440"/>
            <a:ext cx="965880" cy="768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4"/>
          <p:cNvCxnSpPr>
            <a:stCxn id="107" idx="3"/>
            <a:endCxn id="109" idx="2"/>
          </p:cNvCxnSpPr>
          <p:nvPr/>
        </p:nvCxnSpPr>
        <p:spPr>
          <a:xfrm flipV="1">
            <a:off x="5929200" y="1747440"/>
            <a:ext cx="1108800" cy="768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25"/>
          <p:cNvCxnSpPr>
            <a:stCxn id="110" idx="1"/>
            <a:endCxn id="111" idx="0"/>
          </p:cNvCxnSpPr>
          <p:nvPr/>
        </p:nvCxnSpPr>
        <p:spPr>
          <a:xfrm flipH="1">
            <a:off x="1785600" y="3801960"/>
            <a:ext cx="1715040" cy="556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8"/>
          <p:cNvCxnSpPr>
            <a:stCxn id="110" idx="3"/>
            <a:endCxn id="112" idx="0"/>
          </p:cNvCxnSpPr>
          <p:nvPr/>
        </p:nvCxnSpPr>
        <p:spPr>
          <a:xfrm>
            <a:off x="5072040" y="3801600"/>
            <a:ext cx="1751760" cy="7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25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25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25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25"/>
                            </p:stCondLst>
                            <p:childTnLst>
                              <p:par>
                                <p:cTn id="2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25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25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13"/>
          <p:cNvGrpSpPr/>
          <p:nvPr/>
        </p:nvGrpSpPr>
        <p:grpSpPr>
          <a:xfrm>
            <a:off x="6572160" y="4348800"/>
            <a:ext cx="2571840" cy="2652120"/>
            <a:chOff x="6572160" y="4348800"/>
            <a:chExt cx="2571840" cy="2652120"/>
          </a:xfrm>
        </p:grpSpPr>
        <p:pic>
          <p:nvPicPr>
            <p:cNvPr id="118" name="Рисунок 6" descr="6.gif"/>
            <p:cNvPicPr/>
            <p:nvPr/>
          </p:nvPicPr>
          <p:blipFill>
            <a:blip r:embed="rId1"/>
            <a:stretch/>
          </p:blipFill>
          <p:spPr>
            <a:xfrm rot="631200">
              <a:off x="7315920" y="4476600"/>
              <a:ext cx="158832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12"/>
            <p:cNvSpPr/>
            <p:nvPr/>
          </p:nvSpPr>
          <p:spPr>
            <a:xfrm>
              <a:off x="6572160" y="6358320"/>
              <a:ext cx="25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Делать большие гл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3"/>
          <p:cNvSpPr/>
          <p:nvPr/>
        </p:nvSpPr>
        <p:spPr>
          <a:xfrm>
            <a:off x="285840" y="64296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отнесите фразеологизмы из одного столбика с фразеологизмами другого, подобрав сино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Таблица 4" descr=""/>
          <p:cNvPicPr/>
          <p:nvPr/>
        </p:nvPicPr>
        <p:blipFill>
          <a:blip r:embed="rId2"/>
          <a:stretch/>
        </p:blipFill>
        <p:spPr>
          <a:xfrm>
            <a:off x="426960" y="1427040"/>
            <a:ext cx="8431200" cy="3529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13.gif"/>
          <p:cNvPicPr/>
          <p:nvPr/>
        </p:nvPicPr>
        <p:blipFill>
          <a:blip r:embed="rId3"/>
          <a:stretch/>
        </p:blipFill>
        <p:spPr>
          <a:xfrm>
            <a:off x="4214880" y="4500720"/>
            <a:ext cx="2857320" cy="1806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17.gif"/>
          <p:cNvPicPr/>
          <p:nvPr/>
        </p:nvPicPr>
        <p:blipFill>
          <a:blip r:embed="rId4"/>
          <a:stretch/>
        </p:blipFill>
        <p:spPr>
          <a:xfrm rot="21278400">
            <a:off x="315720" y="4552920"/>
            <a:ext cx="1466640" cy="2241720"/>
          </a:xfrm>
          <a:prstGeom prst="rect">
            <a:avLst/>
          </a:prstGeom>
          <a:ln w="0">
            <a:noFill/>
          </a:ln>
        </p:spPr>
      </p:pic>
      <p:grpSp>
        <p:nvGrpSpPr>
          <p:cNvPr id="124" name="Группа 11"/>
          <p:cNvGrpSpPr/>
          <p:nvPr/>
        </p:nvGrpSpPr>
        <p:grpSpPr>
          <a:xfrm>
            <a:off x="1800360" y="4559400"/>
            <a:ext cx="2342880" cy="2024640"/>
            <a:chOff x="1800360" y="4559400"/>
            <a:chExt cx="2342880" cy="2024640"/>
          </a:xfrm>
        </p:grpSpPr>
        <p:pic>
          <p:nvPicPr>
            <p:cNvPr id="125" name="Рисунок 8" descr="18.gif"/>
            <p:cNvPicPr/>
            <p:nvPr/>
          </p:nvPicPr>
          <p:blipFill>
            <a:blip r:embed="rId5"/>
            <a:stretch/>
          </p:blipFill>
          <p:spPr>
            <a:xfrm>
              <a:off x="1800360" y="4559400"/>
              <a:ext cx="2342880" cy="17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0"/>
            <p:cNvSpPr/>
            <p:nvPr/>
          </p:nvSpPr>
          <p:spPr>
            <a:xfrm>
              <a:off x="2071800" y="62157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Водить за н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Фразеологический зверинец”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омощью рисованных подсказок правильно расставьте слова и запиш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560" y="0"/>
            <a:ext cx="910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ден, к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тёр, как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слив, как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оротлив, как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ут, как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м, как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язный, как ..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ям, как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тлив, как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ючий, как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804000" y="5113440"/>
            <a:ext cx="2198880" cy="167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146400" y="2760840"/>
            <a:ext cx="2160720" cy="1428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535880" y="323208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5307120" y="2001960"/>
            <a:ext cx="196668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5"/>
          <a:stretch/>
        </p:blipFill>
        <p:spPr>
          <a:xfrm>
            <a:off x="5175360" y="333360"/>
            <a:ext cx="1917720" cy="1644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6"/>
          <a:stretch/>
        </p:blipFill>
        <p:spPr>
          <a:xfrm>
            <a:off x="3100320" y="0"/>
            <a:ext cx="216072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7"/>
          <a:stretch/>
        </p:blipFill>
        <p:spPr>
          <a:xfrm>
            <a:off x="4226040" y="5148360"/>
            <a:ext cx="236052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8"/>
          <a:stretch/>
        </p:blipFill>
        <p:spPr>
          <a:xfrm>
            <a:off x="7128000" y="7920"/>
            <a:ext cx="2016000" cy="164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9"/>
          <a:stretch/>
        </p:blipFill>
        <p:spPr>
          <a:xfrm>
            <a:off x="7221600" y="1770120"/>
            <a:ext cx="201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10"/>
          <a:stretch/>
        </p:blipFill>
        <p:spPr>
          <a:xfrm>
            <a:off x="5261040" y="3573360"/>
            <a:ext cx="2228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рочитайте текст, найдите фразеологизмы, определите их синтаксическую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Витя Перепёлкин считал ворон на уроках. Но в этот день он прибежал в школу ни свет ни заря. Витя сгорал от стыда, глядя на двойки в своём дневнике, и решил их исправить. У доски он долго собирался с мыслями, но потом всё же без сучка и задоринки ра..сказал всё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я был на седьмом небе от счаст..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пробуй различ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57200" y="1959120"/>
            <a:ext cx="82296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1 вариант                          2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                             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                             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                                   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0                                  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1                                 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2                              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4                                        13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 фразеологизмы по значению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125360"/>
            <a:ext cx="878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“бездельничать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“обманывать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“быстро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мя гол..ву, с...деть сл..жа руки, вт..рать оч(?)ки, бить баклуши, в..дить (за) нос, (во) весь дух, вв...дить в заблуждение, со всех но(г,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шите фразеологизмы, попробуйте дать толкование их лексического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сил нас как-то сын лесника к себе. За грибами, говорит, сходим, поохотимся, рыбу удить будем. Уху сварим – пальчики оближ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конечно, обрадовались, уши развесили, слушаем. Мой братишка так голову потерял от счастья. Как же! В лесу заночуем, палатку разобьём, костёр разложим, из ружья палить будем. Потом он мне покою не давал: “Пойдём да пойдём! Говорят, он такой мастер рыбу ловить, собаку на этом деле съел”. Не знаю, каких собак он ел, а вот мы попались на удочку. Обманул он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ились прийти в субботу к вечеру. Пять километров одним духом отшагали. А нашего “приятеля” дома не оказалось. Уехал, говорят, к тётке на воскресе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н же нас приглашал рыбу удить, охотиться, - растерялись 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т пустомеля, - возмутился дед, - всё время кому-нибудь морочит го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братишки слёзы в три ручья. Я, конечно, тоже не в своей тарел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ичего, ребятишки, - успокоил нас дед, - со мной пойдё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шли. И рыбу ловили. И костёр развели. И уха была – ни в сказке сказать, ни пером описать. Только ружья нам дедушка не дал. Малы ещ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то такое фразеолог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то такое фразеологиз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е своё эмоциональное состояние и выберите картинку, которая отражает ваше настроение в дан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426888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268880" y="2133720"/>
            <a:ext cx="485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Фразеология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наука, которая изучает фразеологиз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6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Фразеологизмы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устойчивые сочетания слов, близкие по лексическому значению одному сло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&amp;Fcy;&amp;rcy;&amp;acy;&amp;zcy;&amp;iecy;&amp;ocy;&amp;lcy;&amp;ocy;&amp;gcy;&amp;icy;&amp;zcy;&amp;mcy;&amp;ycy; &amp;vcy; &amp;kcy;&amp;acy;&amp;rcy;&amp;tcy;&amp;icy;&amp;ncy;&amp;kcy;&amp;acy;&amp;khcy;."/>
          <p:cNvPicPr/>
          <p:nvPr/>
        </p:nvPicPr>
        <p:blipFill>
          <a:blip r:embed="rId1"/>
          <a:stretch/>
        </p:blipFill>
        <p:spPr>
          <a:xfrm>
            <a:off x="1042920" y="2276640"/>
            <a:ext cx="7185240" cy="45813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новные признаки фразеолог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крытая степь           С открыто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Z:\340px-Onon.jpg"/>
          <p:cNvPicPr/>
          <p:nvPr/>
        </p:nvPicPr>
        <p:blipFill>
          <a:blip r:embed="rId1"/>
          <a:stretch/>
        </p:blipFill>
        <p:spPr>
          <a:xfrm>
            <a:off x="900000" y="2565360"/>
            <a:ext cx="3286080" cy="271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G:\Садритдинова К.Г. презентация\bart25.jpg"/>
          <p:cNvPicPr/>
          <p:nvPr/>
        </p:nvPicPr>
        <p:blipFill>
          <a:blip r:embed="rId2"/>
          <a:stretch/>
        </p:blipFill>
        <p:spPr>
          <a:xfrm>
            <a:off x="5651640" y="2492280"/>
            <a:ext cx="2714400" cy="2714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16000" y="476280"/>
          <a:ext cx="6696000" cy="5819760"/>
        </p:xfrm>
        <a:graphic>
          <a:graphicData uri="http://schemas.openxmlformats.org/drawingml/2006/table">
            <a:tbl>
              <a:tblPr/>
              <a:tblGrid>
                <a:gridCol w="3348000"/>
                <a:gridCol w="334800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 свободных словосочет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>
                      <a:noFill/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 фразеологиз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>
                      <a:noFill/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>
                      <a:noFill/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>
                      <a:noFill/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7" descr="0_557f_b56d7e0a_XL.jpg"/>
          <p:cNvPicPr/>
          <p:nvPr/>
        </p:nvPicPr>
        <p:blipFill>
          <a:blip r:embed="rId1"/>
          <a:stretch/>
        </p:blipFill>
        <p:spPr>
          <a:xfrm>
            <a:off x="3092400" y="115920"/>
            <a:ext cx="2766960" cy="546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8760" y="612468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14320" y="30988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шать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лапшу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ш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авая фигурная скобка 5"/>
          <p:cNvSpPr/>
          <p:nvPr/>
        </p:nvSpPr>
        <p:spPr>
          <a:xfrm rot="5400000">
            <a:off x="4129200" y="1096560"/>
            <a:ext cx="642960" cy="8215200"/>
          </a:xfrm>
          <a:custGeom>
            <a:avLst/>
            <a:gdLst>
              <a:gd name="textAreaLeft" fmla="*/ 0 w 642960"/>
              <a:gd name="textAreaRight" fmla="*/ 232200 w 642960"/>
              <a:gd name="textAreaTop" fmla="*/ 289800 h 8215200"/>
              <a:gd name="textAreaBottom" fmla="*/ 7925400 h 821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18"/>
                  <a:pt x="10800" y="2436"/>
                </a:cubicBezTo>
                <a:lnTo>
                  <a:pt x="10800" y="8364"/>
                </a:lnTo>
                <a:cubicBezTo>
                  <a:pt x="10800" y="9582"/>
                  <a:pt x="16200" y="10800"/>
                  <a:pt x="21600" y="10800"/>
                </a:cubicBezTo>
                <a:cubicBezTo>
                  <a:pt x="16200" y="10800"/>
                  <a:pt x="10800" y="12018"/>
                  <a:pt x="10800" y="13236"/>
                </a:cubicBezTo>
                <a:lnTo>
                  <a:pt x="10800" y="19164"/>
                </a:lnTo>
                <a:cubicBezTo>
                  <a:pt x="10800" y="2038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92400" y="5526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ман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20760" y="3560760"/>
            <a:ext cx="23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мещать в висяче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941560" y="357984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ой продукт, приготовляемый из пшеничной муки, замешанной на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6143760" y="3579840"/>
            <a:ext cx="257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рган слуха, а также наружная часть его (у человека в форме раков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то требует запоминания?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е словосочетание                         фразеологиз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G:\Садритдинова К.Г. презентация\17.gif"/>
          <p:cNvPicPr/>
          <p:nvPr/>
        </p:nvPicPr>
        <p:blipFill>
          <a:blip r:embed="rId1"/>
          <a:stretch/>
        </p:blipFill>
        <p:spPr>
          <a:xfrm>
            <a:off x="6084720" y="2637000"/>
            <a:ext cx="218124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user\Desktop\словари Кожина\дверь.jpg"/>
          <p:cNvPicPr/>
          <p:nvPr/>
        </p:nvPicPr>
        <p:blipFill>
          <a:blip r:embed="rId2"/>
          <a:stretch/>
        </p:blipFill>
        <p:spPr>
          <a:xfrm>
            <a:off x="1187280" y="2565360"/>
            <a:ext cx="23767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476360" y="5516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0:39:00Z</dcterms:created>
  <dc:creator>1</dc:creator>
  <dc:description/>
  <dc:language>en-US</dc:language>
  <cp:lastModifiedBy>user</cp:lastModifiedBy>
  <dcterms:modified xsi:type="dcterms:W3CDTF">2017-03-16T08:40:30Z</dcterms:modified>
  <cp:revision>56</cp:revision>
  <dc:subject/>
  <dc:title>Картинная галерея</dc:title>
</cp:coreProperties>
</file>