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D29-A34D-4638-B16F-D9974281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4C6-F51E-4BB4-A100-48B2C84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C29-E3B0-40A6-BEC5-CF83576A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63F-3C2F-4BCF-B35F-1CAC782E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6F1-4794-435F-B4B7-69EEFB10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14C6-B8A9-41C6-8E62-B0F8247A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BF74-BFF9-4C39-9A40-A07B417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60F2-6AED-4AA0-B8D2-E4249EB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9855-9990-4460-B992-7665E3E3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5C67-AAD2-4DE7-9C2E-E46F03DC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A3C-9001-4308-B53A-9CA6851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EA5-5585-4D60-93D6-FD479B7B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3D4-9DFC-419F-863C-55F84ED5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C721-317C-4530-9F2B-AE4C247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2BA-7207-490E-9BA5-A8B3D1D7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F95D-61F0-49DD-9047-F7559E5C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B9BF-39E0-423F-A730-81ECD806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EDF1-7F41-4620-B266-B30FD12B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1D25-B40E-42F2-BB10-8648EC5D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77DD-DBCF-4D4A-8A72-BB66244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ACA4-4612-4CB4-8C19-C78C4C9C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D47A-5BD1-4B44-9240-E34C56E4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2D8-8248-45BC-9AF1-BEB39B52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A796-753B-488D-8087-C5F29EF5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3162-9A18-4570-A627-F1AEA61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A093-EA7C-40AB-9A82-0CFD41E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9AFD-64DC-451E-AA9F-1555AD1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7DE5-7F5D-45E8-854D-EC26C8A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3A05-94D7-464F-AF2A-937A954C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F0BE-EBA1-466D-8EB1-FE4EE7BE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1838-0F59-4DCB-8778-758173CF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B8FF-055B-4370-BD86-59C0F5A6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67C0-1E01-4E4D-B15D-F8E04C5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520-CA29-48DC-966D-6E329478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49640-A306-4AAD-B550-6F2CB064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B825-498D-42CE-9752-4818AE7A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A144-0520-4D43-BA9C-D9D13BE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CEBC-6D7A-4B84-B5D9-273169F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A24F-B949-421A-8021-899C615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7680-1B4F-44EA-B3C7-D6DCBBE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6989-BA0A-4708-98C9-05F577AB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44D84-F9DF-4512-88C8-91F45E8E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191A-5701-4412-AE0F-274D12DA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5CF53-5867-4F0C-8A7D-13062D88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833-2E78-49FC-BE57-048418D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C9D2-E5FD-4AF2-971C-59535301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948B-0E63-4975-97B6-4B639317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10EAD-9214-468B-BE5A-8183B0B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9C2C-F79D-4203-9112-C50B8238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DCDD-4DD0-4E84-9D00-268724A4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EA73-2AB1-42B7-88B8-79E67BDC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DD79-F5E3-4009-B5A6-9FF8327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455B-22A0-4324-BEC5-4BB059E2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8A3C7-449D-4EFD-ABB1-9E3F5AB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F689-25FA-460E-A2E5-39C011DE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855-3EAB-4AD5-BAAD-CB88FCA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3089E-C008-464A-9A15-440FDDB3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25CDD-A31E-49CF-AEE0-6C172318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8ADC6-AC3E-452B-944B-7EA9C41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89E2E-6CEC-42F2-966E-49071628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667E1-E16F-4802-9995-FB662E5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0851E-23BD-401B-BD02-3A202FE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1FD51-CB51-48CA-B6EC-6BAB9349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ACAD3-D5AF-4FFB-AEC7-3669656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839C8-625D-4283-814D-F6318B7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21443-27F8-4A8C-B0CA-9250229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95C-C8E4-4B2D-96AC-B3188AE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75BE0-4C2E-4A7B-8114-01BE2ABA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9F84D-7CDD-4B88-B231-FABEC8F6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A0404-D78C-4853-894D-F4358E00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6D396-9DA4-437C-AC47-F32BC830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C803-1A92-4C4D-B3BC-4A4449A7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F4D9-374D-4FBF-9610-662FD3F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E8E5-31CC-4849-BA5C-99D7DBE3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D8790-774A-4BCF-A271-84B2DBA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EC14-25A5-4739-9BF2-D0CC4D7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8E62-D20D-49F2-ABFA-B7A23F4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A49-D5CE-421D-AD1D-B905C43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31337-650E-47B8-9BDE-C95E7FD2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A19E-012B-4469-B75E-9C05D00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13244-A548-4BA7-AA17-86D23384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BC0D-EC6A-4824-AEC5-8ACABB0D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7312-3F8A-4656-87AA-6ECE4E93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052-667F-4B11-9A6E-1F93D3F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B18D-477D-4526-8F4A-3A00CAE4B2CD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F118-0865-4185-9D07-A23F9277EB3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D13D-A64B-4D96-A230-C1C4060466D9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C40-73D4-44D8-B55E-046EF5AF19D3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05C8-D270-46EB-8E3E-7DFF5796B246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9BE7-31B9-4C88-BD89-87662C54205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08F3-29EA-4FF4-A679-42168AB4A45A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401D-065D-4336-8E3E-E31BA160B32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059-62AC-4BF0-964B-12C7984F2B44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852-3409-4F12-89C6-4701F01F6E0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DAD-275B-44FE-811B-B9D9BAB7611E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14CA-96F9-45E1-9900-BFC8323A2C3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599-3E30-478A-A9E2-50851E2B9A6B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8984-F0CD-48A4-9F8E-2CCAFF952AC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ubBanner"/>
          <p:cNvSpPr/>
          <p:nvPr/>
        </p:nvSpPr>
        <p:spPr>
          <a:xfrm flipH="1">
            <a:off x="574560" y="333360"/>
            <a:ext cx="8066160" cy="4067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060"/>
                </a:solidFill>
                <a:latin typeface="Century Gothic"/>
              </a:rPr>
              <a:t>Mon menu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2" descr="Картинка 12 из 26589"/>
          <p:cNvPicPr/>
          <p:nvPr/>
        </p:nvPicPr>
        <p:blipFill>
          <a:blip r:embed="rId1"/>
          <a:stretch/>
        </p:blipFill>
        <p:spPr>
          <a:xfrm>
            <a:off x="3203640" y="44370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www.ege-nar.com/yonetim/modules/galeri/resim/dosyalar/big/ana_yemek.jpg"/>
          <p:cNvPicPr/>
          <p:nvPr/>
        </p:nvPicPr>
        <p:blipFill>
          <a:blip r:embed="rId2"/>
          <a:stretch/>
        </p:blipFill>
        <p:spPr>
          <a:xfrm>
            <a:off x="250920" y="4432320"/>
            <a:ext cx="2808360" cy="1949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6156360" y="4432320"/>
            <a:ext cx="28083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PETIT DEJEUNER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5056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mange des oeuf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du jambo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bois du café noir avec des croissant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38" name="Picture 2" descr="C:\Users\User\Desktop\060268_594.jpg"/>
          <p:cNvPicPr/>
          <p:nvPr/>
        </p:nvPicPr>
        <p:blipFill>
          <a:blip r:embed="rId1"/>
          <a:stretch/>
        </p:blipFill>
        <p:spPr>
          <a:xfrm>
            <a:off x="4788000" y="981000"/>
            <a:ext cx="3978000" cy="2232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Картинка 19 из 13945"/>
          <p:cNvPicPr/>
          <p:nvPr/>
        </p:nvPicPr>
        <p:blipFill>
          <a:blip r:embed="rId2"/>
          <a:stretch/>
        </p:blipFill>
        <p:spPr>
          <a:xfrm>
            <a:off x="4788000" y="3573360"/>
            <a:ext cx="3978000" cy="2787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Картинка 24 из 13940"/>
          <p:cNvPicPr/>
          <p:nvPr/>
        </p:nvPicPr>
        <p:blipFill>
          <a:blip r:embed="rId3"/>
          <a:stretch/>
        </p:blipFill>
        <p:spPr>
          <a:xfrm>
            <a:off x="395280" y="3573360"/>
            <a:ext cx="3889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DEJEUNER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50920" y="1196640"/>
            <a:ext cx="489744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mange de la salade avec des légume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e la soupe aux choux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e la viande avec du pai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148360" y="3962520"/>
            <a:ext cx="3600360" cy="2562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600360" cy="2616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3"/>
          <a:stretch/>
        </p:blipFill>
        <p:spPr>
          <a:xfrm>
            <a:off x="395280" y="2997360"/>
            <a:ext cx="424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DESSER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24000" y="836280"/>
            <a:ext cx="403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préfère le fromag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et les fruits exotique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bois de l`eau minérale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3889440" cy="338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http://t0.gstatic.com/images?q=tbn:ANd9GcTBukKFwYDhIn-L6sMjLUj97IqtGatc_-TCGidBe8yMjBFKMR_b7oIMRHtGwA"/>
          <p:cNvPicPr/>
          <p:nvPr/>
        </p:nvPicPr>
        <p:blipFill>
          <a:blip r:embed="rId2"/>
          <a:stretch/>
        </p:blipFill>
        <p:spPr>
          <a:xfrm>
            <a:off x="4859280" y="907920"/>
            <a:ext cx="3529080" cy="2725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http://t3.gstatic.com/images?q=tbn:ANd9GcS2UO6gEbxEo0eZ19DnJeldyrdAJZ6hZK9Lo9gEbWAuvjYH57-D"/>
          <p:cNvPicPr/>
          <p:nvPr/>
        </p:nvPicPr>
        <p:blipFill>
          <a:blip r:embed="rId3"/>
          <a:stretch/>
        </p:blipFill>
        <p:spPr>
          <a:xfrm>
            <a:off x="4859280" y="3633840"/>
            <a:ext cx="35290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4400"/>
            <a:ext cx="90360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DINER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15640" y="836280"/>
            <a:ext cx="450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prends de la salade avec des crevette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u poisso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bois du thé vert avec du citro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es bonbons au chocolat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63360" y="-552600"/>
            <a:ext cx="1409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216000" y="-399960"/>
            <a:ext cx="14097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1871640" cy="1536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216000" y="4533840"/>
            <a:ext cx="2627280" cy="199872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6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4836"/>
                </a:solidFill>
                <a:latin typeface="Century Gothic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4836"/>
                </a:solidFill>
                <a:latin typeface="Century Gothic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Прямоугольник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4836"/>
                </a:solidFill>
                <a:latin typeface="Century Gothic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3"/>
          <a:stretch/>
        </p:blipFill>
        <p:spPr>
          <a:xfrm>
            <a:off x="4788000" y="3753000"/>
            <a:ext cx="4032000" cy="248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788000" y="836640"/>
            <a:ext cx="403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Картинка 14 из 22891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265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2251080" y="347508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7d72"/>
                </a:solidFill>
                <a:latin typeface="Book Antiqua"/>
              </a:rPr>
              <a:t>BON APPÉTIT!!!</a:t>
            </a:r>
            <a:endParaRPr b="0" lang="en-US" sz="6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0:30Z</dcterms:created>
  <dc:creator>User</dc:creator>
  <dc:description/>
  <dc:language>en-US</dc:language>
  <cp:lastModifiedBy>sd1</cp:lastModifiedBy>
  <dcterms:modified xsi:type="dcterms:W3CDTF">2017-05-12T06:55:36Z</dcterms:modified>
  <cp:revision>36</cp:revision>
  <dc:subject/>
  <dc:title>Презентация PowerPoint</dc:title>
</cp:coreProperties>
</file>