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894-7166-48CF-B7A9-62704645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805-3CA9-4C49-AF8E-C58EEAEC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62-64FB-43ED-B7B9-48D36749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CF3-4C52-4382-8426-96A0E2C1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2CFD-48D7-48CE-8267-C8E1219B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6F0F-076F-4CCC-980F-6A900CB6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3215-D05C-49FE-A40C-7049CAA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5FD-6685-4AC7-9931-AAEA0865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45D9-E1F0-4304-9B7B-E1EBF0F7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77BC-A5D4-4E2C-86D9-F531DF4B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19F-52F2-45F6-BB83-FEB3D85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508-E540-42D5-80F3-2C4C6E4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061-0877-446C-A613-1CE4C67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2AB-4CD3-4454-AB01-170076B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E6C-3EDD-482B-865B-E4C03D7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3E5C-009F-478D-9937-C3B6097D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E9DD-40B8-47B2-B2E6-7EEF7281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8EEB-9F43-4A8C-BBA2-EF87ACAE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EEBB-3A90-498F-B555-A87D338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9EFD-77DB-4896-AD72-0802736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F89F-7395-4984-8D3E-22612A8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10E0-ED72-4561-BA0D-FA81FC80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955-A8E0-4B3C-A1CF-AA07A95B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1106-3E02-4E71-BFF4-EC0C5C7E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8EBF-4CD2-4783-9122-41DE9C8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22B7-B1DB-41A7-9AE4-9791FA0E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8B75-6971-40F1-B4F1-76489A8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023F-5B1B-429F-83F7-5744141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C09F-518E-4068-B741-B9F5C5BF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866C-B1C8-4815-A02D-06B723AD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DA29-A89E-448F-9CD2-B912BA39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16B6-6594-415C-AC04-0DBD5B3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43F2-A67C-4631-BD62-1803519D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37C-1424-4F86-914D-1D6CB54B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2BAC-D707-4C72-A353-CCBD5F6C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14C8-95E6-4CF8-9C3B-462AF3B8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52CC-0579-4695-8030-4D2B806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D711-C800-4D88-BF90-FD15C0E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77F4-693E-4018-9B95-AF4692B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24AE-7C8C-4FBA-A4CA-293164C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DA9A-F4ED-4218-B267-5C296C5D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453E-79F1-46C4-B974-F2F16DC8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BCE3-6DDC-49EE-8BC7-B7B7918F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D32-8626-4407-BCE0-613547A4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BF0-B9CF-445F-8B9D-3A71E7F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772-F2F6-47FF-9644-354159A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AC9-4C37-41A8-AC82-567826B7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934-0133-4FE6-A298-C28CBDB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CFE561-963C-4D1A-A89F-AEFC04B3B944}" type="slidenum">
              <a:rPr b="0" lang="ru-RU" sz="900" spc="-1" strike="noStrike">
                <a:solidFill>
                  <a:srgbClr val="90c22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2AF6EC-42E7-47B7-8B66-7F260343D847}" type="slidenum">
              <a:rPr b="0" lang="ru-RU" sz="900" spc="-1" strike="noStrike">
                <a:solidFill>
                  <a:srgbClr val="90c22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D941C2-EB30-4F21-ACD5-2904B572F492}" type="slidenum">
              <a:rPr b="0" lang="ru-RU" sz="900" spc="-1" strike="noStrike">
                <a:solidFill>
                  <a:srgbClr val="90c22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A303A6-0768-4F02-A6C2-7357342A6D89}" type="slidenum">
              <a:rPr b="0" lang="ru-RU" sz="900" spc="-1" strike="noStrike">
                <a:solidFill>
                  <a:srgbClr val="90c22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ая разработка по экологическому гендерному  воспитанию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школьников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71680" y="1268280"/>
            <a:ext cx="37861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3f7819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6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527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50560" y="4652640"/>
            <a:ext cx="8713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 МБДОУ «Детский сад №137»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городская область город Дзержинск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щиенко Натальи Валерьевны-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средней группы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егори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f7819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357120" y="1000080"/>
            <a:ext cx="335124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8432a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8432a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ая и природоохранная символика год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нетронутой природы: деревья, насекомые, птиц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ни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о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торство: охрана популяции лесных муравьё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Альпийская горк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еревь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108000" y="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ы экологической природы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ий сад № 137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5256360" y="3848040"/>
            <a:ext cx="3887640" cy="2637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2"/>
          <a:stretch/>
        </p:blipFill>
        <p:spPr>
          <a:xfrm>
            <a:off x="3276720" y="43243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0" descr=""/>
          <p:cNvPicPr/>
          <p:nvPr/>
        </p:nvPicPr>
        <p:blipFill>
          <a:blip r:embed="rId3"/>
          <a:stretch/>
        </p:blipFill>
        <p:spPr>
          <a:xfrm>
            <a:off x="3851280" y="954000"/>
            <a:ext cx="2017800" cy="294660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6" descr="Изображение 283.jpg"/>
          <p:cNvPicPr/>
          <p:nvPr/>
        </p:nvPicPr>
        <p:blipFill>
          <a:blip r:embed="rId4"/>
          <a:stretch/>
        </p:blipFill>
        <p:spPr>
          <a:xfrm>
            <a:off x="6588000" y="477720"/>
            <a:ext cx="2175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государственная  и природоохранная символика год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959280" cy="5111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"/>
          <p:cNvPicPr/>
          <p:nvPr/>
        </p:nvPicPr>
        <p:blipFill>
          <a:blip r:embed="rId2"/>
          <a:stretch/>
        </p:blipFill>
        <p:spPr>
          <a:xfrm>
            <a:off x="189000" y="1773360"/>
            <a:ext cx="2654280" cy="3916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25923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 "Уголок нетронутой природы"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29080" y="764640"/>
            <a:ext cx="421488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кты для наблюдений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авянистые растения: клевер, полынь, подорожник, лютики- лекарственное раст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веты: одуванчик, ромаш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янка - открытое освещенное место, окруженное деревьями: берёза, рябина, клён, топол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полянке - полуразложившийся пень с животными и растения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тропинке: плотно утрамбованная поч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тицы :воробей, голубь, сорока. грач, ворона, чай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екомые: муравей , бабочка, гусеница, паук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Рисунок 6" descr="Изображение 507.jpg"/>
          <p:cNvPicPr/>
          <p:nvPr/>
        </p:nvPicPr>
        <p:blipFill>
          <a:blip r:embed="rId1"/>
          <a:stretch/>
        </p:blipFill>
        <p:spPr>
          <a:xfrm>
            <a:off x="0" y="482760"/>
            <a:ext cx="3724200" cy="2428560"/>
          </a:xfrm>
          <a:prstGeom prst="rect">
            <a:avLst/>
          </a:prstGeom>
          <a:ln w="0">
            <a:noFill/>
          </a:ln>
        </p:spPr>
      </p:pic>
      <p:pic>
        <p:nvPicPr>
          <p:cNvPr id="229" name="Объект 8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3087720" cy="20876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Изображение 416.jpg"/>
          <p:cNvPicPr/>
          <p:nvPr/>
        </p:nvPicPr>
        <p:blipFill>
          <a:blip r:embed="rId3"/>
          <a:stretch/>
        </p:blipFill>
        <p:spPr>
          <a:xfrm>
            <a:off x="0" y="4508640"/>
            <a:ext cx="38577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8283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 «Цветник»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9280" y="836280"/>
            <a:ext cx="388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кты для наблюдений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цветы: ирис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тние цветы:  петунь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оголетние цветы: нивяник (ромашка белая), незабудки, нарцисс, лилейник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енние цветы: астры, бархатц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агодаря подбору цветов, клумба цветёт с весны до поздней осен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Рисунок 5" descr=""/>
          <p:cNvPicPr/>
          <p:nvPr/>
        </p:nvPicPr>
        <p:blipFill>
          <a:blip r:embed="rId1"/>
          <a:stretch/>
        </p:blipFill>
        <p:spPr>
          <a:xfrm>
            <a:off x="3851280" y="1197000"/>
            <a:ext cx="2077920" cy="3146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419640" y="4653000"/>
            <a:ext cx="25095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"/>
          <p:cNvPicPr/>
          <p:nvPr/>
        </p:nvPicPr>
        <p:blipFill>
          <a:blip r:embed="rId3"/>
          <a:stretch/>
        </p:blipFill>
        <p:spPr>
          <a:xfrm>
            <a:off x="6068880" y="576360"/>
            <a:ext cx="3013200" cy="198900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4" descr=""/>
          <p:cNvPicPr/>
          <p:nvPr/>
        </p:nvPicPr>
        <p:blipFill>
          <a:blip r:embed="rId4"/>
          <a:stretch/>
        </p:blipFill>
        <p:spPr>
          <a:xfrm>
            <a:off x="6068880" y="2781360"/>
            <a:ext cx="3011760" cy="18730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"/>
          <p:cNvPicPr/>
          <p:nvPr/>
        </p:nvPicPr>
        <p:blipFill>
          <a:blip r:embed="rId5"/>
          <a:stretch/>
        </p:blipFill>
        <p:spPr>
          <a:xfrm>
            <a:off x="6068880" y="4786200"/>
            <a:ext cx="30132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85840"/>
            <a:ext cx="7748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  «Хуторок»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771280" y="853920"/>
            <a:ext cx="40323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омство с  объектами деревенского бы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машние живот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льниц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одец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у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Объект 6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316240" cy="3087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0" descr=""/>
          <p:cNvPicPr/>
          <p:nvPr/>
        </p:nvPicPr>
        <p:blipFill>
          <a:blip r:embed="rId2"/>
          <a:stretch/>
        </p:blipFill>
        <p:spPr>
          <a:xfrm>
            <a:off x="250920" y="3402000"/>
            <a:ext cx="2305080" cy="3311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3" descr=""/>
          <p:cNvPicPr/>
          <p:nvPr/>
        </p:nvPicPr>
        <p:blipFill>
          <a:blip r:embed="rId3"/>
          <a:stretch/>
        </p:blipFill>
        <p:spPr>
          <a:xfrm>
            <a:off x="2690640" y="4888080"/>
            <a:ext cx="3130560" cy="18684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184480" cy="3168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8" descr=""/>
          <p:cNvPicPr/>
          <p:nvPr/>
        </p:nvPicPr>
        <p:blipFill>
          <a:blip r:embed="rId5"/>
          <a:stretch/>
        </p:blipFill>
        <p:spPr>
          <a:xfrm>
            <a:off x="4140360" y="2971800"/>
            <a:ext cx="3108240" cy="1916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9" descr=""/>
          <p:cNvPicPr/>
          <p:nvPr/>
        </p:nvPicPr>
        <p:blipFill>
          <a:blip r:embed="rId6"/>
          <a:stretch/>
        </p:blipFill>
        <p:spPr>
          <a:xfrm>
            <a:off x="6804000" y="3600360"/>
            <a:ext cx="21844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354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  «Новаторство»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рана популяции лесных муравьёв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560" y="907560"/>
            <a:ext cx="338436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д осенне –зимней спячкой проводится подкормка муравьёв сахарной крошк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ыт: подкормка муравьёв путём засыпания сахарной крошки в доступных для муравьёв местах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8560" y="1052280"/>
            <a:ext cx="527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исследования объектов природ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Потрогать, погладить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 Посмотреть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Понюхать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 Послушать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 Рассказать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 Выразить свои чувства, эмоции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3635280" y="1682640"/>
            <a:ext cx="1271520" cy="10987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  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5203800" y="1657440"/>
            <a:ext cx="1455840" cy="110016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6978600" y="3009960"/>
            <a:ext cx="1312920" cy="107784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5245200" y="3011400"/>
            <a:ext cx="1414440" cy="107640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7020000" y="1657440"/>
            <a:ext cx="1271520" cy="105876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3625920" y="3068640"/>
            <a:ext cx="1312920" cy="105876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5" name="Рисунок 11" descr=""/>
          <p:cNvPicPr/>
          <p:nvPr/>
        </p:nvPicPr>
        <p:blipFill>
          <a:blip r:embed="rId1"/>
          <a:stretch/>
        </p:blipFill>
        <p:spPr>
          <a:xfrm>
            <a:off x="5435640" y="1847880"/>
            <a:ext cx="108108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2" descr=""/>
          <p:cNvPicPr/>
          <p:nvPr/>
        </p:nvPicPr>
        <p:blipFill>
          <a:blip r:embed="rId2"/>
          <a:stretch/>
        </p:blipFill>
        <p:spPr>
          <a:xfrm>
            <a:off x="3922560" y="3068640"/>
            <a:ext cx="720720" cy="108108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"/>
          <p:cNvSpPr/>
          <p:nvPr/>
        </p:nvSpPr>
        <p:spPr>
          <a:xfrm>
            <a:off x="7115040" y="3205080"/>
            <a:ext cx="1081080" cy="719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8" name="Рисунок 14" descr=""/>
          <p:cNvPicPr/>
          <p:nvPr/>
        </p:nvPicPr>
        <p:blipFill>
          <a:blip r:embed="rId3"/>
          <a:stretch/>
        </p:blipFill>
        <p:spPr>
          <a:xfrm>
            <a:off x="5510160" y="31892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5" descr=""/>
          <p:cNvPicPr/>
          <p:nvPr/>
        </p:nvPicPr>
        <p:blipFill>
          <a:blip r:embed="rId4"/>
          <a:stretch/>
        </p:blipFill>
        <p:spPr>
          <a:xfrm>
            <a:off x="3911760" y="1690560"/>
            <a:ext cx="71892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6" descr=""/>
          <p:cNvPicPr/>
          <p:nvPr/>
        </p:nvPicPr>
        <p:blipFill>
          <a:blip r:embed="rId5"/>
          <a:stretch/>
        </p:blipFill>
        <p:spPr>
          <a:xfrm>
            <a:off x="7296120" y="1666800"/>
            <a:ext cx="719280" cy="10796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"/>
          <p:cNvPicPr/>
          <p:nvPr/>
        </p:nvPicPr>
        <p:blipFill>
          <a:blip r:embed="rId6"/>
          <a:stretch/>
        </p:blipFill>
        <p:spPr>
          <a:xfrm>
            <a:off x="7020000" y="4149720"/>
            <a:ext cx="1952640" cy="2563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7" descr=""/>
          <p:cNvPicPr/>
          <p:nvPr/>
        </p:nvPicPr>
        <p:blipFill>
          <a:blip r:embed="rId7"/>
          <a:stretch/>
        </p:blipFill>
        <p:spPr>
          <a:xfrm>
            <a:off x="0" y="3357720"/>
            <a:ext cx="2779560" cy="187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8" descr=""/>
          <p:cNvPicPr/>
          <p:nvPr/>
        </p:nvPicPr>
        <p:blipFill>
          <a:blip r:embed="rId8"/>
          <a:stretch/>
        </p:blipFill>
        <p:spPr>
          <a:xfrm>
            <a:off x="1139760" y="4834080"/>
            <a:ext cx="277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785880" y="21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ные ориентиры в познании мира ближайшего окружения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2905200" y="324468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ндивидуальность ребенк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6" name="Схема 3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236000" cy="46576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" descr=""/>
          <p:cNvPicPr/>
          <p:nvPr/>
        </p:nvPicPr>
        <p:blipFill>
          <a:blip r:embed="rId2"/>
          <a:stretch/>
        </p:blipFill>
        <p:spPr>
          <a:xfrm>
            <a:off x="0" y="549360"/>
            <a:ext cx="2268360" cy="34686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"/>
          <p:cNvPicPr/>
          <p:nvPr/>
        </p:nvPicPr>
        <p:blipFill>
          <a:blip r:embed="rId3"/>
          <a:stretch/>
        </p:blipFill>
        <p:spPr>
          <a:xfrm>
            <a:off x="6948360" y="415800"/>
            <a:ext cx="21956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1057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Спасибо за вним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0" name="Содержимое 4" descr="Изображение 326.jpg"/>
          <p:cNvPicPr/>
          <p:nvPr/>
        </p:nvPicPr>
        <p:blipFill>
          <a:blip r:embed="rId1"/>
          <a:stretch/>
        </p:blipFill>
        <p:spPr>
          <a:xfrm>
            <a:off x="2484360" y="1916280"/>
            <a:ext cx="44308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5:21:10Z</dcterms:created>
  <dc:creator>user</dc:creator>
  <dc:description/>
  <dc:language>en-US</dc:language>
  <cp:lastModifiedBy>User</cp:lastModifiedBy>
  <dcterms:modified xsi:type="dcterms:W3CDTF">2017-09-11T10:32:30Z</dcterms:modified>
  <cp:revision>317</cp:revision>
  <dc:subject/>
  <dc:title>Презентация PowerPoint</dc:title>
</cp:coreProperties>
</file>