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8.jpeg" ContentType="image/jpeg"/>
  <Override PartName="/ppt/media/image13.jpeg" ContentType="image/jpeg"/>
  <Override PartName="/ppt/media/image10.jpeg" ContentType="image/jpeg"/>
  <Override PartName="/ppt/media/image12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A2016-CED4-4967-8D11-93ADD757B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0726D-1D2D-41F7-BC87-95AB5E368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AA497-DE82-4345-A145-E08622808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94B6B-1333-4998-99FD-DA8D37070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46069-B53D-431F-8120-241149DDD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AD478-49F1-43EB-A6A0-62EFD9139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250BB-DDC1-41BA-8B3F-19449543D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ED7CD-17B0-4F88-BD4E-EC08D7089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53E2B-A10C-47BC-81C9-93D96B681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36335-5D4F-4CAE-AB11-5955568DB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2A683-CE9A-4A89-B3B1-42811054E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ED5F5-D192-4F5A-907A-A22416973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34785-3951-4642-AB90-975DB0A76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43121-27A0-457E-804F-67A4FC336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DF23F-B348-4620-9C2C-050EC2209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01D77-E935-490B-AFEA-2BF413A31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3863A-3BCC-4D00-91E1-2DE05CB70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2F0D12-B893-4E2B-83D0-FF7D22DA9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B347CA-AF02-4461-924B-4513A095A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BB7CDA-28D1-41D4-94B8-03FAB3BFE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D92EE3-DC20-4013-BF8C-29F979EFC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DD979C-6841-416A-95D1-940882C2C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0B797-5179-4588-A873-BA872EE48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DD254A-4BA3-4D39-AAB5-3803FE2B7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FC43CD-759D-4551-A361-DA5023DA2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994EF6-37CE-4607-951E-6B31AAF7F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09D3DD-8369-42C6-89D4-55BCCA13C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2B6392-B943-4FC9-9112-889FC5C86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8F7F63-9E94-49A8-A17F-1DD98AEE3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A40059-16F3-4444-9CFC-BBFC8C7DD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9D898F-3BD3-4344-A0ED-42326F3DE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B0EF3C-7874-4C68-B88B-37EF7EE1B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868A10-313B-4C5C-832F-F47BFF578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40E16-825D-49FA-B3F6-4C5DA1AEE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648028-5BF4-48D5-8270-016B7D340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178F5E-02D6-4A3A-901A-FC26AA2B2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FFB62A-1C3C-43AB-A946-5660D15B3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8F3086-2163-4C0C-9C1D-0813939C2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F23177-5041-4EDA-9B25-C07ED05F9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D74F04-DB8C-4884-9608-4AEABD6D1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AD4BD6-9275-403A-8913-97471C3BC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17E66C-3CA4-4A44-8554-72E21BC3F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B07DBC-7C5B-4109-9DD5-9E556EB18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A6A5B-3489-4A50-BF7B-5480CFD5F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28BBE-EE13-468E-858A-59008F7AC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8201C-85C2-4687-BC22-D0C6B3C2F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65FF5-68BA-40C9-9881-C3C115952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CB18B-77FF-4DFE-9330-B6157DB61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7e977e">
                  <a:alpha val="45098"/>
                </a:srgbClr>
              </a:gs>
              <a:gs pos="100000">
                <a:srgbClr val="8cc0ce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599a3">
                  <a:alpha val="45098"/>
                </a:srgbClr>
              </a:gs>
              <a:gs pos="100000">
                <a:srgbClr val="96b896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76a55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a8cdd7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b0ccb0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a8cdd7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c0bea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26551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26551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26551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6A9E8-A27E-4B1D-B154-E067AFAFBAA2}" type="slidenum">
              <a:rPr b="0" lang="ru-RU" sz="1200" spc="-1" strike="noStrike">
                <a:solidFill>
                  <a:srgbClr val="626551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7e977e">
                  <a:alpha val="45098"/>
                </a:srgbClr>
              </a:gs>
              <a:gs pos="100000">
                <a:srgbClr val="8cc0ce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599a3">
                  <a:alpha val="45098"/>
                </a:srgbClr>
              </a:gs>
              <a:gs pos="100000">
                <a:srgbClr val="96b896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aebde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eaebde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a8cdd7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b0ccb0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a8cdd7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c0bea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fe0d4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fe0d4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fe0d4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D6A4E-16AA-4704-B1B8-DFA26CA8EEFA}" type="slidenum">
              <a:rPr b="0" lang="ru-RU" sz="1200" spc="-1" strike="noStrike">
                <a:solidFill>
                  <a:srgbClr val="dfe0d4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7e977e">
                  <a:alpha val="45098"/>
                </a:srgbClr>
              </a:gs>
              <a:gs pos="100000">
                <a:srgbClr val="8cc0ce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599a3">
                  <a:alpha val="45098"/>
                </a:srgbClr>
              </a:gs>
              <a:gs pos="100000">
                <a:srgbClr val="96b896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aebde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eaebde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a8cdd7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b0ccb0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a8cdd7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c0bea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fe0d4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fe0d4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fe0d4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70E37-B03B-4860-B16E-001131F41668}" type="slidenum">
              <a:rPr b="0" lang="ru-RU" sz="1200" spc="-1" strike="noStrike">
                <a:solidFill>
                  <a:srgbClr val="dfe0d4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7e977e">
                  <a:alpha val="45098"/>
                </a:srgbClr>
              </a:gs>
              <a:gs pos="100000">
                <a:srgbClr val="8cc0ce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599a3">
                  <a:alpha val="45098"/>
                </a:srgbClr>
              </a:gs>
              <a:gs pos="100000">
                <a:srgbClr val="96b896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76a55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a8cdd7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b0ccb0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a8cdd7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c0bea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26551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26551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26551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90BE6-412F-4AB6-BB4C-2CAC8FEEE7CB}" type="slidenum">
              <a:rPr b="0" lang="ru-RU" sz="1200" spc="-1" strike="noStrike">
                <a:solidFill>
                  <a:srgbClr val="626551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http://www.velvet.by/files/userfiles/2553/wsbsfg74rihruy7iy2j5o1rg5bmoo9cy_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1142640" y="142920"/>
            <a:ext cx="78548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Урок Изо во 2 классе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7" name="Прямоугольник 7" descr=""/>
          <p:cNvPicPr/>
          <p:nvPr/>
        </p:nvPicPr>
        <p:blipFill>
          <a:blip r:embed="rId2"/>
          <a:stretch/>
        </p:blipFill>
        <p:spPr>
          <a:xfrm>
            <a:off x="3359160" y="2036880"/>
            <a:ext cx="626580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4357440" y="1143000"/>
            <a:ext cx="44002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a8cdd7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рирода богата разнообразными растениями. В доисторические времена на наше планете были растения-гиганты. И сегодня в разных частях мира можно увидеть причудливые цветы громадных размеров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99" name="Picture 2" descr="http://cs543.userapi.com/u92612613/114905547/x_e3ffd5b3.jpg"/>
          <p:cNvPicPr/>
          <p:nvPr/>
        </p:nvPicPr>
        <p:blipFill>
          <a:blip r:embed="rId1"/>
          <a:stretch/>
        </p:blipFill>
        <p:spPr>
          <a:xfrm>
            <a:off x="357120" y="1143000"/>
            <a:ext cx="380376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4285800" y="1285560"/>
            <a:ext cx="444348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a8cdd7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Один из самых необычных цветов и крупных цветов в мире называют «теплым» или «горячим». Растет этот цветок гигант в Индонезии, на острове Суматра. Высота его соцветия порой превышает 3м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1" name="Picture 4" descr="http://www.gazon.ua/newsimage/news/987-2.jpg"/>
          <p:cNvPicPr/>
          <p:nvPr/>
        </p:nvPicPr>
        <p:blipFill>
          <a:blip r:embed="rId1"/>
          <a:srcRect l="0" t="0" r="0" b="6251"/>
          <a:stretch/>
        </p:blipFill>
        <p:spPr>
          <a:xfrm>
            <a:off x="642960" y="1285920"/>
            <a:ext cx="3475080" cy="49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7120" y="928800"/>
            <a:ext cx="4471920" cy="449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>
              <a:spcBef>
                <a:spcPts val="649"/>
              </a:spcBef>
              <a:buClr>
                <a:srgbClr val="a8cdd7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Цветок выделяет тепло и распространяет зловонный запах, который многие сравнивают с неприятным запахов протухших продуктов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3" name="Picture 2" descr="Цветы-гиганты в Индонезии"/>
          <p:cNvPicPr/>
          <p:nvPr/>
        </p:nvPicPr>
        <p:blipFill>
          <a:blip r:embed="rId1"/>
          <a:stretch/>
        </p:blipFill>
        <p:spPr>
          <a:xfrm>
            <a:off x="5000760" y="928800"/>
            <a:ext cx="3652560" cy="48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500040" y="214200"/>
            <a:ext cx="842976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lnSpc>
                <a:spcPct val="90000"/>
              </a:lnSpc>
              <a:spcBef>
                <a:spcPts val="649"/>
              </a:spcBef>
              <a:buClr>
                <a:srgbClr val="a8cdd7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Теплый цветок имеет мясистый корень (клубень) весом около 50 кг., который 4 месяца дремлет под землей. Весной, когда начинаются дожди, растение выбрасывает на поверхность гигантский цветок, похожий на эскимо, обернутый большим листом. Самый большой цветок весил 75 кг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5" name="Picture 2" descr="http://basik.ru/images/amorphophallus_titanum/27_amorphophallus_titanum.jpg"/>
          <p:cNvPicPr/>
          <p:nvPr/>
        </p:nvPicPr>
        <p:blipFill>
          <a:blip r:embed="rId1"/>
          <a:stretch/>
        </p:blipFill>
        <p:spPr>
          <a:xfrm>
            <a:off x="1714680" y="2571840"/>
            <a:ext cx="6113160" cy="40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500040" y="4996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a8cdd7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Еще один крупнейший цветок в мире называется «красной чашей». Кроваво-красный, состоящий из 5 мясистых лепестков, он распускается на 3-4 дня, достигает 90 см. в ширину и может весить до 11кг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7" name="Picture 2" descr="http://news.bbc.co.uk/nol/shared/spl/hi/pop_ups/07/sci_nat_enl_1168518084/img/1.jpg"/>
          <p:cNvPicPr/>
          <p:nvPr/>
        </p:nvPicPr>
        <p:blipFill>
          <a:blip r:embed="rId1"/>
          <a:stretch/>
        </p:blipFill>
        <p:spPr>
          <a:xfrm>
            <a:off x="1357200" y="2357280"/>
            <a:ext cx="6429600" cy="42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4642920" y="1142640"/>
            <a:ext cx="408636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649"/>
              </a:spcBef>
              <a:buClr>
                <a:srgbClr val="a8cdd7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Запах у него тоже мерзкий, напоминает гниющее мясо, привлекает мух. У цветка нет корней, ни стебля, ни листьев, растет в тропических лесах Индонезии, Малайзии, Суматры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9" name="Picture 2" descr="http://www.tourprom.ru/site_media/images/news/15242/rafflesia-arnoldii.jpg"/>
          <p:cNvPicPr/>
          <p:nvPr/>
        </p:nvPicPr>
        <p:blipFill>
          <a:blip r:embed="rId1"/>
          <a:stretch/>
        </p:blipFill>
        <p:spPr>
          <a:xfrm>
            <a:off x="571680" y="1123920"/>
            <a:ext cx="3929040" cy="520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4T06:06:06Z</dcterms:created>
  <dc:creator>Евгений</dc:creator>
  <dc:description/>
  <dc:language>en-US</dc:language>
  <cp:lastModifiedBy>User</cp:lastModifiedBy>
  <dcterms:modified xsi:type="dcterms:W3CDTF">2017-09-11T02:29:30Z</dcterms:modified>
  <cp:revision>16</cp:revision>
  <dc:subject/>
  <dc:title>Слайд 1</dc:title>
</cp:coreProperties>
</file>