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4A0-7210-4C09-98C9-A6ECC628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988D-823B-44B2-A57D-28CB8669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9A4-D4C3-481D-BEB5-14A4E5E2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1DB7-12C1-46AF-9F9E-13BCBA5D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D8BC-8FB6-4B9A-8222-66FF074D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5695-DC75-454C-9D7A-33E28CA4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8147-266B-4C11-87FA-0E4AEA6D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4309-A33E-4729-AD0E-D56F8343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F5DF-E83E-4C8C-99BE-D238FD18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B95E-4793-48B5-86F6-E99E42EF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0F04-9839-4507-9BCD-4AF09D1A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1F73-BAA3-48A9-8F03-EA68368A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B89B-169A-46A9-830B-848F2F92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433B-00BC-46F8-8F1C-C026C4C3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2C3B-50ED-451A-B0E4-F7F59D26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94CA-97D8-46EB-BA8B-860BD052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E0E5-2BF3-404B-BEE9-5BD76DC8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F894D-8838-41B3-9E28-F934E2F3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51BAA-8171-4F45-9C03-0C3AC612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57977-B431-4A95-888A-6E467CD8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3C424-165A-41DD-885A-F2F572C0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8743F-E0E8-4E04-8571-2D04FE75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D28-5A9C-4A37-9B60-AF92350C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11A4E-4D4D-48AA-9F4C-16DB8EF7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E2B46-5F9E-4871-83DC-FEE4EEB5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CBFD2-AF80-437D-9B4F-C3251635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81372-2797-4639-8934-8DCA06BD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22154-1763-4FB1-9861-6F463F20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F2735-480B-42E9-AF5A-E821E6CC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D351E-0244-4C67-89F0-21784A19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184B8-5B74-4B83-8C5D-E7060E99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B094A-0516-48C5-AD4D-E88D45C3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390BB-D131-4A5C-B71A-63BED8CA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0AA-FCEF-4945-A110-BC6CF37A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0181D-34B7-4081-ADF8-9B187E7F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DFC04-968A-4A30-9E83-4B03A84D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7D19D-5F38-48F0-BF82-1DC9C8C1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16889-D18D-41AC-8397-C6FDFC1A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D0A8B-22DF-42DD-B21E-37CF3380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1B0BA-2E01-45C5-9C55-CC61A5A3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56053-A371-47D7-B5AE-E4467CFD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55A7C-D110-4F19-B62A-64AC7EF8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CCA5C-8D39-4DDD-8B11-D98ABD73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70F-459C-4A9C-A334-8A975DDD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BAA-8193-4C83-B89C-090D31AD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302C-01F9-4EB9-910D-85016903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F787-A58C-4195-A852-990C8425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32A6-F819-4AD2-B5C3-1CC7C950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CA61-E4B4-467D-856F-396AD375F657}" type="slidenum"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58E8-DDD9-452C-B340-5898024CBC9E}" type="slidenum"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6C80-C8FE-4966-BD3F-04431FE1AEC8}" type="slidenum"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000B-7707-4B52-A22E-194C95C7F046}" type="slidenum"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ttp://www.velvet.by/files/userfiles/2553/wsbsfg74rihruy7iy2j5o1rg5bmoo9cy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142640" y="1429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ок Изо во 2 класс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Прямоугольник 7" descr=""/>
          <p:cNvPicPr/>
          <p:nvPr/>
        </p:nvPicPr>
        <p:blipFill>
          <a:blip r:embed="rId2"/>
          <a:stretch/>
        </p:blipFill>
        <p:spPr>
          <a:xfrm>
            <a:off x="3359160" y="2036880"/>
            <a:ext cx="6265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357440" y="1143000"/>
            <a:ext cx="4400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рода богата разнообразными растениями. В доисторические времена на наше планете были растения-гиганты. И сегодня в разных частях мира можно увидеть причудливые цветы громадных размер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http://cs543.userapi.com/u92612613/114905547/x_e3ffd5b3.jpg"/>
          <p:cNvPicPr/>
          <p:nvPr/>
        </p:nvPicPr>
        <p:blipFill>
          <a:blip r:embed="rId1"/>
          <a:stretch/>
        </p:blipFill>
        <p:spPr>
          <a:xfrm>
            <a:off x="357120" y="1143000"/>
            <a:ext cx="38037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285800" y="1285560"/>
            <a:ext cx="4443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ин из самых необычных цветов и крупных цветов в мире называют «теплым» или «горячим». Растет этот цветок гигант в Индонезии, на острове Суматра. Высота его соцветия порой превышает 3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http://www.gazon.ua/newsimage/news/987-2.jpg"/>
          <p:cNvPicPr/>
          <p:nvPr/>
        </p:nvPicPr>
        <p:blipFill>
          <a:blip r:embed="rId1"/>
          <a:srcRect l="0" t="0" r="0" b="6251"/>
          <a:stretch/>
        </p:blipFill>
        <p:spPr>
          <a:xfrm>
            <a:off x="642960" y="1285920"/>
            <a:ext cx="347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7120" y="928800"/>
            <a:ext cx="44719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веток выделяет тепло и распространяет зловонный запах, который многие сравнивают с неприятным запахов протухших продук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Цветы-гиганты в Индонезии"/>
          <p:cNvPicPr/>
          <p:nvPr/>
        </p:nvPicPr>
        <p:blipFill>
          <a:blip r:embed="rId1"/>
          <a:stretch/>
        </p:blipFill>
        <p:spPr>
          <a:xfrm>
            <a:off x="5000760" y="928800"/>
            <a:ext cx="365256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00040" y="214200"/>
            <a:ext cx="8429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плый цветок имеет мясистый корень (клубень) весом около 50 кг., который 4 месяца дремлет под землей. Весной, когда начинаются дожди, растение выбрасывает на поверхность гигантский цветок, похожий на эскимо, обернутый большим листом. Самый большой цветок весил 75 к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http://basik.ru/images/amorphophallus_titanum/27_amorphophallus_titanum.jpg"/>
          <p:cNvPicPr/>
          <p:nvPr/>
        </p:nvPicPr>
        <p:blipFill>
          <a:blip r:embed="rId1"/>
          <a:stretch/>
        </p:blipFill>
        <p:spPr>
          <a:xfrm>
            <a:off x="1714680" y="2571840"/>
            <a:ext cx="61131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00040" y="499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ще один крупнейший цветок в мире называется «красной чашей». Кроваво-красный, состоящий из 5 мясистых лепестков, он распускается на 3-4 дня, достигает 90 см. в ширину и может весить до 11к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http://news.bbc.co.uk/nol/shared/spl/hi/pop_ups/07/sci_nat_enl_1168518084/img/1.jpg"/>
          <p:cNvPicPr/>
          <p:nvPr/>
        </p:nvPicPr>
        <p:blipFill>
          <a:blip r:embed="rId1"/>
          <a:stretch/>
        </p:blipFill>
        <p:spPr>
          <a:xfrm>
            <a:off x="1357200" y="2357280"/>
            <a:ext cx="642960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642920" y="1142640"/>
            <a:ext cx="40863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пах у него тоже мерзкий, напоминает гниющее мясо, привлекает мух. У цветка нет корней, ни стебля, ни листьев, растет в тропических лесах Индонезии, Малайзии, Суматр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http://www.tourprom.ru/site_media/images/news/15242/rafflesia-arnoldii.jpg"/>
          <p:cNvPicPr/>
          <p:nvPr/>
        </p:nvPicPr>
        <p:blipFill>
          <a:blip r:embed="rId1"/>
          <a:stretch/>
        </p:blipFill>
        <p:spPr>
          <a:xfrm>
            <a:off x="571680" y="1123920"/>
            <a:ext cx="39290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6:06:06Z</dcterms:created>
  <dc:creator>Евгений</dc:creator>
  <dc:description/>
  <dc:language>en-US</dc:language>
  <cp:lastModifiedBy>User</cp:lastModifiedBy>
  <dcterms:modified xsi:type="dcterms:W3CDTF">2017-09-11T02:29:30Z</dcterms:modified>
  <cp:revision>16</cp:revision>
  <dc:subject/>
  <dc:title>Слайд 1</dc:title>
</cp:coreProperties>
</file>