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2.gif" ContentType="image/gif"/>
  <Override PartName="/ppt/media/image9.gif" ContentType="image/gif"/>
  <Override PartName="/ppt/media/image6.wmf" ContentType="image/x-wmf"/>
  <Override PartName="/ppt/media/image19.jpeg" ContentType="image/jpeg"/>
  <Override PartName="/ppt/media/image5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F585-FEFA-4882-9440-B35B9B104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A856-5B50-4F82-A714-3978F73D9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математики 1 квалификационной категории Бачихина С.И.МБОУ СОШ №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B2B5-4323-42EE-95F4-1C3C27183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ША-15,7 – (- 3,7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661-F1DD-40B1-8671-3E49639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991-416E-40FB-8E6C-6B6C6D15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02E-3074-45A1-AF39-F7160CBE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ED0-0489-471F-B35C-F99F594E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079-131A-4C14-93B9-2D7FA30A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A86-7833-4C04-AE21-1E00D52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78D-6295-4BCB-B871-4FBA36C8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0B3-F208-408F-AAE2-82808568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75D-5452-44D1-A16F-030B83C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761-47B6-4F18-A625-7C8A39B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739-C9AC-47AE-8B1B-D3A7803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5F6-676C-4F2E-81A8-5CBCA02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D86C-B6C6-4FD8-9CC3-595A5FD91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рок математики в 6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838080" y="2133720"/>
            <a:ext cx="74869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ложение, вычитание и умножение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исел с разными знаками»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81480" y="4419720"/>
            <a:ext cx="363852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наньева О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КОУ Большеясырская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знаю правила и умею  их приме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 - знаю правила не точно, но  умею  р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не знаю правил, не умею  их приме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Ученик составил примеры и оставил пробелы. Необходимо восстанови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… + … = -(4+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… + … = -(4 - 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… + … = +(4 - 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… + … = 4+…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… - …. = - (…. – 8) =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- … *  … = - (4 * 0,2) =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– 0,8 * …. = 0,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26" descr="j0282747"/>
          <p:cNvPicPr/>
          <p:nvPr/>
        </p:nvPicPr>
        <p:blipFill>
          <a:blip r:embed="rId1"/>
          <a:stretch/>
        </p:blipFill>
        <p:spPr>
          <a:xfrm>
            <a:off x="670572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Ученик составил примеры и оставил пробелы. Необходимо восстанови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4 + (-0,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(4+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4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4 + 0,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(4 - 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3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 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-0,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= +(4 - 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 + (-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+(-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12 - (-8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8) =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0,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 (4 * 0,2)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– 0,8 *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-0,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7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6 -5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5 -3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3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-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53280" cy="448452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 ­  =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+  = 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 · + 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­  =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 +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­  = 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­ · ­ 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­ 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+  = 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12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11 -9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8 -5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5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на парте 2 карточки. Од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вышенной сложности, другая –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желт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прощ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римеры. Зачеркнуть  в таблицах букву, соответствующую данному ответу, из оставшихся букв составить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-3 (крас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27,8 – 33,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43 – (16 + 27,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– 0,38 + (- 1, 6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60 * (-0,04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-5 ¼ - (- 4 ¾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1) – 7,4 – (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3/21 – 1 1/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- 15 + 12,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- 4/15 *  (- 2  ½)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- 5 1/7 + 5 1/7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К-3 (желт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) – 5,5 + (-0,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3 - 3,3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- 1,1 + (-0,9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-1,2 - 1,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- ½ * 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1) – 7,4 – (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-2/7 – 3/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0,7 * ( –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- 1/3 +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- 5 1/7 + 5 1/7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Картинка 11 из 103771"/>
          <p:cNvPicPr/>
          <p:nvPr/>
        </p:nvPicPr>
        <p:blipFill>
          <a:blip r:embed="rId1"/>
          <a:stretch/>
        </p:blipFill>
        <p:spPr>
          <a:xfrm>
            <a:off x="7620120" y="1523880"/>
            <a:ext cx="130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лова пол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значают эти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итайте историческую справку в учебнике на стр.1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едите на  математичес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1143000" y="4495680"/>
            <a:ext cx="1903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10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9-8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7-6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6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p4n 6.gif"/>
          <p:cNvPicPr/>
          <p:nvPr/>
        </p:nvPicPr>
        <p:blipFill>
          <a:blip r:embed="rId1"/>
          <a:stretch/>
        </p:blipFill>
        <p:spPr>
          <a:xfrm>
            <a:off x="3505320" y="2209680"/>
            <a:ext cx="2408040" cy="3240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стная рабо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ы числ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0,1; 0,2; -1/5; 1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А) Укажите какие пары из них надо взять, чтобы их сумма была равна 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 Почему вы взяли эти чис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) Укажите какие пары чисел надо взять, чтобы их сумма была отрицатель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Укажите какие пары чисел надо взять, чтобы их сумма была положительной?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-0,1; 0,2; -1/5; 1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26" descr="j0282747"/>
          <p:cNvPicPr/>
          <p:nvPr/>
        </p:nvPicPr>
        <p:blipFill>
          <a:blip r:embed="rId1"/>
          <a:stretch/>
        </p:blipFill>
        <p:spPr>
          <a:xfrm>
            <a:off x="6629400" y="45720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 –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сейчас мы совершим путешествие по странам и континентам. Перед Вами карта путешествия. Путешествие начнем в Москве. Получив ответ к примеру, записанному с изображением Кремля, вы сможете узнать дальнейший маршрут. Учитывайте, что запись каждого примера начинается с уже полученного ранее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маршрут путешествия, соединяя линиями названия стр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наете ли вы, в каких городах находятся изображенные на рисунках достопримечательности и как они назыв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C:\Documents and Settings\XP\Мои документы\Мои рисунки\анимации\d004.gif"/>
          <p:cNvPicPr/>
          <p:nvPr/>
        </p:nvPicPr>
        <p:blipFill>
          <a:blip r:embed="rId1"/>
          <a:stretch/>
        </p:blipFill>
        <p:spPr>
          <a:xfrm>
            <a:off x="8077320" y="3048120"/>
            <a:ext cx="151128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рта путеше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2362320" cy="177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228600" y="44956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63512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4419720" y="4267080"/>
            <a:ext cx="2209680" cy="177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5867280" y="990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6553080" y="3352680"/>
            <a:ext cx="2371680" cy="1771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2"/>
          <p:cNvSpPr/>
          <p:nvPr/>
        </p:nvSpPr>
        <p:spPr>
          <a:xfrm>
            <a:off x="304920" y="3429000"/>
            <a:ext cx="2286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 - 15) + (-17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04920" y="6134040"/>
            <a:ext cx="1676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4 – 0,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124080" y="2895480"/>
            <a:ext cx="2286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Е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32 – (- 28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5638680" y="2819520"/>
            <a:ext cx="318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ЛИКОБР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 15,2 + (- ½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14600" y="556272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Т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 4,6 + 10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4800600" y="613404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,4- 20,6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7092720" y="533412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15,7 – (- 3,7)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7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6 -5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5 -3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3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 – 5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тоговы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полнит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-19 - 4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59;   2) -59;   3) -21;    4) 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-3,4 + 5,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,3;    2) -2,3;   3) 9,1;    4) -9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– 2/7 * (-1 3/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;       2) – 1/2;  3)  4/7;   4) 1/2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- 5/8 - (- 1/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-3/8 ;  2) 3/8;   3) 7/8;    4)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ычисл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,6 + (-3,5 + 5,6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,5;   2) 2,5;    3) -3,5;   4) -2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айдите сумму всех целых чисел, расположенных между числа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,6 и 3,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;    2) -11;     3) -9;       4) 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26" descr="j0282747"/>
          <p:cNvPicPr/>
          <p:nvPr/>
        </p:nvPicPr>
        <p:blipFill>
          <a:blip r:embed="rId1"/>
          <a:stretch/>
        </p:blipFill>
        <p:spPr>
          <a:xfrm>
            <a:off x="6019920" y="137160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тве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  а) 2    б) 1   в) 4    г)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im0-tub-ru.yandex.net/i?id=333040199-11-72"/>
          <p:cNvPicPr/>
          <p:nvPr/>
        </p:nvPicPr>
        <p:blipFill>
          <a:blip r:embed="rId1"/>
          <a:stretch/>
        </p:blipFill>
        <p:spPr>
          <a:xfrm>
            <a:off x="5257800" y="2971800"/>
            <a:ext cx="2805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цените свои 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О» - верно решено 6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□»- верно решено 5 -4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«∆»- верно решено 3 при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-»- верно решено менее 3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т чего зависит знак сум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пусть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›0 и в‹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│а│›│в│, тогда ….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+ в = │а│ - │в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│а│‹│в│, тогда …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+ в = - (│в│ - │а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уравнении каким может быть число 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8 + х =  - (│х│ - 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:\Documents and Settings\XP\Мои документы\Мои рисунки\анимации\smile21.gif"/>
          <p:cNvPicPr/>
          <p:nvPr/>
        </p:nvPicPr>
        <p:blipFill>
          <a:blip r:embed="rId1"/>
          <a:stretch/>
        </p:blipFill>
        <p:spPr>
          <a:xfrm>
            <a:off x="304920" y="533520"/>
            <a:ext cx="9874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00015950"/>
          <p:cNvPicPr/>
          <p:nvPr/>
        </p:nvPicPr>
        <p:blipFill>
          <a:blip r:embed="rId1"/>
          <a:stretch/>
        </p:blipFill>
        <p:spPr>
          <a:xfrm>
            <a:off x="-1549440" y="-603360"/>
            <a:ext cx="12192120" cy="810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00015950"/>
          <p:cNvPicPr/>
          <p:nvPr/>
        </p:nvPicPr>
        <p:blipFill>
          <a:blip r:embed="rId2"/>
          <a:stretch/>
        </p:blipFill>
        <p:spPr>
          <a:xfrm>
            <a:off x="-1523880" y="-609480"/>
            <a:ext cx="12191760" cy="8105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909800" y="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362320" y="228600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.33. № 1144 (бде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45(вг), 1140(бв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думать 6 приме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дейст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Картинка 94 из 105394"/>
          <p:cNvPicPr/>
          <p:nvPr/>
        </p:nvPicPr>
        <p:blipFill>
          <a:blip r:embed="rId3"/>
          <a:stretch/>
        </p:blipFill>
        <p:spPr>
          <a:xfrm>
            <a:off x="-228600" y="4383000"/>
            <a:ext cx="26668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Своей работой на уроке 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олен\ не доволе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 меня все получилось 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атериал урока мне был полезен/ бесполез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" descr="Описание: https://im3-tub-ru.yandex.net/i?id=5514918e490c46734947b192a6e975d6&amp;n=21"/>
          <p:cNvPicPr/>
          <p:nvPr/>
        </p:nvPicPr>
        <p:blipFill>
          <a:blip r:embed="rId1"/>
          <a:stretch/>
        </p:blipFill>
        <p:spPr>
          <a:xfrm>
            <a:off x="380880" y="152280"/>
            <a:ext cx="2362320" cy="1373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362320" y="228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цените свою раб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2" descr="Описание: https://im0-tub-ru.yandex.net/i?id=0803f23326ee58aecf3ff90cbaa9bdc9&amp;n=21"/>
          <p:cNvPicPr/>
          <p:nvPr/>
        </p:nvPicPr>
        <p:blipFill>
          <a:blip r:embed="rId2"/>
          <a:stretch/>
        </p:blipFill>
        <p:spPr>
          <a:xfrm>
            <a:off x="6553080" y="2209680"/>
            <a:ext cx="2048040" cy="1839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Описание: https://im2-tub-ru.yandex.net/i?id=6f5ffcf2043aab97e0af2ead89ee4cb4&amp;n=21"/>
          <p:cNvPicPr/>
          <p:nvPr/>
        </p:nvPicPr>
        <p:blipFill>
          <a:blip r:embed="rId3"/>
          <a:stretch/>
        </p:blipFill>
        <p:spPr>
          <a:xfrm>
            <a:off x="4724280" y="4495680"/>
            <a:ext cx="2449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цените свою работу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3" descr=""/>
          <p:cNvPicPr/>
          <p:nvPr/>
        </p:nvPicPr>
        <p:blipFill>
          <a:blip r:embed="rId1"/>
          <a:srcRect l="31598" t="43553" r="16850" b="42741"/>
          <a:stretch/>
        </p:blipFill>
        <p:spPr>
          <a:xfrm>
            <a:off x="609480" y="1905120"/>
            <a:ext cx="830592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122400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омпьютер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1428840" y="285840"/>
            <a:ext cx="7215120" cy="3071880"/>
          </a:xfrm>
          <a:prstGeom prst="wedgeEllipseCallout">
            <a:avLst>
              <a:gd name="adj1" fmla="val -42671"/>
              <a:gd name="adj2" fmla="val 462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MS Gothic"/>
              </a:rPr>
              <a:t>Как выполнить вычитание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Users\Зема\AppData\Local\Temp\HamsterArc{e15b90f8-4100-4938-90b5-120e2f581bd8}\Рисунок1.png"/>
          <p:cNvPicPr/>
          <p:nvPr/>
        </p:nvPicPr>
        <p:blipFill>
          <a:blip r:embed="rId1"/>
          <a:stretch/>
        </p:blipFill>
        <p:spPr>
          <a:xfrm>
            <a:off x="2438280" y="1522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5"/>
          <p:cNvSpPr txBox="1"/>
          <p:nvPr/>
        </p:nvSpPr>
        <p:spPr>
          <a:xfrm>
            <a:off x="1981080" y="4267080"/>
            <a:ext cx="58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читаем числ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- в = а + (-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457200" y="3657600"/>
            <a:ext cx="2367000" cy="246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Documents and Settings\XP\Мои документы\Мои рисунки\анимации\smile21.gif"/>
          <p:cNvPicPr/>
          <p:nvPr/>
        </p:nvPicPr>
        <p:blipFill>
          <a:blip r:embed="rId2"/>
          <a:stretch/>
        </p:blipFill>
        <p:spPr>
          <a:xfrm>
            <a:off x="685800" y="609480"/>
            <a:ext cx="98748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-0,1; 0,2; -1/5; 1/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Укажите какие пары чисел надо взять, чтобы их произведение было отрицательн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324000" y="4724280"/>
            <a:ext cx="1855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омпьютер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7"/>
          <p:cNvSpPr/>
          <p:nvPr/>
        </p:nvSpPr>
        <p:spPr>
          <a:xfrm>
            <a:off x="2071800" y="285840"/>
            <a:ext cx="7072200" cy="3643200"/>
          </a:xfrm>
          <a:prstGeom prst="wedgeEllipseCallout">
            <a:avLst>
              <a:gd name="adj1" fmla="val -42671"/>
              <a:gd name="adj2" fmla="val 462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MS Gothic"/>
              </a:rPr>
              <a:t>Сформулируй правило  умножения двух чисел с разными зна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-0,1; 0,2; -1/5; 1/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 Укажите какие пары чисел надо взять, чтобы их произведение было положительн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Картинка 13 из 97662"/>
          <p:cNvPicPr/>
          <p:nvPr/>
        </p:nvPicPr>
        <p:blipFill>
          <a:blip r:embed="rId1"/>
          <a:stretch/>
        </p:blipFill>
        <p:spPr>
          <a:xfrm>
            <a:off x="324000" y="4419720"/>
            <a:ext cx="21477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омпьютер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/>
          <p:cNvSpPr/>
          <p:nvPr/>
        </p:nvSpPr>
        <p:spPr>
          <a:xfrm>
            <a:off x="2071800" y="285840"/>
            <a:ext cx="7072200" cy="3643200"/>
          </a:xfrm>
          <a:prstGeom prst="wedgeEllipseCallout">
            <a:avLst>
              <a:gd name="adj1" fmla="val -42671"/>
              <a:gd name="adj2" fmla="val 462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MS Gothic"/>
              </a:rPr>
              <a:t>Сформулируй правило  умножения двух отрицательных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 чертеже указать, где сумма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жительна, отрицательна и равна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х рисунках произведение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жительно, отрицательно и равно ну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26" descr="j0282747"/>
          <p:cNvPicPr/>
          <p:nvPr/>
        </p:nvPicPr>
        <p:blipFill>
          <a:blip r:embed="rId1"/>
          <a:stretch/>
        </p:blipFill>
        <p:spPr>
          <a:xfrm>
            <a:off x="739152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7:32:02Z</dcterms:created>
  <dc:creator>1</dc:creator>
  <dc:description/>
  <dc:language>en-US</dc:language>
  <cp:lastModifiedBy>школа</cp:lastModifiedBy>
  <dcterms:modified xsi:type="dcterms:W3CDTF">2017-09-08T17:46:5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