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0.jpeg" ContentType="image/jpeg"/>
  <Override PartName="/ppt/media/image8.jpeg" ContentType="image/jpeg"/>
  <Override PartName="/ppt/media/image5.png" ContentType="image/png"/>
  <Override PartName="/ppt/media/image11.wmf" ContentType="image/x-wmf"/>
  <Override PartName="/ppt/media/image3.png" ContentType="image/png"/>
  <Override PartName="/ppt/media/image17.jpeg" ContentType="image/jpeg"/>
  <Override PartName="/ppt/media/image20.wmf" ContentType="image/x-wmf"/>
  <Override PartName="/ppt/media/image4.png" ContentType="image/png"/>
  <Override PartName="/ppt/media/image13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9.wmf" ContentType="image/x-wmf"/>
  <Override PartName="/ppt/media/image18.jpeg" ContentType="image/jpeg"/>
  <Override PartName="/ppt/media/image16.png" ContentType="image/png"/>
  <Override PartName="/ppt/media/image15.jpeg" ContentType="image/jpeg"/>
  <Override PartName="/ppt/media/image6.png" ContentType="image/png"/>
  <Override PartName="/ppt/media/image7.png" ContentType="image/png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497E-2BC6-40F9-A1B9-0C492E9E6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EC33-3E09-4B64-8CEA-007AE23E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AD34-9687-448A-8372-BB2D13D5F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BBDD-CDEF-4BA9-8DB3-E7AFC837A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3FE7-D9DF-41B4-A6F8-A9A8B26F3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9CAD-06E8-41E4-8A50-BBE12DFC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244CE-CFAD-4F5E-A2CF-323C780D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FE8C-02B5-4325-B21C-0E504CCC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CCEF2-A7DA-4B73-BC53-4651BEA5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AD2E-2E50-4D14-B84B-FF83015F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886CA-FF41-49BA-96D0-E407A213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79D0-5851-442F-A0BB-D427AA09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0D01-2A91-4D8B-9896-585E2A8B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F323-541E-4BB7-A002-34A95317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9C9E-AC3F-4C51-873B-BCAABD16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2E80-9901-4230-BC99-DD997254F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61BB3-E362-4248-A80A-569AEB128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E301E-F646-49E4-9967-6D639F9ED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49B1B-2A25-4D04-91CA-2D2C40F8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7F984-1650-4DA3-BE9C-E0B0B6A2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D8592-9D19-467D-9804-5084EBD5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834A5-878A-42B2-BC6F-3470A4E9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9ABC-CBDD-4603-B78E-E77F24FE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780BA-33A5-4AB8-8492-74770F96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05AF5-1163-450F-B215-9E787B74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87D82-8091-4004-B0E0-D8F8FAC9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688E1-C157-4F3A-8415-B0F3B4D9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69D10-24BE-4335-9A2A-F8EE35AA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88C13-EE84-48CB-8175-FB9DC52B4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14AA3-FC1D-431F-9BC4-A95E30441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12C85-1FBC-4479-B9AB-392F3C44A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7CB73-2742-4F25-9BFF-8372BB06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7DE18-B570-47D6-BEFD-BA0B05D3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AE28-9CFC-444D-A0F8-872F5F0A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6B38F-78AB-4E6D-94E1-AFE5E757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342B1-6386-4E26-9158-9B2046A2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46A61-82D4-42EB-976B-EE4258AE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77ED6-7B9D-4532-AD09-5D434864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E16A6-040F-4175-8FC5-C49BB47A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17C80-8A98-4D10-8658-4EB69C2E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89C11-DD49-4BB0-9521-F5C1C305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3712F-BF01-42B1-BFC7-0B9FDD342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9664B-B448-4803-8D7C-4492F7CC2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5D58-1DB9-43B9-A732-9D1FAEB1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2C09-CA5A-4B97-BA7C-C2E931B8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D5F6-0D57-49F4-AD1C-8DB27815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791E-1A4B-44B3-8D12-3F74F4CA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729F-9844-4A3B-9FAC-C23DF9A7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F40D-025D-4076-A81E-E230DC6A39E3}" type="slidenum">
              <a:rPr b="0" lang="ru-RU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58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61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64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67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70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674640" y="971640"/>
            <a:ext cx="6001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6999120" y="2612880"/>
            <a:ext cx="601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2CE9-8F19-4E41-BB92-425ABFCF044A}" type="slidenum">
              <a:rPr b="0" lang="ru-RU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17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20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23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26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29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Straight Connector 16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Straight Connector 17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44D8-1360-44A5-AD59-C8F87716616B}" type="slidenum">
              <a:rPr b="0" lang="ru-RU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8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79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1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82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85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88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Straight Connector 18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Straight Connector 19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1742-9F3F-43BF-B800-334ED2ABF4EF}" type="slidenum">
              <a:rPr b="0" lang="ru-RU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85280" y="313920"/>
            <a:ext cx="8169480" cy="253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entury Gothic"/>
              </a:rPr>
              <a:t>Гуляй по улицам с умом</a:t>
            </a:r>
            <a:endParaRPr b="0" lang="en-US" sz="7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42600" y="321480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entury Gothic"/>
              </a:rPr>
              <a:t>ИГР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entury Gothic"/>
              </a:rPr>
              <a:t>ПО ПРАВИЛАМ ДОРОЖНОГО ДВИЖЕНИЯ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Century Gothic"/>
              </a:rPr>
              <a:t>В 5 КЛАССАХ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TextBox 4"/>
          <p:cNvSpPr/>
          <p:nvPr/>
        </p:nvSpPr>
        <p:spPr>
          <a:xfrm>
            <a:off x="2214720" y="5572080"/>
            <a:ext cx="43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одготовил: педагог-организатор ОБЖ Василенко А.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Рисунок 1" descr=""/>
          <p:cNvPicPr/>
          <p:nvPr/>
        </p:nvPicPr>
        <p:blipFill>
          <a:blip r:embed="rId1"/>
          <a:stretch/>
        </p:blipFill>
        <p:spPr>
          <a:xfrm>
            <a:off x="7093080" y="4352760"/>
            <a:ext cx="1904760" cy="195264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2" descr=""/>
          <p:cNvPicPr/>
          <p:nvPr/>
        </p:nvPicPr>
        <p:blipFill>
          <a:blip r:embed="rId2"/>
          <a:stretch/>
        </p:blipFill>
        <p:spPr>
          <a:xfrm>
            <a:off x="250920" y="4076640"/>
            <a:ext cx="266364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Century Gothic"/>
              </a:rPr>
              <a:t>Опасный поворот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60" name="Объект 3" descr=""/>
          <p:cNvPicPr/>
          <p:nvPr/>
        </p:nvPicPr>
        <p:blipFill>
          <a:blip r:embed="rId1"/>
          <a:stretch/>
        </p:blipFill>
        <p:spPr>
          <a:xfrm>
            <a:off x="1835280" y="1413000"/>
            <a:ext cx="4930560" cy="49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Century Gothic"/>
              </a:rPr>
              <a:t>Бугор, лежащий полицейский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62" name="Объект 3" descr=""/>
          <p:cNvPicPr/>
          <p:nvPr/>
        </p:nvPicPr>
        <p:blipFill>
          <a:blip r:embed="rId1"/>
          <a:stretch/>
        </p:blipFill>
        <p:spPr>
          <a:xfrm>
            <a:off x="2916360" y="2421000"/>
            <a:ext cx="384336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entury Gothic"/>
              </a:rPr>
              <a:t>3. Ответь на вопрос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4" name="Rectangle 1"/>
          <p:cNvSpPr/>
          <p:nvPr/>
        </p:nvSpPr>
        <p:spPr>
          <a:xfrm>
            <a:off x="755640" y="1762560"/>
            <a:ext cx="78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ff66"/>
                </a:solidFill>
                <a:latin typeface="Constantia"/>
                <a:ea typeface="Calibri"/>
              </a:rPr>
              <a:t>1 команда.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  <a:ea typeface="Calibri"/>
              </a:rPr>
              <a:t>Чем отличается пешеходный светофор от обычног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5bd4ff"/>
                </a:solidFill>
                <a:latin typeface="Constantia"/>
                <a:ea typeface="Calibri"/>
              </a:rPr>
              <a:t>2 команда.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  <a:ea typeface="Calibri"/>
              </a:rPr>
              <a:t>Почему нельзя переходить на красный цвет пешеходного переход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4" descr="C:\Users\Пользователь\AppData\Local\Microsoft\Windows\Temporary Internet Files\Content.IE5\IB950CFO\MC900413172[1].wmf"/>
          <p:cNvPicPr/>
          <p:nvPr/>
        </p:nvPicPr>
        <p:blipFill>
          <a:blip r:embed="rId1"/>
          <a:stretch/>
        </p:blipFill>
        <p:spPr>
          <a:xfrm>
            <a:off x="6588000" y="4653000"/>
            <a:ext cx="1005120" cy="20462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C:\Users\Пользователь\AppData\Local\Microsoft\Windows\Temporary Internet Files\Content.IE5\DWN3CUZE\MC900413168[1].wmf"/>
          <p:cNvPicPr/>
          <p:nvPr/>
        </p:nvPicPr>
        <p:blipFill>
          <a:blip r:embed="rId2"/>
          <a:stretch/>
        </p:blipFill>
        <p:spPr>
          <a:xfrm>
            <a:off x="7885080" y="4653000"/>
            <a:ext cx="1008000" cy="20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68360" y="2852640"/>
            <a:ext cx="631512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600" spc="-1" strike="noStrike">
                <a:solidFill>
                  <a:srgbClr val="66ff66"/>
                </a:solidFill>
                <a:latin typeface="Courier New"/>
                <a:ea typeface="Courier New"/>
              </a:rPr>
              <a:t>Молодцы!!!</a:t>
            </a:r>
            <a:endParaRPr b="0" lang="en-US" sz="6600" spc="-1" strike="noStrike">
              <a:solidFill>
                <a:srgbClr val="ebebe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Рисунок 1" descr=""/>
          <p:cNvPicPr/>
          <p:nvPr/>
        </p:nvPicPr>
        <p:blipFill>
          <a:blip r:embed="rId1"/>
          <a:stretch/>
        </p:blipFill>
        <p:spPr>
          <a:xfrm>
            <a:off x="-1620720" y="-244440"/>
            <a:ext cx="12534840" cy="70581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Century Gothic"/>
              </a:rPr>
              <a:t>Из истории…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1" name="Прямоугольник 2"/>
          <p:cNvSpPr/>
          <p:nvPr/>
        </p:nvSpPr>
        <p:spPr>
          <a:xfrm>
            <a:off x="468360" y="227664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Constantia"/>
                <a:ea typeface="Arial"/>
              </a:rPr>
              <a:t>В России правила дорожного движения на лошадях были введены Петром I 03.01.1683 год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Прямоугольник 3"/>
          <p:cNvSpPr/>
          <p:nvPr/>
        </p:nvSpPr>
        <p:spPr>
          <a:xfrm>
            <a:off x="468360" y="3284640"/>
            <a:ext cx="85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95f0e"/>
                </a:solidFill>
                <a:latin typeface="Constantia"/>
                <a:ea typeface="Arial"/>
              </a:rPr>
              <a:t>Первый светофор был изобретен в 1868 году в Лондоне. Это был газовый фонарь с двумя фильтрами: зеленым и красны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107280" y="4221720"/>
            <a:ext cx="711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  <a:ea typeface="Calibri"/>
              </a:rPr>
              <a:t>Первый сигнальный светофор появился в США в 1919 год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5280" y="22046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ebebeb"/>
                </a:solidFill>
                <a:latin typeface="Century Gothic"/>
              </a:rPr>
              <a:t>1. Название команды </a:t>
            </a:r>
            <a:br>
              <a:rPr sz="3800"/>
            </a:br>
            <a:r>
              <a:rPr b="0" lang="ru-RU" sz="3800" spc="-1" strike="noStrike">
                <a:solidFill>
                  <a:srgbClr val="ebebeb"/>
                </a:solidFill>
                <a:latin typeface="Century Gothic"/>
              </a:rPr>
              <a:t>«</a:t>
            </a:r>
            <a:r>
              <a:rPr b="0" lang="ru-RU" sz="3800" spc="-1" strike="noStrike">
                <a:solidFill>
                  <a:srgbClr val="ff0000"/>
                </a:solidFill>
                <a:latin typeface="Century Gothic"/>
              </a:rPr>
              <a:t>Красный</a:t>
            </a:r>
            <a:r>
              <a:rPr b="0" lang="ru-RU" sz="3800" spc="-1" strike="noStrike">
                <a:solidFill>
                  <a:srgbClr val="ebebeb"/>
                </a:solidFill>
                <a:latin typeface="Century Gothic"/>
              </a:rPr>
              <a:t>-</a:t>
            </a:r>
            <a:r>
              <a:rPr b="0" lang="ru-RU" sz="3800" spc="-1" strike="noStrike">
                <a:solidFill>
                  <a:srgbClr val="ffc000"/>
                </a:solidFill>
                <a:latin typeface="Century Gothic"/>
              </a:rPr>
              <a:t>жёлтый</a:t>
            </a:r>
            <a:r>
              <a:rPr b="0" lang="ru-RU" sz="3800" spc="-1" strike="noStrike">
                <a:solidFill>
                  <a:srgbClr val="ebebeb"/>
                </a:solidFill>
                <a:latin typeface="Century Gothic"/>
              </a:rPr>
              <a:t>-</a:t>
            </a:r>
            <a:r>
              <a:rPr b="0" lang="ru-RU" sz="3800" spc="-1" strike="noStrike">
                <a:solidFill>
                  <a:srgbClr val="00b050"/>
                </a:solidFill>
                <a:latin typeface="Century Gothic"/>
              </a:rPr>
              <a:t>зелёный</a:t>
            </a:r>
            <a:r>
              <a:rPr b="0" lang="ru-RU" sz="3800" spc="-1" strike="noStrike">
                <a:solidFill>
                  <a:srgbClr val="ebebeb"/>
                </a:solidFill>
                <a:latin typeface="Century Gothic"/>
              </a:rPr>
              <a:t>» </a:t>
            </a:r>
            <a:endParaRPr b="0" lang="en-US" sz="38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45" name="Рисунок 2" descr=""/>
          <p:cNvPicPr/>
          <p:nvPr/>
        </p:nvPicPr>
        <p:blipFill>
          <a:blip r:embed="rId1"/>
          <a:stretch/>
        </p:blipFill>
        <p:spPr>
          <a:xfrm>
            <a:off x="3348000" y="3645000"/>
            <a:ext cx="1871640" cy="27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entury Gothic"/>
              </a:rPr>
              <a:t>2. Догонялки  </a:t>
            </a:r>
            <a:endParaRPr b="0" lang="en-US" sz="4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7" name="Rectangle 1"/>
          <p:cNvSpPr/>
          <p:nvPr/>
        </p:nvSpPr>
        <p:spPr>
          <a:xfrm>
            <a:off x="1403280" y="1947240"/>
            <a:ext cx="61563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1. Проезжая часть дороги с твердым покрытием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2. Человек, едущий на транспорте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3. Человек, совершающий движение пешком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4. Он бывает запрещающий, разрешающий, информационный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5. Место ожидания автобус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6. Транспорт, работающий от электричества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7. Номер телефона скорой помощи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8. Место, где на время оставляют свой транспорт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9. Многоместный автомобиль для перевозки пассажиров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10. Как называется место пересечения дорог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11. По какой стороне тротуара должны идти пешеходы?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12. Сколько колес у легкового автомобиля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13.Что означает красный сигнал светофора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14. Безбилетный пассажир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15. Для кого предназначен тротуар?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16. Дорога для трамвая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17. Что означает зеленый сигнал светофора?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18. Место посадки и высадки пассажиров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4" descr="C:\Users\Пользователь\AppData\Local\Microsoft\Windows\Temporary Internet Files\Content.IE5\0FJCQH5O\MC900343741[1].wmf"/>
          <p:cNvPicPr/>
          <p:nvPr/>
        </p:nvPicPr>
        <p:blipFill>
          <a:blip r:embed="rId1"/>
          <a:stretch/>
        </p:blipFill>
        <p:spPr>
          <a:xfrm>
            <a:off x="6516720" y="4221000"/>
            <a:ext cx="1762200" cy="15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4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4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entury Gothic"/>
              </a:rPr>
              <a:t>3. Отгадай дорожные знаки</a:t>
            </a:r>
            <a:endParaRPr b="0" lang="en-US" sz="44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50" name="Рисунок 1" descr=""/>
          <p:cNvPicPr/>
          <p:nvPr/>
        </p:nvPicPr>
        <p:blipFill>
          <a:blip r:embed="rId1"/>
          <a:stretch/>
        </p:blipFill>
        <p:spPr>
          <a:xfrm>
            <a:off x="3635280" y="2492280"/>
            <a:ext cx="190836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Century Gothic"/>
              </a:rPr>
              <a:t>Осторожно дети</a:t>
            </a:r>
            <a:endParaRPr b="0" lang="en-US" sz="54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52" name="Объект 3" descr=""/>
          <p:cNvPicPr/>
          <p:nvPr/>
        </p:nvPicPr>
        <p:blipFill>
          <a:blip r:embed="rId1"/>
          <a:stretch/>
        </p:blipFill>
        <p:spPr>
          <a:xfrm>
            <a:off x="1979640" y="170028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Century Gothic"/>
              </a:rPr>
              <a:t>Проезд запрещён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54" name="Объект 3" descr=""/>
          <p:cNvPicPr/>
          <p:nvPr/>
        </p:nvPicPr>
        <p:blipFill>
          <a:blip r:embed="rId1"/>
          <a:stretch/>
        </p:blipFill>
        <p:spPr>
          <a:xfrm>
            <a:off x="2268360" y="1700280"/>
            <a:ext cx="419436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5438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Century Gothic"/>
              </a:rPr>
              <a:t>Пешеходный переход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56" name="Объект 3" descr=""/>
          <p:cNvPicPr/>
          <p:nvPr/>
        </p:nvPicPr>
        <p:blipFill>
          <a:blip r:embed="rId1"/>
          <a:stretch/>
        </p:blipFill>
        <p:spPr>
          <a:xfrm>
            <a:off x="2556000" y="1700280"/>
            <a:ext cx="42861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0545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Century Gothic"/>
              </a:rPr>
              <a:t>Мойка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58" name="Объект 3" descr=""/>
          <p:cNvPicPr/>
          <p:nvPr/>
        </p:nvPicPr>
        <p:blipFill>
          <a:blip r:embed="rId1"/>
          <a:stretch/>
        </p:blipFill>
        <p:spPr>
          <a:xfrm>
            <a:off x="2776680" y="1413000"/>
            <a:ext cx="287172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6:28:27Z</dcterms:created>
  <dc:creator>Tik-T@k</dc:creator>
  <dc:description/>
  <dc:language>en-US</dc:language>
  <cp:lastModifiedBy>ArtemEngels</cp:lastModifiedBy>
  <dcterms:modified xsi:type="dcterms:W3CDTF">2017-09-11T11:58:12Z</dcterms:modified>
  <cp:revision>24</cp:revision>
  <dc:subject/>
  <dc:title>Гуляй по улицам с умом</dc:title>
</cp:coreProperties>
</file>