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0.wmf" ContentType="image/x-wmf"/>
  <Override PartName="/ppt/media/image4.png" ContentType="image/png"/>
  <Override PartName="/ppt/media/image13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6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7FA-B6EA-4770-992A-C5C11405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063-3BB4-4466-B3DF-54B20501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75E-DD6B-49AC-AAC7-2E43EAEC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D01-3BBF-46A2-A088-43882995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5B3D-7213-4550-A2EA-C59FFE70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06A0-E489-4DF9-991B-3A26CEC5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BD23-9AC9-4EAB-9052-24DC4F11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7C30-C640-40C6-8F1A-6E79ABA7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348A-AA88-403E-9388-AD313A8F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C95E-EA1C-4DF6-997D-30FF99B2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25F6-B3BD-4851-B9D7-D4026CA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72A-619F-4C93-9F41-C936D028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A402-E280-49E5-962B-5FB54077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3611-65BE-4A6A-B804-232BA3AD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04FF-9A74-45BE-9D16-4D15E4D0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1D8C-2D4D-48C6-B200-0A6C3DCB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F378-B562-44A1-916E-8A7A03D4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E7E5-1E9A-4414-9DB6-14AA985A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0E7F9-DFC0-4C1A-B35E-5D0DC0FD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83D8-D167-470D-9DC6-3471CE4E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E337-D648-466C-879C-19B17F21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3CC22-52CF-4A24-A230-8153ABB5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0FF-CCCF-4730-B8E2-E0F869C1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E75F-5D3D-43DE-B9BB-AD2CFF58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3929-00CC-4CB4-8218-7AD206C1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04F8-9225-47CB-83D1-72D86A28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73D2E-3180-44DE-9C0C-005609B2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135F-524E-4267-8DB9-A9C52840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45A1-F9FD-459B-B171-FFB5CEEE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A574-FB7E-44A6-9642-29B3144F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1D39E-8396-4BBD-9198-B2A75030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5E7E2-5872-4D30-A650-E85E9746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918F-71FB-4DF0-B0CF-78E52975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AF5-306F-4805-AAD5-5BA9CB36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1ED7A-1757-4393-8EEE-59E82165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18464-4B40-4A27-8954-E4073960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CACD1-939D-4A27-91A7-7E97F8B5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4BD85-BA8B-4DE7-8602-C8C58EB6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48DFF-2241-452E-8DBD-23A210CB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C84E-EF4F-4C0F-A1B8-E23203F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A1E1-311E-4B7C-9324-1D0411E8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C191C-7BDB-4F77-AA26-FE51C989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1B5E-9EAD-4E46-8912-23438AC3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9B5-A881-4C4E-9F02-8B2A5FAB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61D-B28D-4AC4-9372-52D09978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D70-E7C9-4C17-93CF-07593E28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3DF-4254-4A73-BDAD-D25236BE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E48-487A-44DB-AE66-2B614A9F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8BB2-141E-47E6-81BB-D21406A9600A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0B00-E864-4A73-B530-60671162E318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41E2-D34B-4D73-8531-7D6BA359D70B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2407-4F89-4624-8163-46118852DC74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5280" y="313920"/>
            <a:ext cx="8169480" cy="25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entury Gothic"/>
              </a:rPr>
              <a:t>Гуляй по улицам с умом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42600" y="32148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ИГР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ПО ПРАВИЛАМ ДОРОЖНОГО ДВИЖЕНИ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В 5 КЛАССАХ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2214720" y="557208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ил: педагог-организатор ОБЖ Василенко А.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7093080" y="4352760"/>
            <a:ext cx="1904760" cy="19526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26636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Опасный поворот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493056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Бугор, лежащий полицейский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433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3. Ответь на вопрос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755640" y="176256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66"/>
                </a:solidFill>
                <a:latin typeface="Constantia"/>
                <a:ea typeface="Calibri"/>
              </a:rPr>
              <a:t>1 команда.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Calibri"/>
              </a:rPr>
              <a:t>Чем отличается пешеходный светофор от обычног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bd4ff"/>
                </a:solidFill>
                <a:latin typeface="Constantia"/>
                <a:ea typeface="Calibri"/>
              </a:rPr>
              <a:t>2 команда.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Calibri"/>
              </a:rPr>
              <a:t>Почему нельзя переходить на красный цвет пешеходного перехо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C:\Users\Пользователь\AppData\Local\Microsoft\Windows\Temporary Internet Files\Content.IE5\IB950CFO\MC900413172[1].wmf"/>
          <p:cNvPicPr/>
          <p:nvPr/>
        </p:nvPicPr>
        <p:blipFill>
          <a:blip r:embed="rId1"/>
          <a:stretch/>
        </p:blipFill>
        <p:spPr>
          <a:xfrm>
            <a:off x="6588000" y="4653000"/>
            <a:ext cx="1005120" cy="2046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:\Users\Пользователь\AppData\Local\Microsoft\Windows\Temporary Internet Files\Content.IE5\DWN3CUZE\MC900413168[1].wmf"/>
          <p:cNvPicPr/>
          <p:nvPr/>
        </p:nvPicPr>
        <p:blipFill>
          <a:blip r:embed="rId2"/>
          <a:stretch/>
        </p:blipFill>
        <p:spPr>
          <a:xfrm>
            <a:off x="7885080" y="4653000"/>
            <a:ext cx="10080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68360" y="2852640"/>
            <a:ext cx="63151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66ff66"/>
                </a:solidFill>
                <a:latin typeface="Courier New"/>
                <a:ea typeface="Courier New"/>
              </a:rPr>
              <a:t>Молодцы!!!</a:t>
            </a:r>
            <a:endParaRPr b="0" lang="en-US" sz="66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-1620720" y="-244440"/>
            <a:ext cx="12534840" cy="70581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Century Gothic"/>
              </a:rPr>
              <a:t>Из истории…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468360" y="2276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  <a:ea typeface="Arial"/>
              </a:rPr>
              <a:t>В России правила дорожного движения на лошадях были введены Петром I 03.01.1683 г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468360" y="328464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f0e"/>
                </a:solidFill>
                <a:latin typeface="Constantia"/>
                <a:ea typeface="Arial"/>
              </a:rPr>
              <a:t>Первый светофор был изобретен в 1868 году в Лондоне. Это был газовый фонарь с двумя фильтрами: зеленым и красны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280" y="4221720"/>
            <a:ext cx="71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  <a:ea typeface="Calibri"/>
              </a:rPr>
              <a:t>Первый сигнальный светофор появился в США в 1919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ebebeb"/>
                </a:solidFill>
                <a:latin typeface="Century Gothic"/>
              </a:rPr>
              <a:t>1. Название команды </a:t>
            </a:r>
            <a:br>
              <a:rPr sz="3800"/>
            </a:b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«</a:t>
            </a:r>
            <a:r>
              <a:rPr b="0" lang="ru-RU" sz="3800" spc="-1" strike="noStrike">
                <a:solidFill>
                  <a:srgbClr val="ff0000"/>
                </a:solidFill>
                <a:latin typeface="Century Gothic"/>
              </a:rPr>
              <a:t>Красный</a:t>
            </a: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-</a:t>
            </a:r>
            <a:r>
              <a:rPr b="0" lang="ru-RU" sz="3800" spc="-1" strike="noStrike">
                <a:solidFill>
                  <a:srgbClr val="ffc000"/>
                </a:solidFill>
                <a:latin typeface="Century Gothic"/>
              </a:rPr>
              <a:t>жёлтый</a:t>
            </a: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-</a:t>
            </a:r>
            <a:r>
              <a:rPr b="0" lang="ru-RU" sz="3800" spc="-1" strike="noStrike">
                <a:solidFill>
                  <a:srgbClr val="00b050"/>
                </a:solidFill>
                <a:latin typeface="Century Gothic"/>
              </a:rPr>
              <a:t>зелёный</a:t>
            </a: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» 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5" name="Рисунок 2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187164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2. Догонялки  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1403280" y="1947240"/>
            <a:ext cx="6156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. Проезжая часть дороги с твердым покрытием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2. Человек, едущий на транспорте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3. Человек, совершающий движение пешком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4. Он бывает запрещающий, разрешающий, информационный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5. Место ожидания автобус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6. Транспорт, работающий от электричества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7. Номер телефона скорой помощи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8. Место, где на время оставляют свой транспорт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9. Многоместный автомобиль для перевозки пассажиров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0. Как называется место пересечения дорог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1. По какой стороне тротуара должны идти пешеходы?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2. Сколько колес у легкового автомобил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3.Что означает красный сигнал светофор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4. Безбилетный пассажир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5. Для кого предназначен тротуар?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6. Дорога для трамва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7. Что означает зеленый сигнал светофора?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18. Место посадки и высадки пассажиров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C:\Users\Пользователь\AppData\Local\Microsoft\Windows\Temporary Internet Files\Content.IE5\0FJCQH5O\MC900343741[1].wmf"/>
          <p:cNvPicPr/>
          <p:nvPr/>
        </p:nvPicPr>
        <p:blipFill>
          <a:blip r:embed="rId1"/>
          <a:stretch/>
        </p:blipFill>
        <p:spPr>
          <a:xfrm>
            <a:off x="6516720" y="4221000"/>
            <a:ext cx="176220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3. Отгадай дорожные знаки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3635280" y="2492280"/>
            <a:ext cx="19083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entury Gothic"/>
              </a:rPr>
              <a:t>Осторожно дети</a:t>
            </a:r>
            <a:endParaRPr b="0" lang="en-US" sz="54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Проезд запрещён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4" name="Объект 3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1943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5438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Пешеходный переход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6" name="Объект 3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545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Мойка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8" name="Объект 3" descr=""/>
          <p:cNvPicPr/>
          <p:nvPr/>
        </p:nvPicPr>
        <p:blipFill>
          <a:blip r:embed="rId1"/>
          <a:stretch/>
        </p:blipFill>
        <p:spPr>
          <a:xfrm>
            <a:off x="2776680" y="1413000"/>
            <a:ext cx="2871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28:27Z</dcterms:created>
  <dc:creator>Tik-T@k</dc:creator>
  <dc:description/>
  <dc:language>en-US</dc:language>
  <cp:lastModifiedBy>ArtemEngels</cp:lastModifiedBy>
  <dcterms:modified xsi:type="dcterms:W3CDTF">2017-09-11T11:58:12Z</dcterms:modified>
  <cp:revision>24</cp:revision>
  <dc:subject/>
  <dc:title>Гуляй по улицам с умом</dc:title>
</cp:coreProperties>
</file>