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7.wmf" ContentType="image/x-wmf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E92-754B-4126-91E3-0BD14E63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075-E667-4097-9BA4-68937B02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880-0841-40D2-B187-E93791BA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A77-0097-4871-874A-6E1EA081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ACD-6F41-4F5A-B4D4-D3F9CCE9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22D-E430-4F87-953A-0444AACD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D89-687C-4906-BB3D-ACBA4AB7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668-8D8E-44AC-B5E2-A17E2D5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777-E397-4120-96CC-4AB7F6C5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385-437C-4EEE-AF5E-20DCB33B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A5B-44D9-40F3-9777-1A4C8E5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5E1-7B01-47CA-9822-10AF54AC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7A3B-4392-4E00-8BE1-9EBC931D3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93672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12000" y="115920"/>
            <a:ext cx="974880" cy="1182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76360" y="404640"/>
            <a:ext cx="61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23480"/>
            <a:ext cx="587592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инистерство образования Моск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сударственное бюджетное профессион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Чеховский 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4 фото-квадрат копия.jpg"/>
          <p:cNvPicPr/>
          <p:nvPr/>
        </p:nvPicPr>
        <p:blipFill>
          <a:blip r:embed="rId3"/>
          <a:stretch/>
        </p:blipFill>
        <p:spPr>
          <a:xfrm>
            <a:off x="395280" y="1341360"/>
            <a:ext cx="6769080" cy="532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7236000" y="1268280"/>
            <a:ext cx="1908000" cy="560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Региональный семинар </a:t>
            </a: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(методический мараф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Совершенствование форм и методов образовательного процесса ПОО на основе реализации ФГОС нового поколения с целью подготовки конкурентоспособного  специалиста, востребованного на рынке труд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оциальный проект «Содействие созданию обстановки психологического комфор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Лебедева Елена Сергеев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Бабинцева Елена Серге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еализац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sikhologhichieskii_komfort_v_shkolie__vazhnoie_usloviie_effiektivnosti_obuchieniia_i_vospitaniia8" descr=""/>
          <p:cNvPicPr/>
          <p:nvPr/>
        </p:nvPicPr>
        <p:blipFill>
          <a:blip r:embed="rId1"/>
          <a:stretch/>
        </p:blipFill>
        <p:spPr>
          <a:xfrm>
            <a:off x="1546200" y="1600200"/>
            <a:ext cx="605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сновны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а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1700280"/>
            <a:ext cx="3168720" cy="10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0"/>
          </p:cNvCxnSpPr>
          <p:nvPr/>
        </p:nvCxnSpPr>
        <p:spPr>
          <a:xfrm>
            <a:off x="4427640" y="1699920"/>
            <a:ext cx="216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3257640" y="19368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2880" y="19162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 педо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2781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44920"/>
            <a:ext cx="6264360" cy="33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3645000"/>
            <a:ext cx="61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Работа с педаг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Работа с обучающимися: общеобразовательных групп, с ОВЗ, с обучающимися «группы рис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Работа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с педагог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691160" cy="464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мидж педагога (авгу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онфликтология (сентябрь, февра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офилактика эмоционального выгорания (январь, ию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циально-правовая грамотность(октябрь, ма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еализуется через «Творческую лабораторию» и семинары в форме тренингов, деловых игр, диску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10280" y="1413000"/>
            <a:ext cx="3465360" cy="2373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08480" y="3789360"/>
            <a:ext cx="34671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4824360" cy="518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одительский лекторий (сентябрь, декабрь, апрел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онсультации (индивидуальные и групповы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одительский клуб «Счастливая ма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омощь семье в поиске выхода из проблем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672000" cy="2373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6720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с обучаю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КОТ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(краткий ориентировочный тест Бузина) – 1 курс октябрь, м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Социометри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1 курс – февраль, 2 курс – но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Тренинг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«Саморазвитие личности» (Л.Ан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88800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с обучаю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4640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Дискуссионный кл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5. Волонтерское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6. Мониторинг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(удовлетворенность обучающихся жизнедеятельностью в ОУ)- ию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339408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08480" y="3789360"/>
            <a:ext cx="3395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Социометрия (сравнительный анализ)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Группа ПК-45 1, 2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411480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468520"/>
            <a:ext cx="403848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абота с обучающимися с ОВ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лонтерское сопрово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теграция обучающихся с ОВЗ в учебный коллект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етодика «Мозарти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19640" y="3938760"/>
            <a:ext cx="2881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абота с обучающимися с ОВ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4. Цикл классных часов по развитию эмп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5. Арт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6. Тренинг «Развитие общ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32360" cy="2260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374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аправление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оздание в техникуме обстановки психологического комфорта, содействие в сохранении и укреплении здоровья обучающихся, реализация индивидуального подхода 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обучающимся в процессе обучения и воспит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абота с обучающимися «группы рис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Изучение обучающегося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(наблюдение, анкетирование, беседы, ведение личных диагностических карточ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Составление индивидуального плана работы с обучающ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Вовлечение в социально-значим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Работа с семь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677520"/>
            <a:ext cx="8771040" cy="553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точка индивидуального учета подрост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щего на внутреннем  учете №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а постановки "      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.        Дата снятия  "      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0  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.И.О. учащегося 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ий адрес  и телефон 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дения о родите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ь 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работы 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кая характеристика 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ец 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работы 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кая характеристика 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ты характера подростка 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есы, увлечения, склонности 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ия проживания несовершеннолет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семьи: 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шение родителей к воспитанию: 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 за обучением 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958320"/>
            <a:ext cx="8785440" cy="542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для занятий: 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е к учебе, посещаемость 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общественной жизни   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е кружков, клубов, секций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общественно полезному труду 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ем друж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хникуме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сту жительства 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о считает авторитетом и почему? 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фы подрост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числа педагогов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числа членов Совета техникума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числа родительской общественности 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 общения с товарищами:   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и время совершения проступка 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 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а наказания 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ки о проведении индивидуально профилак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ы мастером, социальным педаг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16160" y="-1080"/>
            <a:ext cx="46688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индивидуально-педагогической  работ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с учащимся   группы Пл-51  ГБПОУ  МО «Чеховский техник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Дроздовым Артемом Дмитриевичем, 25.10.1998 г.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907920"/>
          <a:ext cx="8280360" cy="5908680"/>
        </p:xfrm>
        <a:graphic>
          <a:graphicData uri="http://schemas.openxmlformats.org/drawingml/2006/table">
            <a:tbl>
              <a:tblPr/>
              <a:tblGrid>
                <a:gridCol w="496800"/>
                <a:gridCol w="3746520"/>
                <a:gridCol w="1212840"/>
                <a:gridCol w="2824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ctr" pos="172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текущей успеваемости и посещаемос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Свиридов А.В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уроков с целью наблюдения за уча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  , Лебед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 социально-психологической характеристик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Лебедева Е.С.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ридов А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помощи по преодолению трудностей в учеб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 профилактики 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индивидуальных особенностей, личностной ориентации, выяснение причин и  характера проблем учащего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Лебед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лечение  в общеучилищные  дела и ме­роприятия,   спортивные соревн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ридов А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рофилактических бесед, в том числе с привлечением специалистов ОДН, врачей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тор ОДН, Совет профилактики 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по месту проживания, взаимодействие с воспитателями общежи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ридов А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ор конфликтных ситу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ОУ, отдел опе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в   трудоустройстве по окончании техник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 отдел опе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рекомендаций по воспитанию учащегося и улучшению взаимопонимания с педагогами, товарищами по обуче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еятельности и взаимодействия  мастера и учащегося по адаптации в училище и преодолению возникающих пробл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нед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Бабурин Н.Н., администрация 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098720" y="7487280"/>
            <a:ext cx="37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й педагог                        Е.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бинц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овлечение в социально-значимую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астие в творческих и спортивных конкурс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астие в профессиональных конкурс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астие в акц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трудоустройство в летнее время в сезонные трудовые бригады, спортивный лаг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22840" y="3938760"/>
            <a:ext cx="3889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овлечение в социально-значимую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743280" cy="2520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3938760"/>
            <a:ext cx="3743280" cy="265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396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427640" y="3938760"/>
            <a:ext cx="3960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с семь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зучение микроклимата в семье: стили воспитания, методы и приемы воспитательного   воздействия, соста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сещения на дому, акты обследования жилищно-бытовых усло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казание материальной пом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овлечение родителей в учебно-воспитательный процесс: посещение уроков, внеклассных мероприятий, наставниче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84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рганизацион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Организаторы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оциальный педагог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едагог-психол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Сроки проведени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 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Участники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 обучающиеся техникума, педагоги, родит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современном экономическом пространстве и в  связи с изменением социального заказа профессиональное образовательное учреждение должно создать условия для формирования  личности выпускников, способных сбалансированным внутренним состоянием и возможностью выстраивать оптимальные взаимоотношения с окружающим ми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условиях создавшегося рынка труда повышаются требования к специалистам. Они должны обладать профессиональной компетентностью и мобильностью, уметь быстро приспосабливаться к изменяющимся условиям, овладевать новыми технологиями и профессиями. Эта проблема связана с оптимизацией образовательного процесса с целью сохранения физического, психического, духовно-нравственного здоровья обучающихся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оздание максимально благоприятных для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убъекта условий внешней и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внутренней среды,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оложительного эмоционального 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фона, отсутствие психического и социального напря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оздать условия для сотрудничества всех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Формировать уважительное отношение, открытость, дружелюбие к сверстникам, родителям, людям пожилого возраста, инвали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одействие полноценности социализации обучающихся с ОВ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Развивать коммуникативные способности, познавательную активность, твор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пособствовать развитию личности, обладающей толерантным созн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пособствовать сохранению психического и физического здоровья всех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Консолидация и координация деятельности техникума и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одержание проекта и сроки реализ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1.Подготовительный этап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включает в себя планирование, оповещение активов групп, разработка памяток, выработка единых алгоритмов действий. Подбор информации, сценариев по теме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2.Реализация проекта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Рефлексия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 – 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выбор участниками  лучших мероприятий данного проект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вышение мотивации к об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сширение опыта работы в коллекти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иобретение учащимися навыков в становлении профессион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витие самостоятельности,  ответственности и социальной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гармонизация лич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240000" cy="23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C:\Documents and Settings\Admin\Рабочий стол\презентация\XgIfd6oZY84.jpg"/>
          <p:cNvPicPr/>
          <p:nvPr/>
        </p:nvPicPr>
        <p:blipFill>
          <a:blip r:embed="rId2"/>
          <a:stretch/>
        </p:blipFill>
        <p:spPr>
          <a:xfrm>
            <a:off x="5292720" y="3938760"/>
            <a:ext cx="2519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еализац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sikhologhichieskii_komfort_v_shkolie__vazhnoie_usloviie_effiektivnosti_obuchieniia_i_vospitaniia7" descr=""/>
          <p:cNvPicPr/>
          <p:nvPr/>
        </p:nvPicPr>
        <p:blipFill>
          <a:blip r:embed="rId1"/>
          <a:stretch/>
        </p:blipFill>
        <p:spPr>
          <a:xfrm>
            <a:off x="1546200" y="1600200"/>
            <a:ext cx="605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7T08:55:32Z</dcterms:created>
  <dc:creator>Users</dc:creator>
  <dc:description/>
  <dc:language>en-US</dc:language>
  <cp:lastModifiedBy>Users</cp:lastModifiedBy>
  <dcterms:modified xsi:type="dcterms:W3CDTF">2017-09-11T10:35:47Z</dcterms:modified>
  <cp:revision>25</cp:revision>
  <dc:subject/>
  <dc:title>Слайд 1</dc:title>
</cp:coreProperties>
</file>