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7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F76-AFA5-4D48-940C-93BDCCB1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056-417F-49FE-858D-E1E8C2C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EFB-1731-483A-B460-C5C8049F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0BA-DAEF-44B9-B26B-88B34E5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754-2DF4-44C9-87E6-31808E72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557-266B-456E-88ED-8498DD99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E77-E693-4B96-926E-48E605B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A15-B0D3-4788-942E-95D3D08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49A-EB40-4CE7-8371-070DAA2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F2F-8DB0-461A-992B-2740406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5CA-E4AB-4749-91C8-22E8939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843-D291-4E14-9195-53D97D8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2E30-AB9D-4FBF-A2D3-34BA112F8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3672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15920"/>
            <a:ext cx="974880" cy="1182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76360" y="404640"/>
            <a:ext cx="61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23480"/>
            <a:ext cx="587592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инистерство образования Моск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сударственное бюджетное профессион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Чехов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4 фото-квадрат копия.jpg"/>
          <p:cNvPicPr/>
          <p:nvPr/>
        </p:nvPicPr>
        <p:blipFill>
          <a:blip r:embed="rId3"/>
          <a:stretch/>
        </p:blipFill>
        <p:spPr>
          <a:xfrm>
            <a:off x="395280" y="1341360"/>
            <a:ext cx="6769080" cy="532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7236000" y="1268280"/>
            <a:ext cx="1908000" cy="560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Региональный семинар 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(методический мараф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Совершенствование форм и методов образовательного процесса ПОО на основе реализации ФГОС нового поколения с целью подготовки конкурентоспособного  специалиста, востребованного на рынке труд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оциальный проект «Содействие созданию обстановки психологического комфор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Лебедева Елена Серге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Бабинцева Елена Серге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sikhologhichieskii_komfort_v_shkolie__vazhnoie_usloviie_effiektivnosti_obuchieniia_i_vospitaniia8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сновн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1700280"/>
            <a:ext cx="316872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0"/>
          </p:cNvCxnSpPr>
          <p:nvPr/>
        </p:nvCxnSpPr>
        <p:spPr>
          <a:xfrm>
            <a:off x="4427640" y="1699920"/>
            <a:ext cx="21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3257640" y="1936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2880" y="1916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 педо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781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44920"/>
            <a:ext cx="626436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364500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Работа с педаг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Работа с обучающимися: общеобразовательных групп, с ОВЗ, с обучающимися «группы рис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Работа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педагог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691160" cy="464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идж педагога (авгу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нфликтология (сентябрь, февр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офилактика эмоционального выгорания (январь, ию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циально-правовая грамотность(октябрь, ма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еализуется через «Творческую лабораторию» и семинары в форме тренингов, деловых игр, диску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10280" y="1413000"/>
            <a:ext cx="3465360" cy="2373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08480" y="3789360"/>
            <a:ext cx="3467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4824360" cy="51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одительский лекторий (сентябрь, декабрь, апрел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нсультации (индивидуальные и групповы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одительский клуб «Счастливая ма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мощь семье в поиске выхода из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672000" cy="2373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672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обучаю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КОТ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краткий ориентировочный тест Бузина) – 1 курс октябрь, 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Социометри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1 курс – февраль, 2 курс – но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ренинг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Саморазвитие личности» (Л.Ан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88800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обучаю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4640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Дискуссионный кл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5. Волонтерск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6. Мониторинг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удовлетворенность обучающихся жизнедеятельностью в ОУ)- ию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08480" y="3789360"/>
            <a:ext cx="3395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оциометрия (сравнительный анализ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Группа ПК-45 1, 2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1148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468520"/>
            <a:ext cx="40384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лонтерское сопрово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грация обучающихся с ОВЗ в учебный коллек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етодика «Мозарти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3938760"/>
            <a:ext cx="288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Цикл классных часов по развитию эмп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Арт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6. Тренинг «Развитие общ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226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7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авление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здание в техникуме обстановки психологического комфорта, содействие в сохранении и укреплении здоровья обучающихся, реализация индивидуального подхода 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обучающимся в процессе обучения и воспит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абота с обучающимися «группы рис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Изучение обучающегос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(наблюдение, анкетирование, беседы, ведение личных диагностических карточ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Составление индивидуального плана работы с обучаю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Вовлечение в социально-значим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бота с семь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677520"/>
            <a:ext cx="8771040" cy="553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очка индивидуального учета подрос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щего на внутреннем  учете №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постановки "      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.        Дата снятия  "      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  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.И.О. учащегося 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ий адрес  и телефон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дения о родите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ь 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аботы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ая характеристика 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ец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аботы 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ая характеристика 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ты характера подростка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есы, увлечения, склонности 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я проживания несовершенн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семьи: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 родителей к воспитанию: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за обучением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958320"/>
            <a:ext cx="8785440" cy="542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для занятий: 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к учебе, посещаемость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общественной жизни   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е кружков, клубов, секций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общественно полезному труду 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ем друж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хникуме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сту жительства 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считает авторитетом и почему?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фы подрост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педагогов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членов Совета техникума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исла родительской общественности 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 общения с товарищами:   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и время совершения проступка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а наказания 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ки о проведении индивидуально профилак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мастером, социальным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16160" y="-1080"/>
            <a:ext cx="4668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индивидуально-педагогической  работ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с учащимся   группы Пл-51  ГБПОУ  МО «Чеховский техник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роздовым Артемом Дмитриевичем, 25.10.1998 г.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07920"/>
          <a:ext cx="8280360" cy="5908680"/>
        </p:xfrm>
        <a:graphic>
          <a:graphicData uri="http://schemas.openxmlformats.org/drawingml/2006/table">
            <a:tbl>
              <a:tblPr/>
              <a:tblGrid>
                <a:gridCol w="496800"/>
                <a:gridCol w="3746520"/>
                <a:gridCol w="1212840"/>
                <a:gridCol w="2824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ctr" pos="172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кущей успеваемости и посещаем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Свиридов А.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с целью наблюдения за уча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  , 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 социально-психологической характеристик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Лебед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мощи по преодолению трудностей в учеб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профилактики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индивидуальных особенностей, личностной ориентации, выяснение причин и  характера проблем учащего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 в общеучилищные  дела и ме­роприятия,   спортивные соревн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филактических бесед, в том числе с привлечением специалистов ОДН, врачей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ОДН, Совет профилактики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по месту проживания, взаимодействие с воспитателями общежи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ридов А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ор конфликтных ситу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ОУ, отдел опе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  трудоустройстве по окончании техник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 отдел опе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рекомендаций по воспитанию учащегося и улучшению взаимопонимания с педагогами, товарищами по обуч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еятельности и взаимодействия  мастера и учащегося по адаптации в училище и преодолению возникающих пробл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нед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инцева Е.С., Бабурин Н.Н., администрация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098720" y="7487280"/>
            <a:ext cx="37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й педагог                        Е.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инц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овлечение в социально-значимую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творческих и спортивных конк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профессиональных конк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астие в ак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рудоустройство в летнее время в сезонные трудовые бригады, спортивный лаг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овлечение в социально-значимую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74328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938760"/>
            <a:ext cx="37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27640" y="3938760"/>
            <a:ext cx="3960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с семь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зучение микроклимата в семье: стили воспитания, методы и приемы воспитательного   воздействия, 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ещения на дому, акты обследования жилищно-бытовых усло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казание материальн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овлечение родителей в учебно-воспитательный процесс: посещение уроков, внеклассных мероприятий, наставнич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рганизацион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Организаторы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циальный педагог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едагог-психол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Сроки проведени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Участник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 обучающиеся техникума, педагоги, роди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современном экономическом пространстве и в  связи с изменением социального заказа профессиональное образовательное учреждение должно создать условия для формирования  личности выпускников, способных сбалансированным внутренним состоянием и возможностью выстраивать оптимальные взаимоотношения с окружающим м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условиях создавшегося рынка труда повышаются требования к специалистам. Они должны обладать профессиональной компетентностью и мобильностью, уметь быстро приспосабливаться к изменяющимся условиям, овладевать новыми технологиями и профессиями. Эта проблема связана с оптимизацией образовательного процесса с целью сохранения физического, психического, духовно-нравственного здоровья обучающихс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здание максимально благоприятных дл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убъекта условий внешней и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нутренней среды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оложительного эмоционального 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фона, отсутствие психического и социального напря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здать условия для сотрудничества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Формировать уважительное отношение, открытость, дружелюбие к сверстникам, родителям, людям пожилого возраста, инвали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действие полноценности социализации обучающихся с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Развивать коммуникативные способности, познавательную активность, твор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овать развитию личности, обладающей толерантным созн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овать сохранению психического и физического здоровья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онсолидация и координация деятельности техникума 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одержание проекта и сроки реализ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1.Подготовительный эта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включает в себя планирование, оповещение активов групп, разработка памяток, выработка единых алгоритмов действий. Подбор информации, сценариев по тем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2.Реализация проекта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Рефлексия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 – 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выбор участниками  лучших мероприятий данного проект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вышение мотивации к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сширение опыта работы в коллекти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обретение учащимися навыков в становлении профессион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тие самостоятельности,  ответственности и социальн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армонизация л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C:\Documents and Settings\Admin\Рабочий стол\презентация\XgIfd6oZY84.jpg"/>
          <p:cNvPicPr/>
          <p:nvPr/>
        </p:nvPicPr>
        <p:blipFill>
          <a:blip r:embed="rId2"/>
          <a:stretch/>
        </p:blipFill>
        <p:spPr>
          <a:xfrm>
            <a:off x="5292720" y="3938760"/>
            <a:ext cx="2519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sikhologhichieskii_komfort_v_shkolie__vazhnoie_usloviie_effiektivnosti_obuchieniia_i_vospitaniia7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7T08:55:32Z</dcterms:created>
  <dc:creator>Users</dc:creator>
  <dc:description/>
  <dc:language>en-US</dc:language>
  <cp:lastModifiedBy>Users</cp:lastModifiedBy>
  <dcterms:modified xsi:type="dcterms:W3CDTF">2017-09-11T10:35:47Z</dcterms:modified>
  <cp:revision>25</cp:revision>
  <dc:subject/>
  <dc:title>Слайд 1</dc:title>
</cp:coreProperties>
</file>