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B2A-0F88-4152-B257-12125BF3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AC2-5EF6-4FC2-8A6A-37ED6739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250-5B3A-4EED-9617-0F010A20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073-3DB4-49FC-A8E3-F809CB10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9E5-AE27-4238-A266-A2502A61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00B-EFB4-49FA-ABC3-C062B57C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9FF-2A83-4910-BA4A-D4198D59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75F-35F6-4A6C-ACB3-216AF07C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A2B-5CAE-4935-8E12-BC6135F0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D65-8D8A-4E5C-B6ED-5F8C7E6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AB6-1617-4E22-80A7-81A7750F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619-C255-42C7-9138-11CDA220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D7C-46D0-4241-92CB-45A2108C9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bat-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112356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22 ноября.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       Классная работа.</a:t>
            </a:r>
            <a:endParaRPr b="0" lang="en-US" sz="60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одержимое 3" descr=""/>
          <p:cNvPicPr/>
          <p:nvPr/>
        </p:nvPicPr>
        <p:blipFill>
          <a:blip r:embed="rId1"/>
          <a:stretch/>
        </p:blipFill>
        <p:spPr>
          <a:xfrm>
            <a:off x="488880" y="476280"/>
            <a:ext cx="79502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C:\Users\Евдокимов\Desktop\1 и\56f1f606d5bca.jpg"/>
          <p:cNvPicPr/>
          <p:nvPr/>
        </p:nvPicPr>
        <p:blipFill>
          <a:blip r:embed="rId1"/>
          <a:stretch/>
        </p:blipFill>
        <p:spPr>
          <a:xfrm>
            <a:off x="755640" y="549360"/>
            <a:ext cx="39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C:\Users\Евдокимов\Desktop\1 и\hello_html_6b903a30.jpg"/>
          <p:cNvPicPr/>
          <p:nvPr/>
        </p:nvPicPr>
        <p:blipFill>
          <a:blip r:embed="rId2"/>
          <a:stretch/>
        </p:blipFill>
        <p:spPr>
          <a:xfrm>
            <a:off x="4140360" y="2610000"/>
            <a:ext cx="434016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560520" y="1865160"/>
            <a:ext cx="3557520" cy="3127680"/>
          </a:xfrm>
          <a:prstGeom prst="rect">
            <a:avLst/>
          </a:prstGeom>
          <a:ln w="0">
            <a:noFill/>
          </a:ln>
        </p:spPr>
      </p:pic>
      <p:pic>
        <p:nvPicPr>
          <p:cNvPr id="228" name="Диаграмма 4" descr=""/>
          <p:cNvPicPr/>
          <p:nvPr/>
        </p:nvPicPr>
        <p:blipFill>
          <a:blip r:embed="rId2"/>
          <a:stretch/>
        </p:blipFill>
        <p:spPr>
          <a:xfrm>
            <a:off x="4737240" y="1865160"/>
            <a:ext cx="348588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4608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Задание 3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30" name="Содержимое 3" descr="C:\Users\Евдокимов\Desktop\1 и\hello_html_m1ede8306.jpg"/>
          <p:cNvPicPr/>
          <p:nvPr/>
        </p:nvPicPr>
        <p:blipFill>
          <a:blip r:embed="rId1"/>
          <a:stretch/>
        </p:blipFill>
        <p:spPr>
          <a:xfrm>
            <a:off x="1619280" y="3357720"/>
            <a:ext cx="5511600" cy="246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755640" y="1197000"/>
          <a:ext cx="7632720" cy="18716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8716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ите по диаграмме и запишит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Самое быстрое животное…       2) Самое медленное животное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Кто быстрее слона?        4) Кто медленнее акул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 Какую скорость развивает слон?       6)У кого скорость в пределах 18 км/ч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79280" y="476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Задание 4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33" name="Содержимое 3" descr="C:\Users\Евдокимов\Desktop\1 и\img5.jpg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20161028_121346.mp4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5548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Танец маленьких утят..mp4" descr=""/>
          <p:cNvPicPr/>
          <p:nvPr/>
        </p:nvPicPr>
        <p:blipFill>
          <a:blip r:embed="rId1"/>
          <a:stretch/>
        </p:blipFill>
        <p:spPr>
          <a:xfrm>
            <a:off x="1401840" y="1125360"/>
            <a:ext cx="62420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84360" y="691920"/>
            <a:ext cx="4608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Задание 5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bat-Bold"/>
              </a:rPr>
              <a:t>Провести исследование. Изучить данные в таблице. Построить столбчатую диаграмму. (</a:t>
            </a: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ширина столбика 1 клеточка</a:t>
            </a:r>
            <a:r>
              <a:rPr b="0" i="1" lang="ru-RU" sz="3200" spc="-1" strike="noStrike">
                <a:solidFill>
                  <a:srgbClr val="ffffff"/>
                </a:solidFill>
                <a:latin typeface="Arbat-Bol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79640" y="836640"/>
            <a:ext cx="46800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Задание 6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02920" y="1844280"/>
            <a:ext cx="5977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Выполнить задание по карточке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(индивидуальный труд)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0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Итог урока. Оценки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Домашнее задание.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41" name="Picture 4" descr="C:\Users\Евдокимов\Pictures\1\IMG_7119.jpg"/>
          <p:cNvPicPr/>
          <p:nvPr/>
        </p:nvPicPr>
        <p:blipFill>
          <a:blip r:embed="rId1"/>
          <a:stretch/>
        </p:blipFill>
        <p:spPr>
          <a:xfrm>
            <a:off x="1763640" y="1700280"/>
            <a:ext cx="62089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2923920"/>
            <a:ext cx="8063640" cy="3025440"/>
            <a:chOff x="539640" y="2923920"/>
            <a:chExt cx="8063640" cy="3025440"/>
          </a:xfrm>
        </p:grpSpPr>
        <p:grpSp>
          <p:nvGrpSpPr>
            <p:cNvPr id="198" name="Group 3"/>
            <p:cNvGrpSpPr/>
            <p:nvPr/>
          </p:nvGrpSpPr>
          <p:grpSpPr>
            <a:xfrm>
              <a:off x="539640" y="4941000"/>
              <a:ext cx="2687400" cy="1008360"/>
              <a:chOff x="539640" y="4941000"/>
              <a:chExt cx="2687400" cy="1008360"/>
            </a:xfrm>
          </p:grpSpPr>
          <p:sp>
            <p:nvSpPr>
              <p:cNvPr id="199" name="Line 4"/>
              <p:cNvSpPr/>
              <p:nvPr/>
            </p:nvSpPr>
            <p:spPr>
              <a:xfrm flipV="1">
                <a:off x="539640" y="4941000"/>
                <a:ext cx="0" cy="10083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5"/>
              <p:cNvSpPr/>
              <p:nvPr/>
            </p:nvSpPr>
            <p:spPr>
              <a:xfrm>
                <a:off x="539640" y="4941360"/>
                <a:ext cx="268740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"/>
            <p:cNvGrpSpPr/>
            <p:nvPr/>
          </p:nvGrpSpPr>
          <p:grpSpPr>
            <a:xfrm>
              <a:off x="3227400" y="3932280"/>
              <a:ext cx="2688120" cy="1008360"/>
              <a:chOff x="3227400" y="3932280"/>
              <a:chExt cx="2688120" cy="1008360"/>
            </a:xfrm>
          </p:grpSpPr>
          <p:sp>
            <p:nvSpPr>
              <p:cNvPr id="202" name="Line 7"/>
              <p:cNvSpPr/>
              <p:nvPr/>
            </p:nvSpPr>
            <p:spPr>
              <a:xfrm flipV="1">
                <a:off x="3227400" y="3932280"/>
                <a:ext cx="0" cy="10083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8"/>
              <p:cNvSpPr/>
              <p:nvPr/>
            </p:nvSpPr>
            <p:spPr>
              <a:xfrm>
                <a:off x="3227400" y="3932640"/>
                <a:ext cx="268812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9"/>
            <p:cNvGrpSpPr/>
            <p:nvPr/>
          </p:nvGrpSpPr>
          <p:grpSpPr>
            <a:xfrm>
              <a:off x="5915880" y="2923920"/>
              <a:ext cx="2687400" cy="1008360"/>
              <a:chOff x="5915880" y="2923920"/>
              <a:chExt cx="2687400" cy="1008360"/>
            </a:xfrm>
          </p:grpSpPr>
          <p:sp>
            <p:nvSpPr>
              <p:cNvPr id="205" name="Line 10"/>
              <p:cNvSpPr/>
              <p:nvPr/>
            </p:nvSpPr>
            <p:spPr>
              <a:xfrm flipV="1">
                <a:off x="5915880" y="2923920"/>
                <a:ext cx="0" cy="10083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1"/>
              <p:cNvSpPr/>
              <p:nvPr/>
            </p:nvSpPr>
            <p:spPr>
              <a:xfrm>
                <a:off x="5915880" y="2924280"/>
                <a:ext cx="268740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57592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СЕНКА УСПЕХА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8" name="Прямоугольник 16" descr=""/>
          <p:cNvPicPr/>
          <p:nvPr/>
        </p:nvPicPr>
        <p:blipFill>
          <a:blip r:embed="rId1"/>
          <a:stretch/>
        </p:blipFill>
        <p:spPr>
          <a:xfrm>
            <a:off x="334800" y="3730680"/>
            <a:ext cx="2779920" cy="160344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18" descr=""/>
          <p:cNvPicPr/>
          <p:nvPr/>
        </p:nvPicPr>
        <p:blipFill>
          <a:blip r:embed="rId2"/>
          <a:stretch/>
        </p:blipFill>
        <p:spPr>
          <a:xfrm>
            <a:off x="2835360" y="2577960"/>
            <a:ext cx="2968560" cy="160344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9" descr=""/>
          <p:cNvPicPr/>
          <p:nvPr/>
        </p:nvPicPr>
        <p:blipFill>
          <a:blip r:embed="rId3"/>
          <a:stretch/>
        </p:blipFill>
        <p:spPr>
          <a:xfrm>
            <a:off x="5535720" y="1090440"/>
            <a:ext cx="32544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539640" y="2923920"/>
            <a:ext cx="8063640" cy="3025440"/>
            <a:chOff x="539640" y="2923920"/>
            <a:chExt cx="8063640" cy="3025440"/>
          </a:xfrm>
        </p:grpSpPr>
        <p:grpSp>
          <p:nvGrpSpPr>
            <p:cNvPr id="243" name="Group 3"/>
            <p:cNvGrpSpPr/>
            <p:nvPr/>
          </p:nvGrpSpPr>
          <p:grpSpPr>
            <a:xfrm>
              <a:off x="539640" y="4941000"/>
              <a:ext cx="2687400" cy="1008360"/>
              <a:chOff x="539640" y="4941000"/>
              <a:chExt cx="2687400" cy="1008360"/>
            </a:xfrm>
          </p:grpSpPr>
          <p:sp>
            <p:nvSpPr>
              <p:cNvPr id="244" name="Line 4"/>
              <p:cNvSpPr/>
              <p:nvPr/>
            </p:nvSpPr>
            <p:spPr>
              <a:xfrm flipV="1">
                <a:off x="539640" y="4941000"/>
                <a:ext cx="0" cy="10083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5"/>
              <p:cNvSpPr/>
              <p:nvPr/>
            </p:nvSpPr>
            <p:spPr>
              <a:xfrm>
                <a:off x="539640" y="4941360"/>
                <a:ext cx="268740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6"/>
            <p:cNvGrpSpPr/>
            <p:nvPr/>
          </p:nvGrpSpPr>
          <p:grpSpPr>
            <a:xfrm>
              <a:off x="3227400" y="3932280"/>
              <a:ext cx="2688120" cy="1008360"/>
              <a:chOff x="3227400" y="3932280"/>
              <a:chExt cx="2688120" cy="1008360"/>
            </a:xfrm>
          </p:grpSpPr>
          <p:sp>
            <p:nvSpPr>
              <p:cNvPr id="247" name="Line 7"/>
              <p:cNvSpPr/>
              <p:nvPr/>
            </p:nvSpPr>
            <p:spPr>
              <a:xfrm flipV="1">
                <a:off x="3227400" y="3932280"/>
                <a:ext cx="0" cy="10083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8"/>
              <p:cNvSpPr/>
              <p:nvPr/>
            </p:nvSpPr>
            <p:spPr>
              <a:xfrm>
                <a:off x="3227400" y="3932640"/>
                <a:ext cx="268812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9"/>
            <p:cNvGrpSpPr/>
            <p:nvPr/>
          </p:nvGrpSpPr>
          <p:grpSpPr>
            <a:xfrm>
              <a:off x="5915880" y="2923920"/>
              <a:ext cx="2687400" cy="1008360"/>
              <a:chOff x="5915880" y="2923920"/>
              <a:chExt cx="2687400" cy="1008360"/>
            </a:xfrm>
          </p:grpSpPr>
          <p:sp>
            <p:nvSpPr>
              <p:cNvPr id="250" name="Line 10"/>
              <p:cNvSpPr/>
              <p:nvPr/>
            </p:nvSpPr>
            <p:spPr>
              <a:xfrm flipV="1">
                <a:off x="5915880" y="2923920"/>
                <a:ext cx="0" cy="10083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1"/>
              <p:cNvSpPr/>
              <p:nvPr/>
            </p:nvSpPr>
            <p:spPr>
              <a:xfrm>
                <a:off x="5915880" y="2924280"/>
                <a:ext cx="268740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57592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СЕНКА УСПЕХА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53" name="Прямоугольник 16" descr=""/>
          <p:cNvPicPr/>
          <p:nvPr/>
        </p:nvPicPr>
        <p:blipFill>
          <a:blip r:embed="rId1"/>
          <a:stretch/>
        </p:blipFill>
        <p:spPr>
          <a:xfrm>
            <a:off x="334800" y="3730680"/>
            <a:ext cx="2779920" cy="160344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8" descr=""/>
          <p:cNvPicPr/>
          <p:nvPr/>
        </p:nvPicPr>
        <p:blipFill>
          <a:blip r:embed="rId2"/>
          <a:stretch/>
        </p:blipFill>
        <p:spPr>
          <a:xfrm>
            <a:off x="2835360" y="2577960"/>
            <a:ext cx="2968560" cy="1603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9" descr=""/>
          <p:cNvPicPr/>
          <p:nvPr/>
        </p:nvPicPr>
        <p:blipFill>
          <a:blip r:embed="rId3"/>
          <a:stretch/>
        </p:blipFill>
        <p:spPr>
          <a:xfrm>
            <a:off x="5535720" y="1090440"/>
            <a:ext cx="32544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1332000" y="126828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Arbat-Bold"/>
                <a:ea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В школу - Фотографии, картинки, фото, клипарты"/>
          <p:cNvPicPr/>
          <p:nvPr/>
        </p:nvPicPr>
        <p:blipFill>
          <a:blip r:embed="rId1"/>
          <a:stretch/>
        </p:blipFill>
        <p:spPr>
          <a:xfrm>
            <a:off x="2843280" y="2637000"/>
            <a:ext cx="3151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Разминка для ума…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360" y="1915920"/>
            <a:ext cx="777528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bat-Bold"/>
            </a:endParaRPr>
          </a:p>
        </p:txBody>
      </p:sp>
      <p:pic>
        <p:nvPicPr>
          <p:cNvPr id="213" name="Picture 5" descr="C:\Users\Евдокимов\Desktop\1 и\img11 (2).jpg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547640" y="1160640"/>
            <a:ext cx="604872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435280" y="1557360"/>
            <a:ext cx="309708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-Bold"/>
              </a:rPr>
              <a:t>Какова  площадь клетки, если ширина её  </a:t>
            </a:r>
            <a:r>
              <a:rPr b="1" i="1" lang="ru-RU" sz="2800" spc="-1" strike="noStrike">
                <a:solidFill>
                  <a:srgbClr val="ffffff"/>
                </a:solidFill>
                <a:latin typeface="Arbat-Bold"/>
              </a:rPr>
              <a:t>5 м</a:t>
            </a:r>
            <a:r>
              <a:rPr b="0" lang="ru-RU" sz="2800" spc="-1" strike="noStrike">
                <a:solidFill>
                  <a:srgbClr val="ffffff"/>
                </a:solidFill>
                <a:latin typeface="Arbat-Bold"/>
              </a:rPr>
              <a:t>, а длина </a:t>
            </a:r>
            <a:r>
              <a:rPr b="1" i="1" lang="ru-RU" sz="2800" spc="-1" strike="noStrike">
                <a:solidFill>
                  <a:srgbClr val="ffffff"/>
                </a:solidFill>
                <a:latin typeface="Arbat-Bold"/>
              </a:rPr>
              <a:t>7 м.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16" name="Picture 1" descr="C:\Users\Елена\Desktop\1201181557[1].jpg"/>
          <p:cNvPicPr/>
          <p:nvPr/>
        </p:nvPicPr>
        <p:blipFill>
          <a:blip r:embed="rId1"/>
          <a:stretch/>
        </p:blipFill>
        <p:spPr>
          <a:xfrm>
            <a:off x="971640" y="1341360"/>
            <a:ext cx="42829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611280" y="836640"/>
          <a:ext cx="7704000" cy="5184720"/>
        </p:xfrm>
        <a:graphic>
          <a:graphicData uri="http://schemas.openxmlformats.org/drawingml/2006/table">
            <a:tbl>
              <a:tblPr/>
              <a:tblGrid>
                <a:gridCol w="5999040"/>
                <a:gridCol w="170496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Блиц-турнир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я подтянулся  12 раз, а Игорь  в 2 раза меньше. Сколько раз подтянулся Игор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выставку собак привезли 24 пуделя, а болонок на 4 меньше. Сколько болонок привезли на выставк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а идет до школы 15 минут, а Лена на 5 минут дольше. Сколько минут идет до школы Ле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я накопал 6 ведер картошки, а папа  в 3 раза больше. Сколько ведер картошки накопал пап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ше 8 лет. Это в 4 раза меньше, чем папе. Сколько лет пап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е 26 лет. Это на 20 лет больше, чем её дочке. Сколько лет дочк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611280" y="836640"/>
          <a:ext cx="7704000" cy="5184720"/>
        </p:xfrm>
        <a:graphic>
          <a:graphicData uri="http://schemas.openxmlformats.org/drawingml/2006/table">
            <a:tbl>
              <a:tblPr/>
              <a:tblGrid>
                <a:gridCol w="5999040"/>
                <a:gridCol w="170496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Блиц-турнир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: 2 = 6 (раз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– 4 = 20 (пуд.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+ 5 = 20 (мин.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5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х 3 = 18 (вед.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х 4 = 32 (г.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– 20 6 (лет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27280" y="691920"/>
            <a:ext cx="3960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Задание 1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9280" y="1557000"/>
            <a:ext cx="7993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bat-Bold"/>
              </a:rPr>
              <a:t>Решить пример, соблюдая действия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-322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         </a:t>
            </a:r>
            <a:r>
              <a:rPr b="0" lang="ru-RU" sz="7200" spc="-1" strike="noStrike">
                <a:solidFill>
                  <a:srgbClr val="ffffff"/>
                </a:solidFill>
                <a:latin typeface="Arbat-Bold"/>
              </a:rPr>
              <a:t>10 + 4 · 6 : 3 - 13 = ?</a:t>
            </a:r>
            <a:endParaRPr b="0" lang="en-US" sz="72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-32220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68000" y="620640"/>
            <a:ext cx="45356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Задание 2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71640" y="1628640"/>
            <a:ext cx="7345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Количество воды на нашей планете Земля составляет три четвёртых. 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Какую часть составляет суша?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Irenus</dc:creator>
  <dc:description/>
  <dc:language>en-US</dc:language>
  <cp:lastModifiedBy>школа №1</cp:lastModifiedBy>
  <dcterms:modified xsi:type="dcterms:W3CDTF">2016-11-22T01:30:54Z</dcterms:modified>
  <cp:revision>49</cp:revision>
  <dc:subject/>
  <dc:title>Классная доска</dc:title>
</cp:coreProperties>
</file>