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3882-6F42-47EB-9D1B-23A54548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37DC-0781-498D-A343-5945A946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14A-74DD-4012-A8A2-E2C0E7B6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909C-3CA4-475C-AEA3-BD350A01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BA5-2CAD-4C4F-A777-AA7261D5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586-638B-493B-90D1-B7F11A1B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061-C088-4602-99FF-599EDB91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A08-9918-4EA6-998A-111642C6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75A-AFE4-4137-B34D-FEF42B8F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0A40-D796-4A62-A9E3-AE4F71E7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C4A-9AD4-47E3-992A-D304DA0F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70E-5F2A-44BE-BECB-CD1829EF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DE82-F875-4B1C-8055-867C9E895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79640" y="907920"/>
            <a:ext cx="5616720" cy="13687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ма урока: РЕШЕНИЕ ЗАДАЧ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2781360"/>
            <a:ext cx="4319640" cy="35272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вторить ре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ч изученных видов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ушева Е.В., МБОУ СШ 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36 кв.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 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24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43280" y="1700280"/>
            <a:ext cx="3816360" cy="367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у рав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ощад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перимет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вадра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его стор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см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2228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1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В коробку можно положить 8 карандашей. Сколько карандашей можно положить в 5 таких же коробок ? А в 9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                             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40 карандаш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                              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72 каранда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539640" y="3789360"/>
            <a:ext cx="273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79640" y="907920"/>
            <a:ext cx="5616720" cy="13687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ЦЕНИ свою работу на уро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2340000" y="3213000"/>
            <a:ext cx="4572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 поход пошли 24 мальчика, а девочек в 3 раза меньше, чем мальчиков. Сколько всего детей пошло в пох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1) 24 : 3 = 8 (дев.) – в пох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2) 24 + 8 = 32 (реб.) - 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вет: 32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&amp;Kcy;&amp;acy;&amp;rcy;&amp;tcy;&amp;icy;&amp;ncy;&amp;kcy;&amp;icy; &amp;pcy;&amp;ocy; &amp;zcy;&amp;acy;&amp;pcy;&amp;rcy;&amp;ocy;&amp;scy;&amp;ucy; &amp;pcy;&amp;ocy;&amp;khcy;&amp;ocy;&amp;dcy; &amp;rcy;&amp;icy;&amp;scy;&amp;ucy;&amp;ncy;&amp;kcy;&amp;icy;"/>
          <p:cNvPicPr/>
          <p:nvPr/>
        </p:nvPicPr>
        <p:blipFill>
          <a:blip r:embed="rId2"/>
          <a:stretch/>
        </p:blipFill>
        <p:spPr>
          <a:xfrm>
            <a:off x="468360" y="4365720"/>
            <a:ext cx="230328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Ящик с грушами и три одинаковых ящика с яблоками весят 39 кг. Сколько весит один ящик с яблоками, если ящик с грушами весит 15 кг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) 39 - 15 = 24(кг) - весят 3 ящика с яблок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) 24 : 3 = 8(кг) -весит один ящик с ябло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твет: 8 кг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395280" y="4365720"/>
            <a:ext cx="2519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Альбом стоит 50 руб., а ручка — в 10 раз дешевле. Сколько стоят альбом и ручка вмест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) 50:10 = 5(руб.) – ру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2) 50 + 5 = 55(руб.) - альбом и ручка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Ответ: 55 ру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539640" y="4581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2124000" y="530064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В книжный магазин привезли 160 книг. Из них 90 поставили на верхнюю полку, 20 на среднюю, а остальные на нижнюю. Сколько книг поставили на нижнюю пол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) 90 + 20 = 110(к.) – на 2х пол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2) 160 - 110 = 50(к.) – на третьей по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Ответ: 50 кн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2228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 один день Аня прочитала 21 страницу, во второй — в 3 раза меньше, чем в первый, а в третий — на 16 страниц больше, чем во второй день. Сколько страниц прочитала Аня в третий 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3 стра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2228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У Веры было 40 рублей, а у Оксаны на 1 рубль больше. Сколько ручек они смогут купить, если одна ручка сто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9 рублей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             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9 руч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2228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1341360"/>
            <a:ext cx="6840360" cy="4392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 Маши было 100 руб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Она купила мороженое за 35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и молоко за 43 руб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колько денег осталось у Маш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2 руб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2228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&amp;Kcy;&amp;acy;&amp;rcy;&amp;tcy;&amp;icy;&amp;ncy;&amp;kcy;&amp;icy; &amp;pcy;&amp;ocy; &amp;zcy;&amp;acy;&amp;pcy;&amp;rcy;&amp;ocy;&amp;scy;&amp;ucy; &amp;shcy;&amp;acy;&amp;bcy;&amp;lcy;&amp;ocy;&amp;ncy;&amp;ycy; &amp;dcy;&amp;lcy;&amp;yacy; &amp;pcy;&amp;rcy;&amp;iecy;&amp;zcy;&amp;iecy;&amp;ncy;&amp;tcy;&amp;acy;&amp;tscy;&amp;icy;&amp;jcy; &amp;pcy;&amp;ocy; &amp;mcy;&amp;acy;&amp;tcy;&amp;iecy;&amp;mcy;&amp;acy;&amp;tcy;&amp;icy;&amp;k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1268280"/>
            <a:ext cx="7056360" cy="475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ля школы закупили 30 сто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0 столов поставили в столову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стальные – распределили по клас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каждый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ставили по 4 сто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скольких класс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ставили новые стол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5 клас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2228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0T16:08:22Z</dcterms:created>
  <dc:creator>аушева</dc:creator>
  <dc:description/>
  <dc:language>en-US</dc:language>
  <cp:lastModifiedBy>1</cp:lastModifiedBy>
  <dcterms:modified xsi:type="dcterms:W3CDTF">2017-09-11T19:02:04Z</dcterms:modified>
  <cp:revision>6</cp:revision>
  <dc:subject/>
  <dc:title>Слайд 1</dc:title>
</cp:coreProperties>
</file>