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284-5D7C-4891-84BE-8EFF477D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AB9-564F-4DBA-B8F5-6A36E24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214-B7EE-4618-A06E-6EEBFCB4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0A2-08BD-4757-905D-08C8EE2E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A598-F4F5-488C-9E13-3CA72EB4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8EB5-D402-43E1-96F7-735440F5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0EA9-43EE-436A-9447-EB239757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403F-2009-45C6-BEB2-53F98FF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572-ED37-4B96-9ECE-B2147B0F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1BF1-4B4E-49AC-AD46-AB98A7A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D84-AAFA-4419-B4CE-13F8839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C29-CBC2-41A8-9EC8-7E62114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FD80-D96E-4567-AF94-1BAC086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0AA8-1AB9-42F0-8BF5-2E32F60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5D37-9C4B-4D7F-8675-44681F4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6382-2501-46E9-9B10-1436461B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FB5-D286-4274-B578-3ABBBB2C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779-12AE-4D0E-83A7-8BE4E66E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0BE-9171-4865-951E-F0AA7739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E22-3DAF-463B-9C32-C33FCEB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CAC-F621-4C4F-8226-1F07DA15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E7C-58F2-48FC-B6DC-D069475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51D-618D-4AB8-A6DB-DBB63B8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43D-DC8F-44C3-B202-694D493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B7F7-66CE-4F34-A2B9-24D1803568C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36A9-B7ED-4D1D-9B76-7EA26D86D3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393440" y="583560"/>
            <a:ext cx="41662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1200"/>
            </a:b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95320" y="2971440"/>
            <a:ext cx="44960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ая стратегия в области дошкольного образо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из стратегических нормативных, правовых документов, регламентирующих развитие дошкольного образования в современных услов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8600" y="23623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Автор :</a:t>
            </a:r>
            <a:br>
              <a:rPr sz="1800"/>
            </a:b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Кравцова Оксана Геннадьевна</a:t>
            </a:r>
            <a:br>
              <a:rPr sz="1800"/>
            </a:b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воспитатель муниципального</a:t>
            </a:r>
            <a:br>
              <a:rPr sz="1800"/>
            </a:b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дошкольного образовательного</a:t>
            </a:r>
            <a:br>
              <a:rPr sz="1800"/>
            </a:b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учреждения детский сад</a:t>
            </a:r>
            <a:br>
              <a:rPr sz="1800"/>
            </a:b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с. Долгое</a:t>
            </a:r>
            <a:r>
              <a:rPr b="1" i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7"/>
          <p:cNvSpPr txBox="1"/>
          <p:nvPr/>
        </p:nvSpPr>
        <p:spPr>
          <a:xfrm>
            <a:off x="3276720" y="228600"/>
            <a:ext cx="5638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90920" y="3114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офессиональный стандарт педагог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приказ Министерства труда и социальной защиты Российской Федерации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 «18» октября 2013 г. №544н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838080" y="269064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ессиональный стандарт - это характеристика квалификации, необходимой работнику для осуществления определенного вида профессиональной деятельности.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Данный стандарт устанавливает требования к образованию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 Высшее профессиональное образование или среднее профессиональное образование по направлениям подготовки "Образование и педагогика"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7"/>
          <p:cNvSpPr txBox="1"/>
          <p:nvPr/>
        </p:nvSpPr>
        <p:spPr>
          <a:xfrm>
            <a:off x="2590920" y="304920"/>
            <a:ext cx="5715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2666880" y="756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СанПиН  2.4.1.3049-13  «Санитарно-эпидемиологически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требования к устройству, содержанию и организации режима работы 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дошкольных организациях»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838080" y="2907720"/>
            <a:ext cx="769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авила  организации образовательного процесса подробно прописаны в Главе 11 СанПиН 2.4.1.3049-13 «Требования к приему детей в дошкольные образовательные организации, режиму дня и организации воспитательно-образовательного процесса»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 flipV="1" rot="10800000">
            <a:off x="3200400" y="-4572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сновные нормативные документы «учрежденческого» уровня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гламентирующие содержание образовательной деятельност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ДОО в современных условия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 flipV="1" rot="10800000">
            <a:off x="837720" y="26737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Calibri"/>
              </a:rPr>
              <a:t>-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Устав ДОУ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523880" y="2514600"/>
            <a:ext cx="678204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-Основная образовательная программа дошкольного образования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-Годовой план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1066680" y="2438280"/>
            <a:ext cx="7848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-Перспективные и календарные планы педагогических работник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дошкольной образовательной организации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IMG_4336"/>
          <p:cNvPicPr/>
          <p:nvPr/>
        </p:nvPicPr>
        <p:blipFill>
          <a:blip r:embed="rId1"/>
          <a:stretch/>
        </p:blipFill>
        <p:spPr>
          <a:xfrm>
            <a:off x="2209680" y="2666880"/>
            <a:ext cx="594360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2286000" y="3049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880" y="1333800"/>
            <a:ext cx="5485320" cy="53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то такое Стратегия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ратегия представляет собой совокупность целевых установок, взглядов, принципов и приоритетов образовательной политики органов государственной власти Белгородской области и опирается на принципы государственной политики РФ в области стратегического планирования, комплексную оценку состояния и прогноз развития отрасли на среднесрочную перспектив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6760" y="1049040"/>
            <a:ext cx="77220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и и задачи: 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 И ЗАДАЧИ ГОСУДАРСТВЕННОЙ СТРАТЕГИИ В ОБЛАСТИ ДОШКОЛЬНОГО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ю программы является обеспечение доступности качественного дошкольного образования в Белгородской обла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достижения цели необходимо решение следующих задач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еспечение государственных гарантий доступности качественного дошкольного образо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системы дошкольного образования, обеспечивающей равный доступ населения к услугам дошкольных образовательных учрежд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новными показателями конечного результата реализации подпрограммы являю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Ликвидация дефицита мест в дошкольных образовательных организациях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сленность детей в возрасте от 3 до 7 лет, которым предоставлена возможность получить услуги дошкольного образования увеличиться в 2013- 90%, 2020-100%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ка роста численности воспитанников негосударственных дошкольных образовательных организаций в общей численности воспитанников дошкольных образовательных организаций в 2013-3% , в  2020 – 6%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величиться охват детей в возрасте от 0 до 3 лет программами поддержки раннего развития в 2013 – 18,2% , в 2020 – 35%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дельный вес воспитанников дошкольных образовательных организаций, обучающихся по программам, соответствующим требованиям федеральных государственных стандартов дошкольного образования, в общей численности воспитанников образовательных организаций данного типа возрастет с  5% в 2014 году до 100% в 2020 году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дельный вес муниципальных образований, в которых  оценка деятельности организаций дошкольного и общего образования, их руководителей и основных категорий работников осуществляется на основании показателей эффективности деятельности данных организ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я дошкольных организаций, реализующих программы раннего изучения иностранного языка обеспеченных соответствующими программно-методическими материалами до 100% в 2020 год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хват детей в возрасте от 5 до 7 лет предшкольной подготовки составит 100% в 2020 год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я обучающихся образовательных учреждений, охваченных образовательными программами  исследовательской, научно-технической, проектно-конструкторской деятельности 40%  в 2020 год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я лиц с ограниченными возможностями здоровья, охваченных дополнительными образовательными программами 0,4%  в 2013 году и 15%  в 2020 год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лизация Стратегии обеспечит достижение следующих показателей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429000" y="5257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33800" y="1624320"/>
            <a:ext cx="642888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ормативные документы, регламентирующие содержание образовательного процесса в дошкольной образовательной организации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flipV="1" rot="10800000">
            <a:off x="1447920" y="2298600"/>
            <a:ext cx="685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ормативно-правовой  акт  -  закон,  кодек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,  постановление, инструкция и другое властное предписание государственных органов, которое устанавливает, изменяет или отменяет нормы права. Предписания нормативно-правовых актов носят общий характер и направлены на регулирование определенного вида общественных отношений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9480" y="3408120"/>
            <a:ext cx="7509240" cy="286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едеральный Закон «Об образовании в Российской Федерации» - это нормативно-правовой акт Федерального уровня, регламентирующий деятельность дошкольного образовательного учреждения. На основании этого закона разрабатываются все остальные нормативные акты. Данный Закон был принят 29 декабря 2012 г. и вступил в силу с 1 сентября 2013 года.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3200400" y="53352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Федеральный Закон «Об образовании в Российской Федерации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5080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нный документ регулирует организацию и осуществление образовательной деятельности по основным общеобразовательным программам - образовательным программам дошкольного образования, в том числе особенности организации образовательной деятельности для обучающихся с ограниченными возможностями здоровь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 flipH="1">
            <a:off x="9144000" y="0"/>
            <a:ext cx="46080" cy="523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 flipV="1" rot="10800000">
            <a:off x="914040" y="1609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86200" y="756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бразовательная  программа  дошкольного  образования  (утв. приказом  Министерства образования и науки РФ от 30 августа 2013 г. N 1014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682360" y="91800"/>
            <a:ext cx="5912280" cy="12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66680" y="2970720"/>
            <a:ext cx="7086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Впервые  в  российской  истории  в  соответствии  с  требованиями вступившего в силу 1 сентября 2013 году Федерального закона «Об образовании в Российской Федерации» разработан и введён в действие с 1 января 2014 года Федеральный государственный образовательный стандарт дошкольного образования (ФГОС ДО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91760" y="295920"/>
            <a:ext cx="5884560" cy="93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валификационные характеристики должностей работников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ния (приказ Минздравсоцразвития РФ от 26.08.2010 № 761н)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60195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нный документ содержит свод должностных инструкций по различным должностям и специальностям, в том числе и для работников дошкольных образовательных учрежд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8-26T07:19:10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