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D636-F2D1-4D6C-8255-94BCE6722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C97A-225D-45D9-959C-2EE68E14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1B0C-B0F6-47B8-8AC7-0D6B0F752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7783-0D11-43BA-955B-7CB8CA3C5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37710-0D4D-426F-86E9-351711DBE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59B5-5CFD-4985-8349-3D06C470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6FB7A-B0A6-4081-B76D-74E76E83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9849-7C4F-4E51-A97F-592EE573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751C-8858-496B-9F28-E19B07D5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9BF0-600E-4F41-A05B-95126566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59CB-9807-4103-B717-773864CC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3921-4915-4EC8-855B-125D0D40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518C2-7ECC-4383-9AE4-BA7FBF59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980D-AE31-4B05-90CB-3707F13D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BECA-2D79-4D76-99B5-7BDB5D4F4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1A2FD-67E0-41E8-BC64-68BC78DEF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9BDF-D3F8-44D1-BE66-F300ED0D8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B2F0-3CD6-465E-86F3-FE634909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4832-57AD-410C-B964-4327B798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D745-4513-452E-BE9F-B1005C8E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3BA3-0A79-4C41-9E14-4B41203D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F138-8D72-4991-BD9D-78FEB5C0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64AF-E723-4B72-8FF4-EFEA9DDF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73DD-ADD8-481C-A63A-6E8C7316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003C-20D7-4E89-8203-9C26A2003C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5" descr="D:\фоны и шаблоны\ab60a0908d51.jpg"/>
          <p:cNvPicPr/>
          <p:nvPr/>
        </p:nvPicPr>
        <p:blipFill>
          <a:blip r:embed="rId2"/>
          <a:srcRect l="0" t="0" r="86985" b="0"/>
          <a:stretch/>
        </p:blipFill>
        <p:spPr>
          <a:xfrm>
            <a:off x="0" y="0"/>
            <a:ext cx="1214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D:\фоны и шаблоны\ab60a0908d51.jpg"/>
          <p:cNvPicPr/>
          <p:nvPr/>
        </p:nvPicPr>
        <p:blipFill>
          <a:blip r:embed="rId2"/>
          <a:srcRect l="0" t="0" r="86985" b="0"/>
          <a:stretch/>
        </p:blipFill>
        <p:spPr>
          <a:xfrm>
            <a:off x="0" y="0"/>
            <a:ext cx="121428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D:\фоны и шаблоны\ab60a0908d51.jpg"/>
          <p:cNvPicPr/>
          <p:nvPr/>
        </p:nvPicPr>
        <p:blipFill>
          <a:blip r:embed="rId3"/>
          <a:srcRect l="0" t="0" r="198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D:\клипарты\Оформляшки\5e226a3bbf95.png"/>
          <p:cNvPicPr/>
          <p:nvPr/>
        </p:nvPicPr>
        <p:blipFill>
          <a:blip r:embed="rId4"/>
          <a:srcRect l="51286" t="50164" r="0" b="0"/>
          <a:stretch/>
        </p:blipFill>
        <p:spPr>
          <a:xfrm>
            <a:off x="642960" y="357120"/>
            <a:ext cx="8080200" cy="5961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DF51-C65D-47C5-A5B4-5E3C652AEC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персонала орган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олнила: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арший воспитате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рещенко Т.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1285920" y="170640"/>
            <a:ext cx="764388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ский комит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мочия: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 содействует обеспечению оптимальных условий для организации образовательного  процес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 оказывает содействие в проведении массовых воспитательных мероприятий с деть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 участвует в подготовке Детского сада к новому учебному год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 оказывает помощь администрации Детского сада в организации и проведении Общих родительских собра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 принимает участие в обсуждении локальных актов Детского сада по вопросам, относящимся к полномочиям  Комите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 принимает участие в организации безопасных условий осуществления образовательного и воспитательного процессов, выполнения санитарно – гигиенических правил и норм;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 взаимодействует с другими органами самоуправления, общественными организациями по вопросам пропаганды традиций Детского са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 взаимодействует с другими органами самоуправления Детского сада по вопросам совершенствования управления, обеспечение организации образовательного и воспитательного процес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Users\Администратор\Desktop\0030-030-Spasibo-za-vniman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Администратор\Desktop\148696_html_m36bb137.jpg"/>
          <p:cNvPicPr/>
          <p:nvPr/>
        </p:nvPicPr>
        <p:blipFill>
          <a:blip r:embed="rId1"/>
          <a:stretch/>
        </p:blipFill>
        <p:spPr>
          <a:xfrm>
            <a:off x="1606680" y="117360"/>
            <a:ext cx="6680160" cy="59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1214280" y="486360"/>
            <a:ext cx="7643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ая структура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ая структура управления в дошкольном учреждении представляет собой совокупность всех его органов с присущими им функциями. Она может быть представлена в виде трех уров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ервом уровн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управления находится заведующая детским садом, которая осуществляет руководство и контроль за деятельностью всех структур. Заведующая выполняет свои функции в соответствии с должностной инструкцией. Указания и распоряжения заведующей обязательны для всех участников образовательного процесса. Заведующая действует от имени учреждения, представляя его во всех организациях и учреждения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распоряжается имуществом учреждения в пределах прав, представленных договором между Учредителем и Учреждени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в соответствии с законодательством о труде принимает на работу и увольняет работников, осуществляет расстановку кадров, поощряет работников учреждения, налагает взыск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несет ответственность за деятельность учреждения перед учредител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издает приказы, распоряжения в рамках своей компетентности, регламентирующие деятельность ДО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1214280" y="191880"/>
            <a:ext cx="7643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тором уровн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управление осуществляют заместитель заведующего по методической и воспитательной работе, завхоз, медсестра, которые взаимодействуют с соответствующими объектами управления. На этом уровне заведующая осуществляет непосредственную и опосредованную реализацию управленческих решений через распределение обязанностей между административными работниками с учетом их подготовки, опыта, а также структуры дошкольного учрежд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ститель заведующего по методической и воспитательной работе осуществляет руководство учебно-воспитательным процессом учреждения. Он определяет место каждого педагога в воспитательной работе с детьми, мобилизует воспитателей на решение задач, поставленных концепцией дошкольного воспитания перед дошкольным учреждением, привлекает к их решению родителей и обществен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хоз отвечает за сохранность здания дошкольного учреждения и имущества, организует материально - техническое снабжение педагогического процесса, обеспечивает чистоту и порядок в помещениях и на участке, противопожарную безопасность и организацию труда обслуживающего персона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сестра контролирует санитарное состояние помещений и участка ДОУ, выполнение требований СанПиНа, качество доставляемых продуктов, организацию питания и качество приготовления пищи, обеспечивает медицинское обслуживание детей, проводит санитарно - просветительскую работу среди работников учреждения и родителей, принимает участие в организации физкультурно-оздоровительной работы с детьми. Указания, даваемые заместителем заведующего по методической и воспитательной работе, медицинской сестрой, завхозом в пределах их компетенции, также обязательны для всех работ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285920" y="1109880"/>
            <a:ext cx="7500960" cy="22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ий уровен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управления осуществляют воспитатели, педагог-психолог, музыкальный руководитель, учитель-логопед, обслуживающий персонал и родители (законные представители). На этом уровне объектами управления являются дети и их родители. На данный момент общая численность штата детского сада - 24 человека. В детском саду соблюдаются социальные гарантии участников образовательного проце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84448"/>
                </a:solidFill>
                <a:latin typeface="Calibri"/>
                <a:ea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C:\Users\Администратор\Desktop\презентация\80957_html_m1dfaf839.gif"/>
          <p:cNvPicPr/>
          <p:nvPr/>
        </p:nvPicPr>
        <p:blipFill>
          <a:blip r:embed="rId1"/>
          <a:stretch/>
        </p:blipFill>
        <p:spPr>
          <a:xfrm>
            <a:off x="1428840" y="714240"/>
            <a:ext cx="7286400" cy="52866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28480" y="-360"/>
            <a:ext cx="7715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руктура персонала детского са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1357200" y="210240"/>
            <a:ext cx="750096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ормами самоуправления детским садом, обеспечивающими государственно-общественный  характер управления яв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й со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моч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  обсуждает и принимает локальные акты, касающиеся педагогической деятельности, изменения и дополнения к ни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  определяет направления образовательной деятельности Детского са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  рассматривает, обсуждает и принимает Программу развития Детского са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  обсуждает и принимает годовой  план работы,  расписание занятий  и рабочие программы учебных дисципли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  обсуждает вопросы использования и совершенствования методик образовательного процесса и образовательных технологий, планирование педагогической деятельности Детского са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  организует выявление, обобщение, распространение, внедрение передового педагогического опыта среди педагогических работников Детского са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  рассматривает вопросы повышения квалификации, переподготовки, аттестации педагогических кадр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  рассматривает вопросы реализации основной общеобразовательной программы в рамках рабочих программ учебных дисциплин;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  рассматривает результаты внутреннего мониторинг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1357200" y="1362240"/>
            <a:ext cx="70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e24af"/>
                </a:solidFill>
                <a:latin typeface="Calibri"/>
                <a:ea typeface="Times New Roman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1285920" y="170280"/>
            <a:ext cx="7500960" cy="49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е собрание трудового коллект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моч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  рассматривает и принимает к утверждению Устав Детского сада, изменения и дополнения к нем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  обсуждает и принимает локальные акты, по вопросам, касающимся интересов работников Детского сада, изменения и дополнения к ни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  обсуждает информацию о перспективах развития Детского са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  обсуждает и принимает  правила внутреннего трудового распорядка, гра­фики работы, графики отпусков работников Детского са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  обсуждает вопросы состояния трудовой дисциплины в Детском саду и мероприятия по ее укреплению, рассматривает фак­ты нарушения трудовой дисциплины работниками Детского сада;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  рассматривает вопросы охраны и безопасности условий труда работников, охраны жизни и здоровья воспитанников в Детском саду, в том числе вопросы соблюдения санитарно-гигиенического режима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  рассматривает Публичный доклад;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  избирает из своего состава комиссию по распределению выплат стимулирующего характе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  рассматривает кандидатуры работников Детского сада к награжден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e24af"/>
                </a:solidFill>
                <a:latin typeface="Calibri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1285920" y="500760"/>
            <a:ext cx="74293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е родительское собр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моч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  выбирает Родительский комите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  изучает основные направления образовательной, оздоровительной и воспитательной деятельности в Детском саду (группе), вносит предложения по их совершенствовани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  выбирает дополнительные образовательные программы, представленные рабочими программами учебных дисциплин в соответствии с Уставом Детского са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de24af"/>
                </a:solidFill>
                <a:latin typeface="Calibri"/>
                <a:ea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17:33:40Z</dcterms:created>
  <dc:creator>Helen</dc:creator>
  <dc:description/>
  <dc:language>en-US</dc:language>
  <cp:lastModifiedBy>Admin</cp:lastModifiedBy>
  <dcterms:modified xsi:type="dcterms:W3CDTF">2017-09-11T12:38:22Z</dcterms:modified>
  <cp:revision>12</cp:revision>
  <dc:subject/>
  <dc:title>Слайд 1</dc:title>
</cp:coreProperties>
</file>