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C85-C8B1-4615-BEAA-C92AE427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3C9-6F70-464A-AB21-1957DC8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162-B1F8-4E27-BD2B-DA212A6A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748-2123-4D99-A87B-929AE444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C2AE-B22E-4D91-9FE3-0A578B1A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91A2-92FB-4E76-B9E6-92B33DA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A7CC-83B9-40A5-AEA7-B70DC437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0FE4-4D16-4716-BC3E-D41769DC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13D6-91B7-4BE4-901A-918A5B38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006F-7EEC-4ED7-B0B3-01DCE337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82EE-CA3A-4FA1-9DCD-ADF3DEE9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DF8-447A-4936-B89E-179D3CA2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412A-0974-4EA3-B9F5-797F47FF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6A6F-2835-4C0F-BD25-BF0322B2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0BF9-5613-4F5F-9CE1-18ED0E70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BD6F-5FE7-4569-AA4A-45A7EACC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C7F9-59F5-415B-9570-9B2E52C2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36B-6530-410B-ADFD-E08B3FE6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4E5-5C94-46F8-9E9B-098CDB13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69E-AAF7-4825-8E9D-7DE9BDC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D4C-2F2E-47AF-805E-C5E0B8BE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D7D-CEFE-4176-8EA1-30FFE88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7D8-E40F-48C6-A26E-06F1BC89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611-FB16-4C39-AEF0-0DB58B3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4884-74F4-4AF9-A89D-8F6D331BE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:\фоны и шаблоны\ab60a0908d51.jpg"/>
          <p:cNvPicPr/>
          <p:nvPr/>
        </p:nvPicPr>
        <p:blipFill>
          <a:blip r:embed="rId2"/>
          <a:srcRect l="0" t="0" r="86985" b="0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:\фоны и шаблоны\ab60a0908d51.jpg"/>
          <p:cNvPicPr/>
          <p:nvPr/>
        </p:nvPicPr>
        <p:blipFill>
          <a:blip r:embed="rId2"/>
          <a:srcRect l="0" t="0" r="86985" b="0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фоны и шаблоны\ab60a0908d51.jpg"/>
          <p:cNvPicPr/>
          <p:nvPr/>
        </p:nvPicPr>
        <p:blipFill>
          <a:blip r:embed="rId3"/>
          <a:srcRect l="0" t="0" r="19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клипарты\Оформляшки\5e226a3bbf95.png"/>
          <p:cNvPicPr/>
          <p:nvPr/>
        </p:nvPicPr>
        <p:blipFill>
          <a:blip r:embed="rId4"/>
          <a:srcRect l="51286" t="50164" r="0" b="0"/>
          <a:stretch/>
        </p:blipFill>
        <p:spPr>
          <a:xfrm>
            <a:off x="642960" y="357120"/>
            <a:ext cx="8080200" cy="596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F98-20E1-4A0C-A78B-AAF6C2527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ерсонала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рещенко Т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285920" y="170640"/>
            <a:ext cx="76438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ком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: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содействует обеспечению оптимальных условий для организации образовательного 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оказывает содействие в проведении массовых воспитательных мероприятий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участвует в подготовке Детского сада к новому учебному го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оказывает помощь администрации Детского сада в организации и проведении Общих родительских собр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принимает участие в обсуждении локальных актов Детского сада по вопросам, относящимся к полномочиям  Комит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принимает участие в организации безопасных условий осуществления образовательного и воспитательного процессов, выполнения санитарно – гигиенических правил и норм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взаимодействует с другими органами самоуправления, общественными организациями по вопросам пропаганды традиций Детского са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взаимодействует с другими органами самоуправления Детского сада по вопросам совершенствования управления, обеспечение организации образовательного и воспитательного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Администратор\Desktop\0030-030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Администратор\Desktop\148696_html_m36bb137.jpg"/>
          <p:cNvPicPr/>
          <p:nvPr/>
        </p:nvPicPr>
        <p:blipFill>
          <a:blip r:embed="rId1"/>
          <a:stretch/>
        </p:blipFill>
        <p:spPr>
          <a:xfrm>
            <a:off x="1606680" y="117360"/>
            <a:ext cx="668016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214280" y="48636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структура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структура управления в дошкольном учреждении представляет собой совокупность всех его органов с присущими им функциями. Она может быть представлена в виде трех уров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уров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вления находится заведующая детским садом, которая осуществляет руководство и контроль за деятельностью всех структур. Заведующая выполняет свои функции в соответствии с должностной инструкцией. Указания и распоряжения заведующей обязательны для всех участников образовательного процесса. Заведующая действует от имени учреждения, представляя его во всех организациях и учрежд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поряжается имуществом учреждения в пределах прав, представленных договором между Учредителем и Учреж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 соответствии с законодательством о труде принимает на работу и увольняет работников, осуществляет расстановку кадров, поощряет работников учреждения, налагает взыск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несет ответственность за деятельность учреждения перед учредите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издает приказы, распоряжения в рамках своей компетентности, регламентирующие деятельность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214280" y="191880"/>
            <a:ext cx="7643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уров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вление осуществляют заместитель заведующего по методической и воспитательной работе, завхоз, медсестра, которые взаимодействуют с соответствующими объектами управления. На этом уровне заведующая осуществляет непосредственную и опосредованную реализацию управленческих решений через распределение обязанностей между административными работниками с учетом их подготовки, опыта, а также структуры дошкольного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заведующего по методической и воспитательной работе осуществляет руководство учебно-воспитательным процессом учреждения. Он определяет место каждого педагога в воспитательной работе с детьми, мобилизует воспитателей на решение задач, поставленных концепцией дошкольного воспитания перед дошкольным учреждением, привлекает к их решению родителей и обществ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хоз отвечает за сохранность здания дошкольного учреждения и имущества, организует материально - техническое снабжение педагогического процесса, обеспечивает чистоту и порядок в помещениях и на участке, противопожарную безопасность и организацию труда обслуживающего персо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естра контролирует санитарное состояние помещений и участка ДОУ, выполнение требований СанПиНа, качество доставляемых продуктов, организацию питания и качество приготовления пищи, обеспечивает медицинское обслуживание детей, проводит санитарно - просветительскую работу среди работников учреждения и родителей, принимает участие в организации физкультурно-оздоровительной работы с детьми. Указания, даваемые заместителем заведующего по методической и воспитательной работе, медицинской сестрой, завхозом в пределах их компетенции, также обязательны для всех работ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85920" y="1109880"/>
            <a:ext cx="750096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вления осуществляют воспитатели, педагог-психолог, музыкальный руководитель, учитель-логопед, обслуживающий персонал и родители (законные представители). На этом уровне объектами управления являются дети и их родители. На данный момент общая численность штата детского сада - 24 человека. В детском саду соблюдаются социальные гарантии участников 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84448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C:\Users\Администратор\Desktop\презентация\80957_html_m1dfaf839.gif"/>
          <p:cNvPicPr/>
          <p:nvPr/>
        </p:nvPicPr>
        <p:blipFill>
          <a:blip r:embed="rId1"/>
          <a:stretch/>
        </p:blipFill>
        <p:spPr>
          <a:xfrm>
            <a:off x="1428840" y="714240"/>
            <a:ext cx="728640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уктура персонала детского с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357200" y="210240"/>
            <a:ext cx="750096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ми самоуправления детским садом, обеспечивающими государственно-общественный  характер управления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 принимает локальные акты, касающиеся педагогической деятельности, изменения и дополнения к н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пределяет направления образовательной деятельности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, обсуждает и принимает Программу развития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 принимает годовой  план работы,  расписание занятий  и рабочие программы учеб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вопросы использования и совершенствования методик образовательного процесса и образовательных технологий, планирование педагогической деятельности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рганизует выявление, обобщение, распространение, внедрение передового педагогического опыта среди педагогических работников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вопросы повышения квалификации, переподготовки, аттестации педагогических кад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вопросы реализации основной общеобразовательной программы в рамках рабочих программ учебных дисциплин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результаты внутреннего мониторин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1357200" y="1362240"/>
            <a:ext cx="70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e24af"/>
                </a:solidFill>
                <a:latin typeface="Calibri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285920" y="170280"/>
            <a:ext cx="750096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собрание трудового 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и принимает к утверждению Устав Детского сада, изменения и дополнения к не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 принимает локальные акты, по вопросам, касающимся интересов работников Детского сада, изменения и дополнения к н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нформацию о перспективах развития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и принимает  правила внутреннего трудового распорядка, гра­фики работы, графики отпусков работников Детского са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обсуждает вопросы состояния трудовой дисциплины в Детском саду и мероприятия по ее укреплению, рассматривает фак­ты нарушения трудовой дисциплины работниками Детского сада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вопросы охраны и безопасности условий труда работников, охраны жизни и здоровья воспитанников в Детском саду, в том числе вопросы соблюдения санитарно-гигиенического режим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Публичный доклад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избирает из своего состава комиссию по распределению выплат стимулирующего харак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ссматривает кандидатуры работников Детского сада к награжд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e24af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285920" y="500760"/>
            <a:ext cx="7429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выбирает Родительский комит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изучает основные направления образовательной, оздоровительной и воспитательной деятельности в Детском саду (группе), вносит предложения по их совершенствова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выбирает дополнительные образовательные программы, представленные рабочими программами учебных дисциплин в соответствии с Уставом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de24af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Admin</cp:lastModifiedBy>
  <dcterms:modified xsi:type="dcterms:W3CDTF">2017-09-11T12:38:22Z</dcterms:modified>
  <cp:revision>12</cp:revision>
  <dc:subject/>
  <dc:title>Слайд 1</dc:title>
</cp:coreProperties>
</file>