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D03-02CD-4866-B386-6B763B4E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F09-6DC6-4128-9652-67F547D8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918-4142-4A7E-89BF-A6536805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548-A8BA-42D1-8892-3A5CEC5A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563-7CCB-4273-9532-468B8A34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D4C-056C-4967-945C-6D47BA70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970-AF9B-4329-9A0E-119CE661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DE6-B7C0-48C7-9BE8-937AE777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8D2-5950-48A6-BFF5-EF379515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395-D41F-4B60-AEC6-E1BFEF3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DF8-7C88-45FE-89DB-CC4BD4D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E18-795A-40E9-9832-66DE8A66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D49D-8799-4ED8-955D-84F8B85A54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ТАРСКАЯ НАЦИОНАЛЬНАЯ 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292280"/>
            <a:ext cx="6828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357200" y="4714920"/>
            <a:ext cx="5857920" cy="157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питатель подготовительной к школ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БОУ «Тат.Каргал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айфутдиновой Эльвиры Ринат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37098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шкирский национальный костю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0201_3710"/>
          <p:cNvPicPr/>
          <p:nvPr/>
        </p:nvPicPr>
        <p:blipFill>
          <a:blip r:embed="rId1"/>
          <a:stretch/>
        </p:blipFill>
        <p:spPr>
          <a:xfrm>
            <a:off x="4140360" y="0"/>
            <a:ext cx="472752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560" y="188640"/>
            <a:ext cx="2879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ИОН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НЫЕ ГОЛОВНЫЕ УБОРЫ </a:t>
            </a:r>
            <a:r>
              <a:rPr b="1" i="1" lang="tt-RU" sz="2400" spc="-1" strike="noStrike">
                <a:solidFill>
                  <a:srgbClr val="000000"/>
                </a:solidFill>
                <a:latin typeface="Calibri"/>
              </a:rPr>
              <a:t>ТАКЪЯ, КАЛФ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kn3_m"/>
          <p:cNvPicPr/>
          <p:nvPr/>
        </p:nvPicPr>
        <p:blipFill>
          <a:blip r:embed="rId1"/>
          <a:stretch/>
        </p:blipFill>
        <p:spPr>
          <a:xfrm>
            <a:off x="3106800" y="476280"/>
            <a:ext cx="5788080" cy="619272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63520" y="475920"/>
            <a:ext cx="43797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КАМЗО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–  ВЕРХНЯЯ ОДЕЖДА БЕЗ РУКАВОВ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КАЗАКИН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короткий пиджа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БИШМЕТ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– ДЛИННЫЙ ХАЛАТ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сканирование0036"/>
          <p:cNvPicPr/>
          <p:nvPr/>
        </p:nvPicPr>
        <p:blipFill>
          <a:blip r:embed="rId1"/>
          <a:stretch/>
        </p:blipFill>
        <p:spPr>
          <a:xfrm>
            <a:off x="4786200" y="285840"/>
            <a:ext cx="1801800" cy="56466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" name="Picture 5" descr="сканирование"/>
          <p:cNvPicPr/>
          <p:nvPr/>
        </p:nvPicPr>
        <p:blipFill>
          <a:blip r:embed="rId2"/>
          <a:stretch/>
        </p:blipFill>
        <p:spPr>
          <a:xfrm>
            <a:off x="7020000" y="189000"/>
            <a:ext cx="1836720" cy="50338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1" name="Picture 6" descr="сканирование0034"/>
          <p:cNvPicPr/>
          <p:nvPr/>
        </p:nvPicPr>
        <p:blipFill>
          <a:blip r:embed="rId3"/>
          <a:stretch/>
        </p:blipFill>
        <p:spPr>
          <a:xfrm>
            <a:off x="395280" y="2060640"/>
            <a:ext cx="4246560" cy="43210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560" y="-360"/>
            <a:ext cx="35290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ТАРЫ ПОЧТЕННОГО ВОЗРАСТА НОСИЛИ ХАЛАТЫ </a:t>
            </a:r>
            <a:r>
              <a:rPr b="1" i="1" lang="tt-RU" sz="2000" spc="-1" strike="noStrike">
                <a:solidFill>
                  <a:srgbClr val="000000"/>
                </a:solidFill>
                <a:latin typeface="Calibri"/>
              </a:rPr>
              <a:t>ҖИЛӘН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ОРНЫЕ И ДЛИН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Без имени-1"/>
          <p:cNvPicPr/>
          <p:nvPr/>
        </p:nvPicPr>
        <p:blipFill>
          <a:blip r:embed="rId1"/>
          <a:stretch/>
        </p:blipFill>
        <p:spPr>
          <a:xfrm>
            <a:off x="6300720" y="260280"/>
            <a:ext cx="2448000" cy="61786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4" name="Picture 5" descr="Без имени-4"/>
          <p:cNvPicPr/>
          <p:nvPr/>
        </p:nvPicPr>
        <p:blipFill>
          <a:blip r:embed="rId2"/>
          <a:stretch/>
        </p:blipFill>
        <p:spPr>
          <a:xfrm>
            <a:off x="3708360" y="476280"/>
            <a:ext cx="2376360" cy="61596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63160" y="404280"/>
            <a:ext cx="84121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ТАРКИ НОСИЛИ РУБАХИ РАЗНОГО ПОКРОЯ. УКРАШАЛИ РУБАХИ РАЗНОЦВЕТНЫМИ ШЕЛКОВЫМИ И АТЛАСНЫМИ ЛЕНТАМИ, КРУЖЕВАМИ, ВЫШИВКОЙ, ОБОР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сканирование0028"/>
          <p:cNvPicPr/>
          <p:nvPr/>
        </p:nvPicPr>
        <p:blipFill>
          <a:blip r:embed="rId1"/>
          <a:stretch/>
        </p:blipFill>
        <p:spPr>
          <a:xfrm>
            <a:off x="1042920" y="1413000"/>
            <a:ext cx="7561440" cy="520524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63520" y="404640"/>
            <a:ext cx="84852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НЩИНЫ НОСИЛИ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ИЧИГ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УКРАШЕННЫЕ КОЖАННОЙ МОЗАИ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kn5"/>
          <p:cNvPicPr/>
          <p:nvPr/>
        </p:nvPicPr>
        <p:blipFill>
          <a:blip r:embed="rId1"/>
          <a:stretch/>
        </p:blipFill>
        <p:spPr>
          <a:xfrm>
            <a:off x="611280" y="907920"/>
            <a:ext cx="7888320" cy="56898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рисунок человека в национальной одеж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6:34:43Z</dcterms:created>
  <dc:creator>Пользователь</dc:creator>
  <dc:description/>
  <dc:language>en-US</dc:language>
  <cp:lastModifiedBy>Компьютер</cp:lastModifiedBy>
  <dcterms:modified xsi:type="dcterms:W3CDTF">2017-09-11T15:06:09Z</dcterms:modified>
  <cp:revision>42</cp:revision>
  <dc:subject/>
  <dc:title>ТАТАРСКА НАЦИОНАЛЬНАЯ ОДЕЖДА</dc:title>
</cp:coreProperties>
</file>