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ED3-B3A2-45E0-A197-590B335F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BE7-49D8-439C-8922-8D499952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1B5-D555-42EC-9484-E65DDE7B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2BD-54C5-4873-B56C-6A36AF8E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DF5-C5BF-4D6A-A236-3315179B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CF3-0291-447B-A5F9-FA52BF11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729-BD25-43C2-BC62-B6796452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895-E62B-4CC4-92D6-EA0340B0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AC1-5511-4B79-BA7C-9A0589E3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48B-4563-425D-8D6E-4E95D0F7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32D-2968-496A-852F-1BCABCF1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2EE9-4268-431E-9DAD-C1CE21F9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7761-9D2B-433C-A9B1-5775F9013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476280"/>
            <a:ext cx="8424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ое строение общества: элементы и под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енные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и при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воздействие общества на прир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влияние природы на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бщество как сложная  сис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подсистемы общества ( сфе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социальн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Общество – динамич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Особенности социаль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404640"/>
            <a:ext cx="856908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динамич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о постоянно изменяется ( отношения в сфере производства, форма правления, социальная структу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элементы общества находятся в постоянном движении, изменяются, взаимодействуют и влияют друг на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яется и сам человек –основной элемент общества  (меняются социальные роли, взгляды, мировоззрение)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50920" y="549360"/>
            <a:ext cx="84978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социаль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подсистем и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элемент общества-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енная жизнь находится в постоянном измен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интегративно – все элементы общества взаимосвязаны, но отдельно вне общества не существ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достаточность общества – способность создавать все необходимое для своего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24000" y="549360"/>
            <a:ext cx="85690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арактеристика общества как _______________(1) предусматривает изучение его внутренней струк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основными элементами являются ________________(2) общественной жизни и социальные институты. Выделяют экономическую, социальную, политическую и духовную сф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они находятся в тесной взаимосвязи, так как поддерживают необходимую _______________(3)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(4) в каждой из сфер решают важные социальные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обеспечивают производство и распределение различных видов __________(5), а также управление совместной _____________(6)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целост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) 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) социальные инстит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обще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)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социальные б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 произ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468360" y="692280"/>
            <a:ext cx="79912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р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стественная среда обит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ческий и неорганический мир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 flipH="1">
            <a:off x="1115640" y="1052640"/>
            <a:ext cx="2303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5219640" y="1052640"/>
            <a:ext cx="2016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95280" y="404640"/>
            <a:ext cx="874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в узком смысле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 людей, объединившая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щество филателис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ое конкретное обще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западноевропейское обще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чески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ервобытное обще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чество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ровое сообще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2556000" y="836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2627280" y="242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2627280" y="3716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27280" y="4365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352440"/>
            <a:ext cx="889308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о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обившаяся от природы, но тесно с нею связанная, часть материального мира, которая включает в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объ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я люд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люд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заимо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община, сем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цессе экономической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ой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ектив, сословие . политической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, н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хо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 flipH="1">
            <a:off x="1332000" y="141300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6372360" y="1484280"/>
            <a:ext cx="360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404640"/>
            <a:ext cx="9036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енные отношения – это многообразные, устойчиво повторяющиеся связ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е возникают между социальными группами и внутри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экономической, политической, социальной и духов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ношения между наемным работником и работодателем, учеником и учителем, между политическими партия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0"/>
            <a:ext cx="9144000" cy="70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о и 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о –обособившаяся от природы часть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здание рукотворной среды, производящего хозяйства, стремление возвыситься над природой, преобразовать 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заимодействие общества и прир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ет на при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положительно (спа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редких живот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ицательно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(загрязнение атмосфе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ственн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выброса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рода    влияет на обще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ительно ( плодоро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вы способствуют высо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жа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ицательно ( ущерб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ганов, цунами, наводн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547640" y="2852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1403280" y="5300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333360"/>
            <a:ext cx="8353440" cy="72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- сложная динамичная 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- нечто целое, состоящее из  взаимосвязанных ч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состоит из подсистем ( сфер общественной жизн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ая сфера- отношения , связанные с производством, распределением, обменом, потреблением материальных б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словлена материальными потребностям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ая сфера – отношения между различными социальными общностями и групп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словлена потребностью в контактах, общ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24000" y="549360"/>
            <a:ext cx="835164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ческая сфера- отношения в области руководства и управления ( между государством, политическим партиями, общественными организациями, гражданским обществ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ет потребность общество в порядке, законности, дисципл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ховная сфера- это отношения, которые складываются в процессе создания, распространения, сохранения духовных ценностей ( религия, наука, культу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ет потребности в самореализации, самоутверждении, добре и красо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84360" y="476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4000" y="404640"/>
            <a:ext cx="8640720" cy="65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ые институты –составная часть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ые институты- исторически сложившиеся устойчивые формы организации совместной деятельности, направленной на удовлетворение фундаментальных потребностей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реб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ый институ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роизводство р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итут семьи и бр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опасность и поряд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итуты политич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государ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итуты образования, на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 духовных пробл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итуты  религии,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ребность в средств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е институ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роизвод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276720" y="3068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3492360" y="4076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3348000" y="4941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924360" y="5805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635280" y="652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8:05:01Z</dcterms:created>
  <dc:creator>girl</dc:creator>
  <dc:description/>
  <dc:language>en-US</dc:language>
  <cp:lastModifiedBy>ГАЛИНА</cp:lastModifiedBy>
  <dcterms:modified xsi:type="dcterms:W3CDTF">2016-11-21T18:54:48Z</dcterms:modified>
  <cp:revision>64</cp:revision>
  <dc:subject/>
  <dc:title>Слайд 1</dc:title>
</cp:coreProperties>
</file>