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FA5-9333-4CFF-9539-061C765D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C7E-DDDA-415C-BA31-96CD1B8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503-F525-4932-AE92-3FF213E9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A5A-DFBF-4D06-9FBF-E4A00833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7F9-3606-453C-9577-E8661770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866-13BF-4178-8D8F-CA88B3A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AB-751F-48FC-BD6B-8FEDDDD4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6E8-1015-45F2-9E9E-F7BEE35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0DC-0D82-4F56-AF26-03A36B6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C67-AB88-491B-A106-776F943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F3C-3E35-468E-A1A8-E0589BA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495-AB26-4028-A6A1-BDE8C74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946-5D76-4BC0-8AB7-8C5F968A8E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620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8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разование Древнерусского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5" descr="882"/>
          <p:cNvPicPr/>
          <p:nvPr/>
        </p:nvPicPr>
        <p:blipFill>
          <a:blip r:embed="rId1"/>
          <a:stretch/>
        </p:blipFill>
        <p:spPr>
          <a:xfrm>
            <a:off x="1116000" y="1268280"/>
            <a:ext cx="59054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Украина"/>
          <p:cNvPicPr/>
          <p:nvPr/>
        </p:nvPicPr>
        <p:blipFill>
          <a:blip r:embed="rId1"/>
          <a:stretch/>
        </p:blipFill>
        <p:spPr>
          <a:xfrm>
            <a:off x="507960" y="380880"/>
            <a:ext cx="622476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68360" y="5516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654 г.- воссоединение Украины с Росс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етр"/>
          <p:cNvPicPr/>
          <p:nvPr/>
        </p:nvPicPr>
        <p:blipFill>
          <a:blip r:embed="rId1"/>
          <a:stretch/>
        </p:blipFill>
        <p:spPr>
          <a:xfrm>
            <a:off x="468360" y="333360"/>
            <a:ext cx="3809880" cy="4981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076720" y="1052640"/>
            <a:ext cx="3527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700-1721 – Северная во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сия получает выход в Балтийское мо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709"/>
          <p:cNvPicPr/>
          <p:nvPr/>
        </p:nvPicPr>
        <p:blipFill>
          <a:blip r:embed="rId1"/>
          <a:stretch/>
        </p:blipFill>
        <p:spPr>
          <a:xfrm>
            <a:off x="611280" y="907920"/>
            <a:ext cx="5976720" cy="4118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684360" y="587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709 г.- Полтавская би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Екатрина"/>
          <p:cNvPicPr/>
          <p:nvPr/>
        </p:nvPicPr>
        <p:blipFill>
          <a:blip r:embed="rId1"/>
          <a:stretch/>
        </p:blipFill>
        <p:spPr>
          <a:xfrm>
            <a:off x="900000" y="333360"/>
            <a:ext cx="4286520" cy="6010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724360" y="1052640"/>
            <a:ext cx="30956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762-1796 гг. – правление Екатерины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768-177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787-1791 гг.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сско-турецкие вой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сия получает выход в Черное мо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утузов"/>
          <p:cNvPicPr/>
          <p:nvPr/>
        </p:nvPicPr>
        <p:blipFill>
          <a:blip r:embed="rId1"/>
          <a:stretch/>
        </p:blipFill>
        <p:spPr>
          <a:xfrm>
            <a:off x="900000" y="744480"/>
            <a:ext cx="6985080" cy="510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11280" y="6237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ечественная война 18 12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Александр второй"/>
          <p:cNvPicPr/>
          <p:nvPr/>
        </p:nvPicPr>
        <p:blipFill>
          <a:blip r:embed="rId1"/>
          <a:stretch/>
        </p:blipFill>
        <p:spPr>
          <a:xfrm>
            <a:off x="53964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724360" y="907920"/>
            <a:ext cx="341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ксанд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вобод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861 г- отмена крепостного права в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84360" y="549360"/>
            <a:ext cx="73436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торить д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8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65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8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00-17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4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4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68-17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87-17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61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64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ПОБЕДА"/>
          <p:cNvPicPr/>
          <p:nvPr/>
        </p:nvPicPr>
        <p:blipFill>
          <a:blip r:embed="rId1"/>
          <a:stretch/>
        </p:blipFill>
        <p:spPr>
          <a:xfrm>
            <a:off x="133200" y="380880"/>
            <a:ext cx="8877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ГАГАРИН"/>
          <p:cNvPicPr/>
          <p:nvPr/>
        </p:nvPicPr>
        <p:blipFill>
          <a:blip r:embed="rId1"/>
          <a:stretch/>
        </p:blipFill>
        <p:spPr>
          <a:xfrm>
            <a:off x="1116000" y="627120"/>
            <a:ext cx="69850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рещение"/>
          <p:cNvPicPr/>
          <p:nvPr/>
        </p:nvPicPr>
        <p:blipFill>
          <a:blip r:embed="rId1"/>
          <a:stretch/>
        </p:blipFill>
        <p:spPr>
          <a:xfrm>
            <a:off x="826920" y="189000"/>
            <a:ext cx="3684600" cy="6121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364000" y="9079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88 год-Крещение Ру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147"/>
          <p:cNvPicPr/>
          <p:nvPr/>
        </p:nvPicPr>
        <p:blipFill>
          <a:blip r:embed="rId1"/>
          <a:stretch/>
        </p:blipFill>
        <p:spPr>
          <a:xfrm>
            <a:off x="69840" y="330120"/>
            <a:ext cx="7526520" cy="5180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95280" y="59500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47 г- -первое летописное упоминание о Моск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237"/>
          <p:cNvPicPr/>
          <p:nvPr/>
        </p:nvPicPr>
        <p:blipFill>
          <a:blip r:embed="rId1"/>
          <a:stretch/>
        </p:blipFill>
        <p:spPr>
          <a:xfrm>
            <a:off x="1258920" y="549360"/>
            <a:ext cx="6095880" cy="31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00000" y="3860640"/>
            <a:ext cx="792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37-1238  нашествие монголо-татар на  Северо-Восточную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39-1240 –нашествие монголо-татар на Юго-Западную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0-1480 – монголо-татарское и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Невский"/>
          <p:cNvPicPr/>
          <p:nvPr/>
        </p:nvPicPr>
        <p:blipFill>
          <a:blip r:embed="rId1"/>
          <a:stretch/>
        </p:blipFill>
        <p:spPr>
          <a:xfrm>
            <a:off x="611280" y="0"/>
            <a:ext cx="4762440" cy="6350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796000" y="620640"/>
            <a:ext cx="302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0 г.- Невская би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2 г.- Ледовое побо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уликовская"/>
          <p:cNvPicPr/>
          <p:nvPr/>
        </p:nvPicPr>
        <p:blipFill>
          <a:blip r:embed="rId1"/>
          <a:stretch/>
        </p:blipFill>
        <p:spPr>
          <a:xfrm>
            <a:off x="324000" y="1190520"/>
            <a:ext cx="8569080" cy="451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6021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80 год- Куликовская би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480"/>
          <p:cNvPicPr/>
          <p:nvPr/>
        </p:nvPicPr>
        <p:blipFill>
          <a:blip r:embed="rId1"/>
          <a:stretch/>
        </p:blipFill>
        <p:spPr>
          <a:xfrm>
            <a:off x="1042920" y="907920"/>
            <a:ext cx="5113440" cy="4397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71640" y="5805360"/>
            <a:ext cx="72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ван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480 г. – падение ордынского и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2"/>
          <p:cNvPicPr/>
          <p:nvPr/>
        </p:nvPicPr>
        <p:blipFill>
          <a:blip r:embed="rId1"/>
          <a:stretch/>
        </p:blipFill>
        <p:spPr>
          <a:xfrm>
            <a:off x="324000" y="0"/>
            <a:ext cx="4608360" cy="5899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580000" y="1413000"/>
            <a:ext cx="32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52 г. – присоединение Казани к Моск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56 г. – присоединение Астрахани к Моск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613-2"/>
          <p:cNvPicPr/>
          <p:nvPr/>
        </p:nvPicPr>
        <p:blipFill>
          <a:blip r:embed="rId1"/>
          <a:stretch/>
        </p:blipFill>
        <p:spPr>
          <a:xfrm>
            <a:off x="539640" y="404640"/>
            <a:ext cx="3579840" cy="453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788000" y="1052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613 г. – начало династии Роман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8:18:58Z</dcterms:created>
  <dc:creator>girl</dc:creator>
  <dc:description/>
  <dc:language>en-US</dc:language>
  <cp:lastModifiedBy>ГАЛИНА</cp:lastModifiedBy>
  <dcterms:modified xsi:type="dcterms:W3CDTF">2017-09-11T20:12:09Z</dcterms:modified>
  <cp:revision>62</cp:revision>
  <dc:subject/>
  <dc:title>Слайд 1</dc:title>
</cp:coreProperties>
</file>