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F1A-4D2B-4A1C-8748-45F0B199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D7C-E417-45E4-99AA-10FEEE83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0FD-7120-4D7C-949A-7CA3FBBE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BDA-5C19-4B31-8E25-13C87F59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64E-7D1D-4489-B69E-4330E764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2DD-125F-4395-9BDA-F1FB670A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54A-DA90-4816-8EA2-F2C548AF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BCD-AF1B-4FCD-A71D-8D16D10A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7AA-E688-49DC-A063-A92E9ABA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04A-3786-4926-94ED-D36942E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A78-9191-404A-A662-00C67FD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952-1BE0-4A2A-8C71-847AF2D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13C9-8AFF-4243-B30B-CBBFFAB54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Виктор Астаф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616120" cy="362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00720" y="1989000"/>
            <a:ext cx="3979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Известный русский писат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наш современник, сибиря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6327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ЕНИ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4221000"/>
            <a:ext cx="7354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совое развитие фитопланктона в водоеме, сопровождающееся изменением окраски (цветности) воды. Вызывается неблагоприятными изменениями водного режима (застой воды, загрязнение органическими веществами и минеральными удобрениями, засорение и др.); ухудшает кислородный режим водоема, вызывает заморы рыб и др. водны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53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 были в заречье деревенские покосы и пашни, но где они были — уже не найти. Нынче сооружен здесь деревянный причал. Валом валят на эти берега хозяйственные дачники, чтобы холить на личных огородах и в теплицах редкую овощь, цветы, ягоды, В субботу и воскресенье — пароход за пароходом, теплоход за теплоходом, катер за катером, «Ракета» за «Ракетой» прилипают к причалу и выделяют из себя жизнерадостны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323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5761080" cy="366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76720" y="260280"/>
            <a:ext cx="3556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бравую песню «То ли еще будет…» расползаются они пo затоптанному клочку земли, глядя на который еще раз убеждаешься, что в смысле выделения мусора и нечистот никто сравниться с высшим существом не может — ни птица, ни зверь… Берега и поляны в стекле, жести, бумаге, полиэтилене — гуляки жгут костры, пьют, жуют, бьют, ломают, гадят, и никто, никто не прибирает за собою, да и в голову такое не приходит — ведь они приехали отдыхать от тр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024680" cy="4826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43120" y="476280"/>
            <a:ext cx="48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воение природы человек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88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50280" cy="4753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3280" y="3860640"/>
            <a:ext cx="39243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лохла земля, коростой покрылась. Если что и растет на ней, то растет в заглушье, украдкой, растет кривобоко — изуродованное, пораненное, битое, обожженно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3672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же ты смеешься, мальчик?!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 Хво… хво… хвости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0561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хочет мальчик на берегу. Увидел что-то не просто смешное, а потешное, вот и хохо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хожу, обнаруживаю: возле вчерашнего, воскресного кострища, средь объедков и битого стекла, стоит узкая консервная баночка, а из нее торчит хвостик суслика, и скрюченные задние лапки. И не просто так стоит банка с наклейкой, на которой красуется слово «Мясо», на газете стоит, и не просто на газете, а на развороте ее, где крупно, во всю полосу нарисована художником шапка: «В защиту природы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6096240" cy="49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24560" y="5292720"/>
            <a:ext cx="17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усл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пка подчеркнута не то красным ломаным карандашом, не то губной помадой, через всю полосу шатающиеся, промоклые красные буквы, из них составлено слово: «Откл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3672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же ты смеешься, мальчик?!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 Хво… хво… хвости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0561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, хвостик суслика смешон — напоминает он ржаной колосок, из которого выбито ветром зерно, жалкий, редкостный хвостик — не сеют нынче в заречье хлеба. Дачными ягодами суслику не прожить, вот с голоду и подался крошки по берегу подбирать, тут его поймали веселые гуляки и засунули в банку, судя по царапинам на обертке, засунули живого. И «отклик» на газете, догадываюсь я, написан не карандашом, а кровью зве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ется, заливается, хохочет мальчик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сянский остров напоминал когда-то голову — туповатую с затылка и заостренную, чубатую со лба. В любое время года была та голова в окладе венца — бледная зимняя плешь обметана чернолесьем; весной плешь острова нечесано путалась серо-свалявшейся отавой, взятой в кольцо багряно-мерцающих тальников, которые не по дням, а по часам погружались в глубину вспененного черемушника. Пока черемуха кружилась, метелила по берегам острова, в середине его вспыхивала и, стряхнув в себя рыхлый цвет, оробело останавливалась прибрежная гуща, утихали листом тальники, ольхи, вербы, черемухи, отгородившись от пожара полосой небоязного к огню смородинник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ени мягкий лист кустарников бронзовел, и выкошенный, чистый остров в ровной стрижке зеленой отавы победно возносил мачту над высоким стогом сена. И всю-то зимушку покрыто было боязливое темечко земли пухлой шапкой сена, и серебряно звенел венец, надетый на чело острова. Желтая птица кружилась и кружилась над зимним стогом. Ветер с Енисея гнал ее встречь бурям, и алым флагом вспыхивало крыло высокой птицы под широкой зарею в часы предвече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286160" cy="321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59280" y="2293920"/>
            <a:ext cx="53226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сянский ос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14440"/>
            <a:ext cx="3457440" cy="2594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00360" y="2544840"/>
            <a:ext cx="5925960" cy="3936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59280" y="692280"/>
            <a:ext cx="2630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7488000" cy="477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0895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станция зарегулировала реку, откатилась вода, и стал Овсянский остров полуостровом. Захудала на нем некошеная трава, усохли кустарники. По оголившейся отноге и пологим берегам налет зеленого помета — цветет малопроточная вода. Перестала цвести и рожать черемуха, обуглились, почернели ее ветви и стволы; не полыхают более цветы — они вытоптаны или вырваны с корнем. Лишь живучий курослеп сорит еще желтой перхотью средь лета, да жалица и колючий бурьян растут по оподолью бывшего 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0T09:53:38Z</dcterms:created>
  <dc:creator>User</dc:creator>
  <dc:description/>
  <dc:language>en-US</dc:language>
  <cp:lastModifiedBy>User</cp:lastModifiedBy>
  <dcterms:modified xsi:type="dcterms:W3CDTF">2015-02-27T14:01:05Z</dcterms:modified>
  <cp:revision>3</cp:revision>
  <dc:subject/>
  <dc:title>Почему смеется ребенок?</dc:title>
</cp:coreProperties>
</file>