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D2A-05D2-406A-A533-DABC4648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08B-8591-4DA9-A352-C53CC8A4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C6F-732E-44B4-A8A3-D3FEBB51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017-2256-44C4-8059-97197B8A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1A3-6524-438D-A7BF-5E08F953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780-8929-4989-AF73-EE6E557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07B-523B-4C58-8831-4282DE5E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3B0-DEC7-41E0-B93C-21C8CD49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B94-393E-46FD-AC5D-7DF1AEE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7E6-0CCD-47A4-89FB-5CA7ABA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D25-217D-41A4-8823-4EEEEA2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64F-88ED-4CF5-B9CA-9D94841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2EC7-8E7B-4E08-B612-83C9DF626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Monotype Corsiva"/>
              </a:rPr>
              <a:t>     </a:t>
            </a: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Границы Росс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ая границ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– линия, определяющая пределы государственной территор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ния границы и проходящая через неё вертикальная поверхность, простирающаяся в атмосферу (до 100 км) и литосферу, ограничивают пределы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ой территории стран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:\ca957caf4b.png"/>
          <p:cNvPicPr/>
          <p:nvPr/>
        </p:nvPicPr>
        <p:blipFill>
          <a:blip r:embed="rId1"/>
          <a:stretch/>
        </p:blipFill>
        <p:spPr>
          <a:xfrm>
            <a:off x="7164360" y="0"/>
            <a:ext cx="1521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9361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Отсчёт времени на территории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ds02.infourok.ru/uploads/ex/045a/000213b1-55a5ba88/img13.jpg"/>
          <p:cNvPicPr/>
          <p:nvPr/>
        </p:nvPicPr>
        <p:blipFill>
          <a:blip r:embed="rId1"/>
          <a:srcRect l="3531" t="36357" r="3732" b="30693"/>
          <a:stretch/>
        </p:blipFill>
        <p:spPr>
          <a:xfrm>
            <a:off x="-1440" y="83664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eg.ru/upimg/photo/112115.jpg"/>
          <p:cNvPicPr/>
          <p:nvPr/>
        </p:nvPicPr>
        <p:blipFill>
          <a:blip r:embed="rId2"/>
          <a:stretch/>
        </p:blipFill>
        <p:spPr>
          <a:xfrm>
            <a:off x="11160" y="3371760"/>
            <a:ext cx="5497560" cy="3360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ds02.infourok.ru/uploads/ex/045a/000213b1-55a5ba88/img12.jpg"/>
          <p:cNvPicPr/>
          <p:nvPr/>
        </p:nvPicPr>
        <p:blipFill>
          <a:blip r:embed="rId3"/>
          <a:srcRect l="4122" t="12315" r="3236" b="55234"/>
          <a:stretch/>
        </p:blipFill>
        <p:spPr>
          <a:xfrm>
            <a:off x="5532480" y="3933720"/>
            <a:ext cx="3611520" cy="194328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право 2"/>
          <p:cNvSpPr/>
          <p:nvPr/>
        </p:nvSpPr>
        <p:spPr>
          <a:xfrm>
            <a:off x="5376960" y="4513320"/>
            <a:ext cx="312480" cy="24300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720" y="1125000"/>
            <a:ext cx="918036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579640" y="5105520"/>
            <a:ext cx="352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тал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ОУ «СПб губернаторский ФМЛ №3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gturs.com/europe/pic/russia/map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newstes.ru/uploads/posts/2016-10/ministr-transporta-utochnil-s-kogo-hotyat-brat-platu-za-proezd-cherez-granicu-rf_1.jpeg"/>
          <p:cNvPicPr/>
          <p:nvPr/>
        </p:nvPicPr>
        <p:blipFill>
          <a:blip r:embed="rId1"/>
          <a:srcRect l="43" t="13" r="7224" b="-6"/>
          <a:stretch/>
        </p:blipFill>
        <p:spPr>
          <a:xfrm>
            <a:off x="663480" y="0"/>
            <a:ext cx="84805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static.panoramio.com/photos/large/47967233.jpg"/>
          <p:cNvPicPr/>
          <p:nvPr/>
        </p:nvPicPr>
        <p:blipFill>
          <a:blip r:embed="rId2"/>
          <a:srcRect l="0" t="0" r="0" b="5589"/>
          <a:stretch/>
        </p:blipFill>
        <p:spPr>
          <a:xfrm>
            <a:off x="0" y="0"/>
            <a:ext cx="4506840" cy="2828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о- Монгольская гр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s://asninfo.ru/images/news/516cc82f/aea93cb571a2b519a54ed4b0.jpg"/>
          <p:cNvPicPr/>
          <p:nvPr/>
        </p:nvPicPr>
        <p:blipFill>
          <a:blip r:embed="rId3"/>
          <a:stretch/>
        </p:blipFill>
        <p:spPr>
          <a:xfrm>
            <a:off x="-6480" y="4506840"/>
            <a:ext cx="4513320" cy="235116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611280" y="494172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йско- Финская граница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moscow-info.org/ContentImages/41/61252741/img_source_infograph_61252741.jpg"/>
          <p:cNvPicPr/>
          <p:nvPr/>
        </p:nvPicPr>
        <p:blipFill>
          <a:blip r:embed="rId1"/>
          <a:stretch/>
        </p:blipFill>
        <p:spPr>
          <a:xfrm>
            <a:off x="-11160" y="620640"/>
            <a:ext cx="91566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материалу на стр.9 в учебник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составьте и запишите в тетрадь краткую характеристику государственной границы России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определите проблемы, связанные с государственной границей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Государственная территория 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ая территория страны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асть земной поверхности, на которую распространяется действие законов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ь суши и недра, внутренние воды суши и внутренние морские воды (воды портов, заливов,…), территориальные воды (12 морских миль=22,2 км), включая остр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D:\rus.jpg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900igr.net/up/datas/126100/006.jpg"/>
          <p:cNvPicPr/>
          <p:nvPr/>
        </p:nvPicPr>
        <p:blipFill>
          <a:blip r:embed="rId1"/>
          <a:srcRect l="3681" t="21622" r="2264" b="9202"/>
          <a:stretch/>
        </p:blipFill>
        <p:spPr>
          <a:xfrm>
            <a:off x="0" y="0"/>
            <a:ext cx="6300720" cy="345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s://i04.fotocdn.net/s23/139/public_pin_m/441/2581969034.jpg"/>
          <p:cNvPicPr/>
          <p:nvPr/>
        </p:nvPicPr>
        <p:blipFill>
          <a:blip r:embed="rId2"/>
          <a:srcRect l="2494" t="4187" r="2245" b="3799"/>
          <a:stretch/>
        </p:blipFill>
        <p:spPr>
          <a:xfrm>
            <a:off x="4786200" y="3425760"/>
            <a:ext cx="4357800" cy="343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fs.nashaucheba.ru/tw_files2/urls_3/1588/d-1587398/1587398_html_731ad988.jpg"/>
          <p:cNvPicPr/>
          <p:nvPr/>
        </p:nvPicPr>
        <p:blipFill>
          <a:blip r:embed="rId3"/>
          <a:stretch/>
        </p:blipFill>
        <p:spPr>
          <a:xfrm>
            <a:off x="-9360" y="3425760"/>
            <a:ext cx="479556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images.myshared.ru/9/941619/slide_2.jpg"/>
          <p:cNvPicPr/>
          <p:nvPr/>
        </p:nvPicPr>
        <p:blipFill>
          <a:blip r:embed="rId4"/>
          <a:srcRect l="41232" t="2829" r="5657" b="42205"/>
          <a:stretch/>
        </p:blipFill>
        <p:spPr>
          <a:xfrm>
            <a:off x="6297480" y="638280"/>
            <a:ext cx="2840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по материалу на стр.10-11 в учебнике определите: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1. преимущества, связанные с размерами и формой государственной территории страны;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2. проблемы, связанные с размерами и формой государственной территории стран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800" y="0"/>
            <a:ext cx="918180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Отсчёт времени                      на территории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kaspyinfo.ru/wp-content/uploads/2016/01/2016-01-29-18-11-30-%D0%A7%D0%B0%D1%81%D0%BE%D0%B2%D1%8B%D0%B5-%D0%BF%D0%BE%D1%8F%D1%81%D0%B0-%D0%A0%D0%BE%D1%81%D1%81%D0%B8%D0%B8-photo.bigbo_.ru-%D0%98%D0%90-REGNUM-%E2%80%93-Yandex.png"/>
          <p:cNvPicPr/>
          <p:nvPr/>
        </p:nvPicPr>
        <p:blipFill>
          <a:blip r:embed="rId1"/>
          <a:srcRect l="0" t="4248" r="0" b="202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04:39:16Z</dcterms:created>
  <dc:creator>Интернет</dc:creator>
  <dc:description/>
  <dc:language>en-US</dc:language>
  <cp:lastModifiedBy>Краснова Н.В.</cp:lastModifiedBy>
  <dcterms:modified xsi:type="dcterms:W3CDTF">2017-09-11T13:03:28Z</dcterms:modified>
  <cp:revision>222</cp:revision>
  <dc:subject/>
  <dc:title>Внутреннее строение Земли</dc:title>
</cp:coreProperties>
</file>