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EAD2-8232-4AE7-8BE7-426A3404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 полностью или частично может быть использована  в ходе изучения алгебры в 8 классе, в 9 классе, а так же  в курсе «Алгебра и начала анализа» в 10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она  полезна при работе с книгой « Дополнительные главы к школьному учебнику 8 класс»  при изучении темы « Дробно- линейная функция. Простейшие преобразования графиков функ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её успешно можно использовать при прохождении темы «Квадратичная функция», а в 10 классе данную презентацию целесообразно показать  перед изучением  тем «Как построить график функций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f(x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=f(k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если известен график функции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= f(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смотрим простейшие преобразования  двух других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и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йте графики функци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(х-4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(х+7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 (х+5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½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Построение  первых четырёх графиков обсуждается и демонстрируется на слайде.  График последней функции строится учащимися самостоятельно и проверяется с помощью слай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86" name=""/>
          <p:cNvSpPr/>
          <p:nvPr/>
        </p:nvSpPr>
        <p:spPr>
          <a:xfrm>
            <a:off x="1143000" y="3236760"/>
            <a:ext cx="457200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-1662120" y="2251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постройте графики функций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+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-5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+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-3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Построение  первых четырёх графиков обсуждается и демонстрируется на слайде.  График последней функции строится учащимися самостоятельно и проверяется с помощью слай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92280" y="462600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им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Учащиеся  производят вычисления и заполняется вторая строка таблицы, одновременно на координатной плоскости строятся точки а затем появляется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им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 производят вычисления и заполняется третья строка таблицы, одновременно на координатной плоскости появляются соответствующие точки и демонстрируется, что они получаются перемещением  точек графика 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две единицы в вер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аким образом мы можем получить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ответа  учащихся на поставленный вопрос  демонстрируется  построение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мещением на 2 единицы вверх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учается из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мещением его на две единицы ввер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щё раз демонстрируется  преобразование графика 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, а как мы можем получить график функц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ответа  учащихся на поставленный вопрос  демонстрируется  построение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м на 2 единицы вниз графика функции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постройте графики функци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3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выполняют построения у себя в тетрадях или устно обсуждают  как построить графики данных функций. Правильный ответ демонстрируется на слай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им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 производят вычисления и заполняется вторая строка таблицы, одновременно на координатной плоскости строятся точки а затем появляется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им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(х+1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 производят вычисления и заполняется третья строка таблицы, одновременно на координатной плоскости появляются соответствующие точки и демонстрируется, что они получаются перемещением  точек граф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 на одну единицу влево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оспользуйтесь разобранным примером и предположите, как можно построить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(х+2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если у нас есть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ыслушав ответы учащихся, учитель демонстрирует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 построить график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(х-2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слушав ответы  и предположения учащихся, учитель демонстрирует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йте графики функци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(х+4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=(х-5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выполняют построения у себя в тетрадях или устно обсуждают  как построить графики данных функций. Правильный ответ появляется на слай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йте графики функци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(х+3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=(х-4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=(х-6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графика первой функции обсуждается с учащимися  и демонстрируется на слайде. Графики двух других функций  учащиеся строят у себя в тетради, а затем осуществляется проверка с помощью слай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ы рассмотрели с вами два вида простейших преобразований графика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±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± n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же комбинацию этих преобразований. (У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ащиеся еще раз проговаривают как построить графики данных функц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 аналогично можно преобразовать график любой произвольной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ясн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Демонстрируются слай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9 и №10  и учитель ещё раз даёт свои коммента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ьных классах, а также в 10 классе  необходимо дать  точное определение  данных преобразований, используя понятия модуля и параллельного переноса.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6FC-0D2D-4F36-A5D2-28DEAA62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061-9564-4D30-BAD2-C9EA05B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D8F-9CAB-47FB-9202-5D446078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B9-D0F5-4E7A-9F51-7F5D9403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2C1-3EEF-49F6-8DB8-6D3675C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8AD-3AC1-4605-8883-2D6A57C3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09E-9A26-4BD2-88AD-858E079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9DC-AA70-4D0F-91AF-C797600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089-AFDB-42FF-BF6C-33954221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B2C-9FCD-48E0-B77D-25AFA67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993-B962-4C2C-8CED-BBC59C2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0F9-AA9C-4D29-B5A7-E2581ADF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4D97-DB54-4409-954D-40426CA0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476280"/>
            <a:ext cx="74883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стейши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образ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ков функц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076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Предмет: «Алгебра 8, 9 класс», «Алгебра и начала анализа 10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365720"/>
            <a:ext cx="6912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втор учебно-методического матери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итель математики  МОУ гимназия №1  г.о. Ш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ирскова Елена Вене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628560" y="1146240"/>
            <a:ext cx="8263080" cy="5040360"/>
            <a:chOff x="628560" y="1146240"/>
            <a:chExt cx="8263080" cy="5040360"/>
          </a:xfrm>
        </p:grpSpPr>
        <p:sp>
          <p:nvSpPr>
            <p:cNvPr id="557" name=""/>
            <p:cNvSpPr/>
            <p:nvPr/>
          </p:nvSpPr>
          <p:spPr>
            <a:xfrm>
              <a:off x="4529160" y="4091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8560" y="11462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8560" y="61833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856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88984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8560" y="150480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3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922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5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114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7184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3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52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1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5920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9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5292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356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3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120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70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29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884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469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8560" y="18651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8560" y="22240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8560" y="258300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8560" y="29415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560" y="3300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560" y="3659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8560" y="40244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8560" y="4389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560" y="4748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560" y="51069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8560" y="54658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8560" y="58244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10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058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29160" y="4091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8560" y="11462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8560" y="61833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856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8984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8560" y="150480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3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922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114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7184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3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52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1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5920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9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292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356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7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3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20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70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29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884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69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8560" y="18651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8560" y="22240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8560" y="258300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8560" y="29415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8560" y="3300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8560" y="3659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8560" y="40244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8560" y="4389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8560" y="4748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8560" y="51069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8560" y="54658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8560" y="58244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10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7058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78880" y="41385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628560" y="1146240"/>
              <a:ext cx="8207640" cy="5040360"/>
              <a:chOff x="628560" y="1146240"/>
              <a:chExt cx="8207640" cy="5040360"/>
            </a:xfrm>
          </p:grpSpPr>
          <p:sp>
            <p:nvSpPr>
              <p:cNvPr id="641" name=""/>
              <p:cNvSpPr/>
              <p:nvPr/>
            </p:nvSpPr>
            <p:spPr>
              <a:xfrm>
                <a:off x="628560" y="3968640"/>
                <a:ext cx="8207640" cy="114480"/>
              </a:xfrm>
              <a:custGeom>
                <a:avLst/>
                <a:gdLst/>
                <a:ahLst/>
                <a:rect l="l" t="t" r="r" b="b"/>
                <a:pathLst>
                  <a:path w="5170" h="72">
                    <a:moveTo>
                      <a:pt x="0" y="24"/>
                    </a:moveTo>
                    <a:lnTo>
                      <a:pt x="5110" y="24"/>
                    </a:lnTo>
                    <a:lnTo>
                      <a:pt x="5110" y="48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  <a:moveTo>
                      <a:pt x="5098" y="0"/>
                    </a:moveTo>
                    <a:lnTo>
                      <a:pt x="5170" y="36"/>
                    </a:lnTo>
                    <a:lnTo>
                      <a:pt x="5098" y="72"/>
                    </a:lnTo>
                    <a:lnTo>
                      <a:pt x="50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131840" y="1146240"/>
                <a:ext cx="7202520" cy="5040360"/>
                <a:chOff x="1131840" y="1146240"/>
                <a:chExt cx="7202520" cy="50403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675320" y="1146240"/>
                  <a:ext cx="114120" cy="5040360"/>
                </a:xfrm>
                <a:custGeom>
                  <a:avLst/>
                  <a:gdLst/>
                  <a:ahLst/>
                  <a:rect l="l" t="t" r="r" b="b"/>
                  <a:pathLst>
                    <a:path w="72" h="3175">
                      <a:moveTo>
                        <a:pt x="24" y="3175"/>
                      </a:moveTo>
                      <a:lnTo>
                        <a:pt x="24" y="60"/>
                      </a:lnTo>
                      <a:lnTo>
                        <a:pt x="48" y="60"/>
                      </a:lnTo>
                      <a:lnTo>
                        <a:pt x="48" y="3175"/>
                      </a:lnTo>
                      <a:lnTo>
                        <a:pt x="24" y="3175"/>
                      </a:lnTo>
                      <a:close/>
                      <a:moveTo>
                        <a:pt x="0" y="72"/>
                      </a:moveTo>
                      <a:lnTo>
                        <a:pt x="36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9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5328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81184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17220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53256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89292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25328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61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97256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33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37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01148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65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29256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93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57184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21148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85256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49220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3184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60920" y="366552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660920" y="330516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60920" y="294624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60920" y="258588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60920" y="222552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660920" y="186516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660920" y="150480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660920" y="438624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660920" y="474660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60920" y="510552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660920" y="546588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660920" y="582624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6" name=""/>
            <p:cNvSpPr/>
            <p:nvPr/>
          </p:nvSpPr>
          <p:spPr>
            <a:xfrm>
              <a:off x="8678880" y="413856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8560" y="3968640"/>
              <a:ext cx="8207640" cy="114480"/>
            </a:xfrm>
            <a:custGeom>
              <a:avLst/>
              <a:gdLst/>
              <a:ahLst/>
              <a:rect l="l" t="t" r="r" b="b"/>
              <a:pathLst>
                <a:path w="5170" h="72">
                  <a:moveTo>
                    <a:pt x="0" y="24"/>
                  </a:moveTo>
                  <a:lnTo>
                    <a:pt x="5110" y="24"/>
                  </a:lnTo>
                  <a:lnTo>
                    <a:pt x="5110" y="48"/>
                  </a:lnTo>
                  <a:lnTo>
                    <a:pt x="0" y="48"/>
                  </a:lnTo>
                  <a:lnTo>
                    <a:pt x="0" y="24"/>
                  </a:lnTo>
                  <a:close/>
                  <a:moveTo>
                    <a:pt x="5098" y="0"/>
                  </a:moveTo>
                  <a:lnTo>
                    <a:pt x="5170" y="36"/>
                  </a:lnTo>
                  <a:lnTo>
                    <a:pt x="5098" y="72"/>
                  </a:lnTo>
                  <a:lnTo>
                    <a:pt x="509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131840" y="1146240"/>
              <a:ext cx="7202520" cy="5040360"/>
              <a:chOff x="1131840" y="1146240"/>
              <a:chExt cx="7202520" cy="504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4675320" y="1146240"/>
                <a:ext cx="114120" cy="5040360"/>
              </a:xfrm>
              <a:custGeom>
                <a:avLst/>
                <a:gdLst/>
                <a:ahLst/>
                <a:rect l="l" t="t" r="r" b="b"/>
                <a:pathLst>
                  <a:path w="72" h="3175">
                    <a:moveTo>
                      <a:pt x="24" y="3175"/>
                    </a:moveTo>
                    <a:lnTo>
                      <a:pt x="24" y="60"/>
                    </a:lnTo>
                    <a:lnTo>
                      <a:pt x="48" y="60"/>
                    </a:lnTo>
                    <a:lnTo>
                      <a:pt x="48" y="3175"/>
                    </a:lnTo>
                    <a:lnTo>
                      <a:pt x="24" y="3175"/>
                    </a:lnTo>
                    <a:close/>
                    <a:moveTo>
                      <a:pt x="0" y="72"/>
                    </a:moveTo>
                    <a:lnTo>
                      <a:pt x="36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9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5328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1184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7220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3256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9292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5328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61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7256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33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7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1148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65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29256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3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7184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1148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5256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9220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3184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60920" y="366552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60920" y="330516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60920" y="294624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60920" y="258588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660920" y="222552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660920" y="186516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60920" y="150480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660920" y="438624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60920" y="474660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60920" y="510552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660920" y="546588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660920" y="582624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28560" y="3968640"/>
              <a:ext cx="8207640" cy="114480"/>
            </a:xfrm>
            <a:custGeom>
              <a:avLst/>
              <a:gdLst/>
              <a:ahLst/>
              <a:rect l="l" t="t" r="r" b="b"/>
              <a:pathLst>
                <a:path w="5170" h="72">
                  <a:moveTo>
                    <a:pt x="0" y="24"/>
                  </a:moveTo>
                  <a:lnTo>
                    <a:pt x="5110" y="24"/>
                  </a:lnTo>
                  <a:lnTo>
                    <a:pt x="5110" y="48"/>
                  </a:lnTo>
                  <a:lnTo>
                    <a:pt x="0" y="48"/>
                  </a:lnTo>
                  <a:lnTo>
                    <a:pt x="0" y="24"/>
                  </a:lnTo>
                  <a:close/>
                  <a:moveTo>
                    <a:pt x="5098" y="0"/>
                  </a:moveTo>
                  <a:lnTo>
                    <a:pt x="5170" y="36"/>
                  </a:lnTo>
                  <a:lnTo>
                    <a:pt x="5098" y="72"/>
                  </a:lnTo>
                  <a:lnTo>
                    <a:pt x="509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75320" y="1146240"/>
              <a:ext cx="114120" cy="5040360"/>
            </a:xfrm>
            <a:custGeom>
              <a:avLst/>
              <a:gdLst/>
              <a:ahLst/>
              <a:rect l="l" t="t" r="r" b="b"/>
              <a:pathLst>
                <a:path w="72" h="3175">
                  <a:moveTo>
                    <a:pt x="24" y="3175"/>
                  </a:moveTo>
                  <a:lnTo>
                    <a:pt x="24" y="60"/>
                  </a:lnTo>
                  <a:lnTo>
                    <a:pt x="48" y="60"/>
                  </a:lnTo>
                  <a:lnTo>
                    <a:pt x="48" y="3175"/>
                  </a:lnTo>
                  <a:lnTo>
                    <a:pt x="24" y="3175"/>
                  </a:lnTo>
                  <a:close/>
                  <a:moveTo>
                    <a:pt x="0" y="72"/>
                  </a:moveTo>
                  <a:lnTo>
                    <a:pt x="36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9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5292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1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7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3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9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532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1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7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33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7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1148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5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9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3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7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114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9220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3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60920" y="366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60920" y="330516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60920" y="29462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60920" y="258588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60920" y="222552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60920" y="186516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60920" y="150480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60920" y="438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60920" y="474660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60920" y="510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60920" y="546588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60920" y="582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75320" y="1146240"/>
              <a:ext cx="114120" cy="5040360"/>
            </a:xfrm>
            <a:custGeom>
              <a:avLst/>
              <a:gdLst/>
              <a:ahLst/>
              <a:rect l="l" t="t" r="r" b="b"/>
              <a:pathLst>
                <a:path w="72" h="3175">
                  <a:moveTo>
                    <a:pt x="24" y="3175"/>
                  </a:moveTo>
                  <a:lnTo>
                    <a:pt x="24" y="60"/>
                  </a:lnTo>
                  <a:lnTo>
                    <a:pt x="48" y="60"/>
                  </a:lnTo>
                  <a:lnTo>
                    <a:pt x="48" y="3175"/>
                  </a:lnTo>
                  <a:lnTo>
                    <a:pt x="24" y="3175"/>
                  </a:lnTo>
                  <a:close/>
                  <a:moveTo>
                    <a:pt x="0" y="72"/>
                  </a:moveTo>
                  <a:lnTo>
                    <a:pt x="36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9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5292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1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7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3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9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532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1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7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33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1148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5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9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3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7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14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5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9220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3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60920" y="366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60920" y="330516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60920" y="29462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60920" y="258588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60920" y="222552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60920" y="186516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60920" y="150480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0920" y="438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60920" y="474660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60920" y="510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0920" y="546588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60920" y="582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132000" y="2708280"/>
                <a:ext cx="1090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1547640" y="260280"/>
                <a:ext cx="2160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5796000" y="260280"/>
                <a:ext cx="2160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8604360" y="414972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859280" y="119700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32000" y="278136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32000" y="278136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716000" y="4076640"/>
            <a:ext cx="1081080" cy="531720"/>
            <a:chOff x="4716000" y="4076640"/>
            <a:chExt cx="1081080" cy="531720"/>
          </a:xfrm>
        </p:grpSpPr>
        <p:sp>
          <p:nvSpPr>
            <p:cNvPr id="786" name=""/>
            <p:cNvSpPr/>
            <p:nvPr/>
          </p:nvSpPr>
          <p:spPr>
            <a:xfrm rot="5400000">
              <a:off x="5148360" y="3643920"/>
              <a:ext cx="216000" cy="10810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5148360" y="4365720"/>
                  <a:ext cx="287280" cy="2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8" name=""/>
          <p:cNvSpPr/>
          <p:nvPr/>
        </p:nvSpPr>
        <p:spPr>
          <a:xfrm>
            <a:off x="1332000" y="278136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916360" y="4149720"/>
            <a:ext cx="1079280" cy="531720"/>
            <a:chOff x="2916360" y="4149720"/>
            <a:chExt cx="1079280" cy="531720"/>
          </a:xfrm>
        </p:grpSpPr>
        <p:sp>
          <p:nvSpPr>
            <p:cNvPr id="790" name=""/>
            <p:cNvSpPr/>
            <p:nvPr/>
          </p:nvSpPr>
          <p:spPr>
            <a:xfrm rot="5400000">
              <a:off x="3348000" y="3718080"/>
              <a:ext cx="216000" cy="1079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47640" y="4438800"/>
                  <a:ext cx="286560" cy="2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2C3-AF00-45ED-B3EE-EF9A0399CC7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5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indefinite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4335E-006 L -0.11805 -2.54335E-006 E">
                                      <p:cBhvr>
                                        <p:cTn id="808" dur="3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11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7746E-006 L -0.14167 0.36115 E">
                                      <p:cBhvr>
                                        <p:cTn id="81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4335E-006 L 0.11823 -2.54335E-006 E">
                                      <p:cBhvr>
                                        <p:cTn id="821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824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6751 L 0.08663 0.63375 E">
                                      <p:cBhvr>
                                        <p:cTn id="83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755640" y="1052640"/>
          <a:ext cx="7473960" cy="4689360"/>
        </p:xfrm>
        <a:graphic>
          <a:graphicData uri="http://schemas.openxmlformats.org/drawingml/2006/table">
            <a:tbl>
              <a:tblPr/>
              <a:tblGrid>
                <a:gridCol w="339840"/>
                <a:gridCol w="339480"/>
                <a:gridCol w="339840"/>
                <a:gridCol w="339840"/>
                <a:gridCol w="339480"/>
                <a:gridCol w="339840"/>
                <a:gridCol w="339840"/>
                <a:gridCol w="339480"/>
                <a:gridCol w="339840"/>
                <a:gridCol w="339840"/>
                <a:gridCol w="347760"/>
                <a:gridCol w="358560"/>
                <a:gridCol w="312840"/>
                <a:gridCol w="339840"/>
                <a:gridCol w="339480"/>
                <a:gridCol w="339840"/>
                <a:gridCol w="339840"/>
                <a:gridCol w="339480"/>
                <a:gridCol w="339840"/>
                <a:gridCol w="339840"/>
                <a:gridCol w="339480"/>
                <a:gridCol w="339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755640" y="371628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500720" y="1125360"/>
            <a:ext cx="0" cy="46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7524720" y="2852640"/>
                <a:ext cx="619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258920" y="260280"/>
                <a:ext cx="1166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524720" y="2852640"/>
                <a:ext cx="619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203640" y="260280"/>
            <a:ext cx="1296720" cy="431640"/>
            <a:chOff x="3203640" y="260280"/>
            <a:chExt cx="1296720" cy="431640"/>
          </a:xfrm>
        </p:grpSpPr>
        <p:sp>
          <p:nvSpPr>
            <p:cNvPr id="803" name=""/>
            <p:cNvSpPr/>
            <p:nvPr/>
          </p:nvSpPr>
          <p:spPr>
            <a:xfrm>
              <a:off x="3203640" y="260280"/>
              <a:ext cx="1296720" cy="431640"/>
            </a:xfrm>
            <a:prstGeom prst="rect">
              <a:avLst/>
            </a:prstGeom>
            <a:noFill/>
            <a:ln w="28440">
              <a:solidFill>
                <a:srgbClr val="f07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3203640" y="260280"/>
                  <a:ext cx="1286640" cy="39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5" name=""/>
          <p:cNvSpPr/>
          <p:nvPr/>
        </p:nvSpPr>
        <p:spPr>
          <a:xfrm>
            <a:off x="4284720" y="112536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56720" y="3716280"/>
            <a:ext cx="142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284720" y="3500280"/>
            <a:ext cx="144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27640" y="4076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5292720" y="260280"/>
                <a:ext cx="1158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7093080" y="260280"/>
                <a:ext cx="1150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96000" y="378936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29973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140360" y="4653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701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35280" y="37893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508200" y="5877000"/>
                <a:ext cx="2271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4500720" y="2637000"/>
            <a:ext cx="3600360" cy="1079280"/>
          </a:xfrm>
          <a:custGeom>
            <a:avLst/>
            <a:gdLst/>
            <a:ahLst/>
            <a:rect l="l" t="t" r="r" b="b"/>
            <a:pathLst>
              <a:path w="2268" h="680">
                <a:moveTo>
                  <a:pt x="0" y="680"/>
                </a:moveTo>
                <a:cubicBezTo>
                  <a:pt x="41" y="601"/>
                  <a:pt x="83" y="522"/>
                  <a:pt x="226" y="454"/>
                </a:cubicBezTo>
                <a:cubicBezTo>
                  <a:pt x="369" y="386"/>
                  <a:pt x="581" y="340"/>
                  <a:pt x="861" y="272"/>
                </a:cubicBezTo>
                <a:cubicBezTo>
                  <a:pt x="1141" y="204"/>
                  <a:pt x="1671" y="90"/>
                  <a:pt x="1905" y="45"/>
                </a:cubicBezTo>
                <a:cubicBezTo>
                  <a:pt x="2139" y="0"/>
                  <a:pt x="2207" y="7"/>
                  <a:pt x="2268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859280" y="3645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88000" y="386064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700360" y="3789360"/>
            <a:ext cx="1727280" cy="1511280"/>
            <a:chOff x="2700360" y="3789360"/>
            <a:chExt cx="1727280" cy="1511280"/>
          </a:xfrm>
        </p:grpSpPr>
        <p:sp>
          <p:nvSpPr>
            <p:cNvPr id="822" name=""/>
            <p:cNvSpPr/>
            <p:nvPr/>
          </p:nvSpPr>
          <p:spPr>
            <a:xfrm>
              <a:off x="2700360" y="378936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11640" y="501336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A99-F8B3-4BF2-A4B7-DBE32C40484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2963E-006 L 5E-006 -0.09444 E">
                                      <p:cBhvr>
                                        <p:cTn id="863" dur="2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5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6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3815E-006 L 0.51979 0.1993 E">
                                      <p:cBhvr>
                                        <p:cTn id="869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indefinite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indefinite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4046E-006 L -2.5E-006 0.15214 E">
                                      <p:cBhvr>
                                        <p:cTn id="895" dur="3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07010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5723E-006 L 0.3467 0.58219 E">
                                      <p:cBhvr>
                                        <p:cTn id="901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6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indefinite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indefinite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71676E-006 L 0.14949 -2.71676E-006 E">
                                      <p:cBhvr>
                                        <p:cTn id="918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21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3838 L 0.25209 0.29017 E">
                                      <p:cBhvr>
                                        <p:cTn id="924" dur="1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71676E-006 L -0.2599 -2.71676E-006 E">
                                      <p:cBhvr>
                                        <p:cTn id="937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940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3677 L -0.56684 0.34613 E">
                                      <p:cBhvr>
                                        <p:cTn id="943" dur="1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indefinite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indefinite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indefinite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indefinite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indefinite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indefinite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indefinite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indefinite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indefinite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indefinite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71676E-006 L -0.18906 -2.71676E-006 E">
                                      <p:cBhvr>
                                        <p:cTn id="987" dur="2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990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06 1.04046E-006 L -0.18906 0.19399 E">
                                      <p:cBhvr>
                                        <p:cTn id="993" dur="2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05295 L -0.32274 -0.26266 E">
                                      <p:cBhvr>
                                        <p:cTn id="996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"/>
          <p:cNvGraphicFramePr/>
          <p:nvPr/>
        </p:nvGraphicFramePr>
        <p:xfrm>
          <a:off x="755640" y="1052640"/>
          <a:ext cx="7473960" cy="4682880"/>
        </p:xfrm>
        <a:graphic>
          <a:graphicData uri="http://schemas.openxmlformats.org/drawingml/2006/table">
            <a:tbl>
              <a:tblPr/>
              <a:tblGrid>
                <a:gridCol w="216000"/>
                <a:gridCol w="359640"/>
                <a:gridCol w="359640"/>
                <a:gridCol w="357840"/>
                <a:gridCol w="359640"/>
                <a:gridCol w="381960"/>
                <a:gridCol w="339480"/>
                <a:gridCol w="339120"/>
                <a:gridCol w="339480"/>
                <a:gridCol w="339480"/>
                <a:gridCol w="347400"/>
                <a:gridCol w="357840"/>
                <a:gridCol w="312480"/>
                <a:gridCol w="339480"/>
                <a:gridCol w="339120"/>
                <a:gridCol w="375480"/>
                <a:gridCol w="359640"/>
                <a:gridCol w="359640"/>
                <a:gridCol w="359640"/>
                <a:gridCol w="358200"/>
                <a:gridCol w="359640"/>
                <a:gridCol w="2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"/>
          <p:cNvSpPr/>
          <p:nvPr/>
        </p:nvSpPr>
        <p:spPr>
          <a:xfrm>
            <a:off x="755640" y="371628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500720" y="1125360"/>
            <a:ext cx="0" cy="46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112536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956720" y="3716280"/>
            <a:ext cx="142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84720" y="3789360"/>
            <a:ext cx="144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427640" y="4076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59280" y="3645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86064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427640" y="3429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211640" y="328464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427280" y="3068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37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6732720" y="1700280"/>
                <a:ext cx="865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1187280" y="333360"/>
                <a:ext cx="1151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132000" y="333360"/>
                <a:ext cx="122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5219640" y="333360"/>
                <a:ext cx="1225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7164360" y="333360"/>
                <a:ext cx="122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45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48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4211640" y="4653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211640" y="227664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53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38160">
              <a:solidFill>
                <a:srgbClr val="f07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38160">
              <a:solidFill>
                <a:srgbClr val="f07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6084720" y="378936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701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57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2268360" y="3357720"/>
            <a:ext cx="28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3348000" y="5950080"/>
                <a:ext cx="2016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1" name=""/>
          <p:cNvGrpSpPr/>
          <p:nvPr/>
        </p:nvGrpSpPr>
        <p:grpSpPr>
          <a:xfrm>
            <a:off x="2124000" y="1413000"/>
            <a:ext cx="4753080" cy="2303280"/>
            <a:chOff x="2124000" y="1413000"/>
            <a:chExt cx="4753080" cy="2303280"/>
          </a:xfrm>
        </p:grpSpPr>
        <p:sp>
          <p:nvSpPr>
            <p:cNvPr id="862" name=""/>
            <p:cNvSpPr/>
            <p:nvPr/>
          </p:nvSpPr>
          <p:spPr>
            <a:xfrm>
              <a:off x="2124000" y="1413000"/>
              <a:ext cx="2376720" cy="230328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500720" y="1413000"/>
              <a:ext cx="2376360" cy="230328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140360" y="530064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7A2-DD7E-4B23-B67B-05D49C8BBE6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7168E-006 L 2.5E-006 0.14682 E">
                                      <p:cBhvr>
                                        <p:cTn id="1030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.00994 L 0.12621 0.52393 E">
                                      <p:cBhvr>
                                        <p:cTn id="1033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7168E-006 L 2.5E-006 -0.19907 E">
                                      <p:cBhvr>
                                        <p:cTn id="1045" dur="20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041 L -0.2323 0.00879 E">
                                      <p:cBhvr>
                                        <p:cTn id="1048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4624E-007 L 0.18889 0.00023 E">
                                      <p:cBhvr>
                                        <p:cTn id="1060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3873E-006 L 0.23229 0.37526 E">
                                      <p:cBhvr>
                                        <p:cTn id="1063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4624E-007 L -0.22847 0.00023 E">
                                      <p:cBhvr>
                                        <p:cTn id="1075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50289E-006 L -0.7599 0.38636 E">
                                      <p:cBhvr>
                                        <p:cTn id="1078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indefinite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indefinite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indefinite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indefinite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indefinite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indefinite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indefinite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indefinite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indefinite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indefinite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indefinite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indefinite"/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5723E-006 L 2.5E-006 0.243 L 0.10955 0.243 E">
                                      <p:cBhvr>
                                        <p:cTn id="1120" dur="5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0.37014 -0.21619 E">
                                      <p:cBhvr>
                                        <p:cTn id="113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10160" y="1413000"/>
            <a:ext cx="85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1413000"/>
            <a:ext cx="85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20640"/>
            <a:ext cx="857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620640"/>
            <a:ext cx="5141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017720"/>
            <a:ext cx="514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413000"/>
            <a:ext cx="514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809720"/>
            <a:ext cx="5141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620640"/>
            <a:ext cx="0" cy="1189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36880" y="62064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94400" y="62064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51560" y="62064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10160" y="62064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65880" y="620640"/>
            <a:ext cx="0" cy="1189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0920" y="2205000"/>
          <a:ext cx="5208840" cy="4140360"/>
        </p:xfrm>
        <a:graphic>
          <a:graphicData uri="http://schemas.openxmlformats.org/drawingml/2006/table">
            <a:tbl>
              <a:tblPr/>
              <a:tblGrid>
                <a:gridCol w="520920"/>
                <a:gridCol w="560160"/>
                <a:gridCol w="503280"/>
                <a:gridCol w="498600"/>
                <a:gridCol w="522360"/>
                <a:gridCol w="520560"/>
                <a:gridCol w="547560"/>
                <a:gridCol w="493920"/>
                <a:gridCol w="514440"/>
                <a:gridCol w="52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050920" y="2276280"/>
            <a:ext cx="5256360" cy="4105080"/>
            <a:chOff x="2050920" y="2276280"/>
            <a:chExt cx="5256360" cy="4105080"/>
          </a:xfrm>
        </p:grpSpPr>
        <p:sp>
          <p:nvSpPr>
            <p:cNvPr id="66" name=""/>
            <p:cNvSpPr/>
            <p:nvPr/>
          </p:nvSpPr>
          <p:spPr>
            <a:xfrm>
              <a:off x="2050920" y="5805360"/>
              <a:ext cx="525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643280" y="2276280"/>
              <a:ext cx="0" cy="410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5734080"/>
            <a:ext cx="144360" cy="73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5734080"/>
            <a:ext cx="144360" cy="73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144720" cy="72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5229360"/>
            <a:ext cx="144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3716280"/>
            <a:ext cx="144360" cy="73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3716280"/>
            <a:ext cx="144360" cy="73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9840" y="2525760"/>
            <a:ext cx="2814840" cy="3286080"/>
          </a:xfrm>
          <a:custGeom>
            <a:avLst/>
            <a:gdLst/>
            <a:ahLst/>
            <a:rect l="l" t="t" r="r" b="b"/>
            <a:pathLst>
              <a:path w="1773" h="2070">
                <a:moveTo>
                  <a:pt x="1773" y="36"/>
                </a:moveTo>
                <a:cubicBezTo>
                  <a:pt x="1735" y="157"/>
                  <a:pt x="1644" y="474"/>
                  <a:pt x="1545" y="759"/>
                </a:cubicBezTo>
                <a:cubicBezTo>
                  <a:pt x="1446" y="1044"/>
                  <a:pt x="1297" y="1528"/>
                  <a:pt x="1179" y="1746"/>
                </a:cubicBezTo>
                <a:cubicBezTo>
                  <a:pt x="1061" y="1964"/>
                  <a:pt x="947" y="2070"/>
                  <a:pt x="837" y="2067"/>
                </a:cubicBezTo>
                <a:cubicBezTo>
                  <a:pt x="727" y="2064"/>
                  <a:pt x="630" y="1957"/>
                  <a:pt x="521" y="1728"/>
                </a:cubicBezTo>
                <a:cubicBezTo>
                  <a:pt x="412" y="1499"/>
                  <a:pt x="269" y="983"/>
                  <a:pt x="182" y="695"/>
                </a:cubicBezTo>
                <a:cubicBezTo>
                  <a:pt x="95" y="407"/>
                  <a:pt x="38" y="145"/>
                  <a:pt x="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5229360"/>
            <a:ext cx="144360" cy="72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3716280"/>
            <a:ext cx="144360" cy="73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716280"/>
            <a:ext cx="142920" cy="73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1560" y="1413000"/>
            <a:ext cx="858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94400" y="1413000"/>
            <a:ext cx="85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6880" y="1413000"/>
            <a:ext cx="857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1160" y="1413000"/>
            <a:ext cx="85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10160" y="1017720"/>
            <a:ext cx="855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51560" y="1017720"/>
            <a:ext cx="858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94400" y="1017720"/>
            <a:ext cx="857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36880" y="1017720"/>
            <a:ext cx="857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1160" y="1017720"/>
            <a:ext cx="855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17720"/>
            <a:ext cx="857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10160" y="620640"/>
            <a:ext cx="85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51560" y="620640"/>
            <a:ext cx="85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4400" y="620640"/>
            <a:ext cx="857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6880" y="620640"/>
            <a:ext cx="857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1160" y="620640"/>
            <a:ext cx="85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1160" y="62064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40000" y="620640"/>
                <a:ext cx="326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340000" y="981000"/>
                <a:ext cx="439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124000" y="1413000"/>
                <a:ext cx="831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12000" y="3357720"/>
                <a:ext cx="871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067280" y="5229360"/>
            <a:ext cx="144360" cy="72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3213000"/>
            <a:ext cx="2414880" cy="2597400"/>
          </a:xfrm>
          <a:custGeom>
            <a:avLst/>
            <a:gdLst/>
            <a:ahLst/>
            <a:rect l="l" t="t" r="r" b="b"/>
            <a:pathLst>
              <a:path w="1521" h="1636">
                <a:moveTo>
                  <a:pt x="0" y="0"/>
                </a:moveTo>
                <a:cubicBezTo>
                  <a:pt x="14" y="53"/>
                  <a:pt x="14" y="97"/>
                  <a:pt x="86" y="317"/>
                </a:cubicBezTo>
                <a:cubicBezTo>
                  <a:pt x="158" y="537"/>
                  <a:pt x="323" y="1103"/>
                  <a:pt x="433" y="1322"/>
                </a:cubicBezTo>
                <a:cubicBezTo>
                  <a:pt x="543" y="1541"/>
                  <a:pt x="643" y="1636"/>
                  <a:pt x="748" y="1633"/>
                </a:cubicBezTo>
                <a:cubicBezTo>
                  <a:pt x="853" y="1630"/>
                  <a:pt x="969" y="1476"/>
                  <a:pt x="1064" y="1304"/>
                </a:cubicBezTo>
                <a:cubicBezTo>
                  <a:pt x="1159" y="1132"/>
                  <a:pt x="1262" y="760"/>
                  <a:pt x="1320" y="600"/>
                </a:cubicBezTo>
                <a:cubicBezTo>
                  <a:pt x="1378" y="440"/>
                  <a:pt x="1378" y="440"/>
                  <a:pt x="1411" y="344"/>
                </a:cubicBezTo>
                <a:cubicBezTo>
                  <a:pt x="1444" y="248"/>
                  <a:pt x="1498" y="91"/>
                  <a:pt x="1521" y="2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84720" y="2276640"/>
                <a:ext cx="11098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708360" y="306864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472428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494172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450864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299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7340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5300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87700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950080"/>
            <a:ext cx="1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5445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276640"/>
            <a:ext cx="21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4724280"/>
            <a:ext cx="2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165-B979-4D03-A27A-12EAB7050EF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6 L -4.44444E-006 -0.15745 E">
                                      <p:cBhvr>
                                        <p:cTn id="6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532 L 0.00018 -0.14174 E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2948E-006 L -2.5E-006 -0.14682 E">
                                      <p:cBhvr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50289E-006 L -8.33333E-007 -0.14682 E">
                                      <p:cBhvr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48555E-006 L -1.66667E-006 -0.14682 E">
                                      <p:cBhvr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341E-006 L -2.5E-006 -0.14682 E">
                                      <p:cBhvr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99440" cy="50929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115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195640" y="333360"/>
            <a:ext cx="1295280" cy="503280"/>
            <a:chOff x="2195640" y="333360"/>
            <a:chExt cx="1295280" cy="503280"/>
          </a:xfrm>
        </p:grpSpPr>
        <p:sp>
          <p:nvSpPr>
            <p:cNvPr id="120" name=""/>
            <p:cNvSpPr/>
            <p:nvPr/>
          </p:nvSpPr>
          <p:spPr>
            <a:xfrm>
              <a:off x="2195640" y="333360"/>
              <a:ext cx="1295280" cy="50328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44600" y="404640"/>
                  <a:ext cx="1207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124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67280" y="333360"/>
            <a:ext cx="1224000" cy="576000"/>
            <a:chOff x="5867280" y="333360"/>
            <a:chExt cx="1224000" cy="576000"/>
          </a:xfrm>
        </p:grpSpPr>
        <p:sp>
          <p:nvSpPr>
            <p:cNvPr id="128" name=""/>
            <p:cNvSpPr/>
            <p:nvPr/>
          </p:nvSpPr>
          <p:spPr>
            <a:xfrm>
              <a:off x="5867280" y="333360"/>
              <a:ext cx="1224000" cy="5760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906880" y="404640"/>
                  <a:ext cx="11430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4716360" y="321300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58136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701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D95-BE73-49E1-85C9-8990E0DA547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 -0.10497 E">
                                      <p:cBhvr>
                                        <p:cTn id="19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 0.10474 E">
                                      <p:cBhvr>
                                        <p:cTn id="22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8413"/>
                                      </p:to>
                                    </p:animClr>
                                    <p:set>
                                      <p:cBhvr>
                                        <p:cTn id="23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62428E-006 L -0.07466 0.54544 E">
                                      <p:cBhvr>
                                        <p:cTn id="23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99440" cy="50929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134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640" y="333360"/>
            <a:ext cx="1295280" cy="503280"/>
            <a:chOff x="1979640" y="333360"/>
            <a:chExt cx="1295280" cy="503280"/>
          </a:xfrm>
        </p:grpSpPr>
        <p:sp>
          <p:nvSpPr>
            <p:cNvPr id="139" name=""/>
            <p:cNvSpPr/>
            <p:nvPr/>
          </p:nvSpPr>
          <p:spPr>
            <a:xfrm>
              <a:off x="1979640" y="333360"/>
              <a:ext cx="1295280" cy="50328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039760" y="404640"/>
                  <a:ext cx="11854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51640" y="260280"/>
            <a:ext cx="1224000" cy="576000"/>
            <a:chOff x="5651640" y="260280"/>
            <a:chExt cx="1224000" cy="576000"/>
          </a:xfrm>
        </p:grpSpPr>
        <p:sp>
          <p:nvSpPr>
            <p:cNvPr id="144" name=""/>
            <p:cNvSpPr/>
            <p:nvPr/>
          </p:nvSpPr>
          <p:spPr>
            <a:xfrm>
              <a:off x="5651640" y="260280"/>
              <a:ext cx="1224000" cy="576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02400" y="331560"/>
                  <a:ext cx="1120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147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4284720" y="285264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573408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C51-C0EC-47E5-8C12-66860D41E73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 -0.15745 E">
                                      <p:cBhvr>
                                        <p:cTn id="26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03159 0.0682 E">
                                      <p:cBhvr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82659E-007 L -2.5E-006 0.2622 E">
                                      <p:cBhvr>
                                        <p:cTn id="2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9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04208 L -0.03525 0.63977 E">
                                      <p:cBhvr>
                                        <p:cTn id="30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96048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549360"/>
            <a:ext cx="80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46440" y="960480"/>
            <a:ext cx="80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47800" y="960480"/>
            <a:ext cx="8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47800" y="595440"/>
            <a:ext cx="8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7800" y="260280"/>
            <a:ext cx="80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51320" y="960480"/>
            <a:ext cx="80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51320" y="595440"/>
            <a:ext cx="80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1320" y="260280"/>
            <a:ext cx="80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4480" y="96048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54480" y="59544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54480" y="260280"/>
            <a:ext cx="801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56200" y="960480"/>
            <a:ext cx="80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56200" y="260280"/>
            <a:ext cx="80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6200" y="595440"/>
            <a:ext cx="80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59360" y="960480"/>
            <a:ext cx="8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59360" y="595440"/>
            <a:ext cx="8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9360" y="260280"/>
            <a:ext cx="80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62880" y="260280"/>
            <a:ext cx="801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6460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62880" y="59544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62880" y="96048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63640" y="1557360"/>
          <a:ext cx="6096240" cy="50115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 flipV="1">
            <a:off x="4788000" y="1628640"/>
            <a:ext cx="0" cy="489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5661000"/>
            <a:ext cx="612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80536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573408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162864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558972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52293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80536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508464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98100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62064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26028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90792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907920"/>
            <a:ext cx="71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90792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98100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981000"/>
            <a:ext cx="71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98100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907920"/>
            <a:ext cx="1224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62064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549360"/>
            <a:ext cx="717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62064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2064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620640"/>
            <a:ext cx="71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62064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549360"/>
            <a:ext cx="836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26028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260280"/>
            <a:ext cx="71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6028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6028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260280"/>
            <a:ext cx="71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260280"/>
            <a:ext cx="7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60280"/>
            <a:ext cx="83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26028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38480" y="1338120"/>
            <a:ext cx="71748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55960" y="1338120"/>
            <a:ext cx="35877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3640" y="1557360"/>
            <a:ext cx="14436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3789360"/>
            <a:ext cx="14436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5157720"/>
            <a:ext cx="14436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589720"/>
            <a:ext cx="144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5157720"/>
            <a:ext cx="14436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789360"/>
            <a:ext cx="144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1557360"/>
            <a:ext cx="144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981000"/>
            <a:ext cx="64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620640"/>
            <a:ext cx="64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260280"/>
            <a:ext cx="64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557360"/>
            <a:ext cx="3024000" cy="4114800"/>
          </a:xfrm>
          <a:custGeom>
            <a:avLst/>
            <a:gdLst/>
            <a:ahLst/>
            <a:rect l="l" t="t" r="r" b="b"/>
            <a:pathLst>
              <a:path w="1905" h="2592">
                <a:moveTo>
                  <a:pt x="0" y="0"/>
                </a:moveTo>
                <a:cubicBezTo>
                  <a:pt x="105" y="536"/>
                  <a:pt x="211" y="1073"/>
                  <a:pt x="317" y="1451"/>
                </a:cubicBezTo>
                <a:cubicBezTo>
                  <a:pt x="423" y="1829"/>
                  <a:pt x="529" y="2079"/>
                  <a:pt x="635" y="2268"/>
                </a:cubicBezTo>
                <a:cubicBezTo>
                  <a:pt x="741" y="2457"/>
                  <a:pt x="846" y="2578"/>
                  <a:pt x="952" y="2585"/>
                </a:cubicBezTo>
                <a:cubicBezTo>
                  <a:pt x="1058" y="2592"/>
                  <a:pt x="1164" y="2502"/>
                  <a:pt x="1270" y="2313"/>
                </a:cubicBezTo>
                <a:cubicBezTo>
                  <a:pt x="1376" y="2124"/>
                  <a:pt x="1481" y="1836"/>
                  <a:pt x="1587" y="1451"/>
                </a:cubicBezTo>
                <a:cubicBezTo>
                  <a:pt x="1693" y="1066"/>
                  <a:pt x="1852" y="242"/>
                  <a:pt x="1905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27640" y="3357720"/>
                <a:ext cx="871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700360" y="155736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378936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157720"/>
            <a:ext cx="144360" cy="7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8972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5157720"/>
            <a:ext cx="144720" cy="7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378936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4360" y="1557360"/>
            <a:ext cx="14472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55736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3789360"/>
            <a:ext cx="14436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5157720"/>
            <a:ext cx="144360" cy="7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5589720"/>
            <a:ext cx="14472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5157720"/>
            <a:ext cx="144360" cy="7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789360"/>
            <a:ext cx="14472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1557360"/>
            <a:ext cx="3022560" cy="4111560"/>
          </a:xfrm>
          <a:custGeom>
            <a:avLst/>
            <a:gdLst/>
            <a:ahLst/>
            <a:rect l="l" t="t" r="r" b="b"/>
            <a:pathLst>
              <a:path w="1904" h="2590">
                <a:moveTo>
                  <a:pt x="0" y="0"/>
                </a:moveTo>
                <a:cubicBezTo>
                  <a:pt x="106" y="510"/>
                  <a:pt x="212" y="1021"/>
                  <a:pt x="318" y="1406"/>
                </a:cubicBezTo>
                <a:cubicBezTo>
                  <a:pt x="424" y="1791"/>
                  <a:pt x="529" y="2117"/>
                  <a:pt x="635" y="2313"/>
                </a:cubicBezTo>
                <a:cubicBezTo>
                  <a:pt x="741" y="2509"/>
                  <a:pt x="842" y="2590"/>
                  <a:pt x="953" y="2585"/>
                </a:cubicBezTo>
                <a:cubicBezTo>
                  <a:pt x="1064" y="2580"/>
                  <a:pt x="1195" y="2472"/>
                  <a:pt x="1301" y="2283"/>
                </a:cubicBezTo>
                <a:cubicBezTo>
                  <a:pt x="1407" y="2094"/>
                  <a:pt x="1488" y="1831"/>
                  <a:pt x="1588" y="1451"/>
                </a:cubicBezTo>
                <a:cubicBezTo>
                  <a:pt x="1688" y="1071"/>
                  <a:pt x="1838" y="307"/>
                  <a:pt x="1904" y="6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67280" y="1773360"/>
                <a:ext cx="1513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227640" y="1557360"/>
            <a:ext cx="144720" cy="71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260280"/>
            <a:ext cx="7224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595440"/>
            <a:ext cx="72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907920"/>
            <a:ext cx="72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341360"/>
            <a:ext cx="7224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260280"/>
            <a:ext cx="0" cy="1065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728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5448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5620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62880" y="26028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7760" y="260280"/>
            <a:ext cx="0" cy="1065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26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5805360"/>
            <a:ext cx="28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403280" y="260280"/>
                <a:ext cx="324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332000" y="549360"/>
                <a:ext cx="647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16000" y="922320"/>
                <a:ext cx="934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3C2-CCBD-415F-AD15-A1EC41A8D11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500"/>
                            </p:stCondLst>
                            <p:childTnLst>
                              <p:par>
                                <p:cTn id="407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0552 2.08092E-006 E">
                                      <p:cBhvr>
                                        <p:cTn id="42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0552 2.08092E-006 E">
                                      <p:cBhvr>
                                        <p:cTn id="43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0552 2.08092E-006 E">
                                      <p:cBhvr>
                                        <p:cTn id="4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0552 2.08092E-006 E">
                                      <p:cBhvr>
                                        <p:cTn id="43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0552 2.08092E-006 E">
                                      <p:cBhvr>
                                        <p:cTn id="44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08092E-006 L -0.05503 2.08092E-006 E">
                                      <p:cBhvr>
                                        <p:cTn id="44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08092E-006 L -0.05503 2.08092E-006 E">
                                      <p:cBhvr>
                                        <p:cTn id="45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5503 4.10405E-006 E">
                                      <p:cBhvr>
                                        <p:cTn id="45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99440" cy="50929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256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79640" y="189000"/>
            <a:ext cx="1547280" cy="503280"/>
            <a:chOff x="1979640" y="189000"/>
            <a:chExt cx="1547280" cy="503280"/>
          </a:xfrm>
        </p:grpSpPr>
        <p:sp>
          <p:nvSpPr>
            <p:cNvPr id="261" name=""/>
            <p:cNvSpPr/>
            <p:nvPr/>
          </p:nvSpPr>
          <p:spPr>
            <a:xfrm>
              <a:off x="2012760" y="189000"/>
              <a:ext cx="1514160" cy="50328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979640" y="260280"/>
                  <a:ext cx="15141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265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435640" y="189000"/>
            <a:ext cx="1490760" cy="431640"/>
            <a:chOff x="5435640" y="189000"/>
            <a:chExt cx="1490760" cy="431640"/>
          </a:xfrm>
        </p:grpSpPr>
        <p:sp>
          <p:nvSpPr>
            <p:cNvPr id="269" name=""/>
            <p:cNvSpPr/>
            <p:nvPr/>
          </p:nvSpPr>
          <p:spPr>
            <a:xfrm>
              <a:off x="5462640" y="189000"/>
              <a:ext cx="1438560" cy="431640"/>
            </a:xfrm>
            <a:prstGeom prst="rect">
              <a:avLst/>
            </a:prstGeom>
            <a:noFill/>
            <a:ln w="28440">
              <a:solidFill>
                <a:srgbClr val="f07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5435640" y="193680"/>
                  <a:ext cx="1490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3708360" y="414972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414972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701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47C-87AB-4E7F-BB3C-3308B37D0CE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-0.07882 -9.82659E-007 E">
                                      <p:cBhvr>
                                        <p:cTn id="48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91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5723E-006 L -0.10816 0.14173 E">
                                      <p:cBhvr>
                                        <p:cTn id="49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.07882 -9.82659E-007 E">
                                      <p:cBhvr>
                                        <p:cTn id="52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07010"/>
                                      </p:to>
                                    </p:animClr>
                                    <p:set>
                                      <p:cBhvr>
                                        <p:cTn id="527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2428E-007 L 0.12344 0.15722 E">
                                      <p:cBhvr>
                                        <p:cTn id="530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99440" cy="509292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275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7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627280" y="189000"/>
            <a:ext cx="1548000" cy="503280"/>
            <a:chOff x="2627280" y="189000"/>
            <a:chExt cx="1548000" cy="503280"/>
          </a:xfrm>
        </p:grpSpPr>
        <p:sp>
          <p:nvSpPr>
            <p:cNvPr id="280" name=""/>
            <p:cNvSpPr/>
            <p:nvPr/>
          </p:nvSpPr>
          <p:spPr>
            <a:xfrm>
              <a:off x="2660760" y="189000"/>
              <a:ext cx="1514520" cy="50328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627280" y="260280"/>
                  <a:ext cx="15145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580000" y="2708280"/>
            <a:ext cx="1009800" cy="431640"/>
            <a:chOff x="5580000" y="2708280"/>
            <a:chExt cx="1009800" cy="431640"/>
          </a:xfrm>
        </p:grpSpPr>
        <p:sp>
          <p:nvSpPr>
            <p:cNvPr id="284" name=""/>
            <p:cNvSpPr/>
            <p:nvPr/>
          </p:nvSpPr>
          <p:spPr>
            <a:xfrm>
              <a:off x="5580000" y="2708280"/>
              <a:ext cx="1009800" cy="43164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5724720" y="2708280"/>
                  <a:ext cx="7920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71"/>
                  <a:pt x="1089" y="907"/>
                </a:cubicBezTo>
                <a:cubicBezTo>
                  <a:pt x="1157" y="643"/>
                  <a:pt x="1240" y="151"/>
                  <a:pt x="127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427640" y="189000"/>
            <a:ext cx="1655280" cy="504360"/>
            <a:chOff x="4427640" y="189000"/>
            <a:chExt cx="1655280" cy="504360"/>
          </a:xfrm>
        </p:grpSpPr>
        <p:sp>
          <p:nvSpPr>
            <p:cNvPr id="288" name=""/>
            <p:cNvSpPr/>
            <p:nvPr/>
          </p:nvSpPr>
          <p:spPr>
            <a:xfrm>
              <a:off x="4457520" y="189000"/>
              <a:ext cx="1597320" cy="5043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427640" y="194400"/>
                  <a:ext cx="1655280" cy="45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"/>
          <p:cNvSpPr/>
          <p:nvPr/>
        </p:nvSpPr>
        <p:spPr>
          <a:xfrm>
            <a:off x="3059280" y="414972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27640" y="4076640"/>
            <a:ext cx="2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701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EFC-5101-4D8F-8CC4-D99A8F55D9E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185E-006 L -0.15747 -1.6185E-006 E">
                                      <p:cBhvr>
                                        <p:cTn id="57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7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78 -0.00509 C -0.16146 0.14751 -0.19098 0.30057 -0.20261 0.36185 E">
                                      <p:cBhvr>
                                        <p:cTn id="575" dur="3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indefinite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185E-006 L 0.19688 -1.6185E-006 E">
                                      <p:cBhvr>
                                        <p:cTn id="601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07010"/>
                                      </p:to>
                                    </p:animClr>
                                    <p:set>
                                      <p:cBhvr>
                                        <p:cTn id="60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00508 C 0.17396 0.20138 0.24948 0.39815 0.27969 0.47699 E">
                                      <p:cBhvr>
                                        <p:cTn id="607" dur="3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99440" cy="5092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80000" y="2565360"/>
            <a:ext cx="1009800" cy="432000"/>
            <a:chOff x="5580000" y="2565360"/>
            <a:chExt cx="1009800" cy="432000"/>
          </a:xfrm>
        </p:grpSpPr>
        <p:sp>
          <p:nvSpPr>
            <p:cNvPr id="295" name=""/>
            <p:cNvSpPr/>
            <p:nvPr/>
          </p:nvSpPr>
          <p:spPr>
            <a:xfrm>
              <a:off x="5580000" y="2565360"/>
              <a:ext cx="1009800" cy="43200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724720" y="2565360"/>
                  <a:ext cx="79200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7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55640" y="476280"/>
                <a:ext cx="1728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580000" y="2565360"/>
            <a:ext cx="1009800" cy="432000"/>
            <a:chOff x="5580000" y="2565360"/>
            <a:chExt cx="1009800" cy="432000"/>
          </a:xfrm>
        </p:grpSpPr>
        <p:sp>
          <p:nvSpPr>
            <p:cNvPr id="301" name=""/>
            <p:cNvSpPr/>
            <p:nvPr/>
          </p:nvSpPr>
          <p:spPr>
            <a:xfrm>
              <a:off x="5580000" y="2565360"/>
              <a:ext cx="1009800" cy="43200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5724720" y="2565360"/>
                  <a:ext cx="79200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3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f070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348000" y="476280"/>
                <a:ext cx="1871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580000" y="2565360"/>
            <a:ext cx="1009800" cy="432000"/>
            <a:chOff x="5580000" y="2565360"/>
            <a:chExt cx="1009800" cy="432000"/>
          </a:xfrm>
        </p:grpSpPr>
        <p:sp>
          <p:nvSpPr>
            <p:cNvPr id="307" name=""/>
            <p:cNvSpPr/>
            <p:nvPr/>
          </p:nvSpPr>
          <p:spPr>
            <a:xfrm>
              <a:off x="5580000" y="2565360"/>
              <a:ext cx="1009800" cy="43200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5724720" y="2565360"/>
                  <a:ext cx="79200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"/>
          <p:cNvSpPr/>
          <p:nvPr/>
        </p:nvSpPr>
        <p:spPr>
          <a:xfrm>
            <a:off x="3564000" y="1125360"/>
            <a:ext cx="2016000" cy="2880000"/>
          </a:xfrm>
          <a:custGeom>
            <a:avLst/>
            <a:gdLst/>
            <a:ahLst/>
            <a:rect l="l" t="t" r="r" b="b"/>
            <a:pathLst>
              <a:path w="1270" h="1814">
                <a:moveTo>
                  <a:pt x="0" y="0"/>
                </a:moveTo>
                <a:cubicBezTo>
                  <a:pt x="56" y="321"/>
                  <a:pt x="113" y="643"/>
                  <a:pt x="181" y="907"/>
                </a:cubicBezTo>
                <a:cubicBezTo>
                  <a:pt x="249" y="1171"/>
                  <a:pt x="332" y="1436"/>
                  <a:pt x="408" y="1587"/>
                </a:cubicBezTo>
                <a:cubicBezTo>
                  <a:pt x="484" y="1738"/>
                  <a:pt x="559" y="1814"/>
                  <a:pt x="635" y="1814"/>
                </a:cubicBezTo>
                <a:cubicBezTo>
                  <a:pt x="711" y="1814"/>
                  <a:pt x="786" y="1738"/>
                  <a:pt x="862" y="1587"/>
                </a:cubicBezTo>
                <a:cubicBezTo>
                  <a:pt x="938" y="1436"/>
                  <a:pt x="1021" y="1164"/>
                  <a:pt x="1089" y="907"/>
                </a:cubicBezTo>
                <a:cubicBezTo>
                  <a:pt x="1157" y="650"/>
                  <a:pt x="1240" y="188"/>
                  <a:pt x="1270" y="4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300720" y="476280"/>
                <a:ext cx="1800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3419640" y="4149720"/>
            <a:ext cx="1008000" cy="792000"/>
            <a:chOff x="3419640" y="4149720"/>
            <a:chExt cx="1008000" cy="792000"/>
          </a:xfrm>
        </p:grpSpPr>
        <p:sp>
          <p:nvSpPr>
            <p:cNvPr id="312" name=""/>
            <p:cNvSpPr/>
            <p:nvPr/>
          </p:nvSpPr>
          <p:spPr>
            <a:xfrm>
              <a:off x="3419640" y="4149720"/>
              <a:ext cx="215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11640" y="4653000"/>
              <a:ext cx="216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284720" y="3213000"/>
            <a:ext cx="1871640" cy="1224000"/>
            <a:chOff x="4284720" y="3213000"/>
            <a:chExt cx="1871640" cy="1224000"/>
          </a:xfrm>
        </p:grpSpPr>
        <p:sp>
          <p:nvSpPr>
            <p:cNvPr id="315" name=""/>
            <p:cNvSpPr/>
            <p:nvPr/>
          </p:nvSpPr>
          <p:spPr>
            <a:xfrm>
              <a:off x="5940360" y="4076640"/>
              <a:ext cx="216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701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84720" y="3213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701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211640" y="4076640"/>
            <a:ext cx="2665440" cy="1152720"/>
            <a:chOff x="4211640" y="4076640"/>
            <a:chExt cx="2665440" cy="1152720"/>
          </a:xfrm>
        </p:grpSpPr>
        <p:sp>
          <p:nvSpPr>
            <p:cNvPr id="318" name=""/>
            <p:cNvSpPr/>
            <p:nvPr/>
          </p:nvSpPr>
          <p:spPr>
            <a:xfrm>
              <a:off x="6588000" y="4076640"/>
              <a:ext cx="289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1640" y="494172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B7E-F612-4998-B8A6-A6E4124455C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-0.11806 -9.82659E-007 E">
                                      <p:cBhvr>
                                        <p:cTn id="64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3.75723E-006 L -0.11806 0.10474 E">
                                      <p:cBhvr>
                                        <p:cTn id="64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indefinite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68208E-006 C 0.00643 0.1755 0.01302 0.35168 0.0158 0.42243 E">
                                      <p:cBhvr>
                                        <p:cTn id="65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.15747 -9.82659E-007 E">
                                      <p:cBhvr>
                                        <p:cTn id="67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-1.6185E-006 L 0.15747 -0.10497 E">
                                      <p:cBhvr>
                                        <p:cTn id="67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14451E-006 L -0.0394 5.14451E-006 E">
                                      <p:cBhvr>
                                        <p:cTn id="679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185E-006 L 0.2441 -1.6185E-006 E">
                                      <p:cBhvr>
                                        <p:cTn id="70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1 -1.6185E-006 L 0.2441 0.15723 E">
                                      <p:cBhvr>
                                        <p:cTn id="710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7000"/>
                            </p:stCondLst>
                            <p:childTnLst>
                              <p:par>
                                <p:cTn id="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51445E-007 L 0.06684 0.68347 E">
                                      <p:cBhvr>
                                        <p:cTn id="718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fefe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28560" y="1146240"/>
            <a:ext cx="8263080" cy="5040360"/>
            <a:chOff x="628560" y="1146240"/>
            <a:chExt cx="8263080" cy="5040360"/>
          </a:xfrm>
        </p:grpSpPr>
        <p:sp>
          <p:nvSpPr>
            <p:cNvPr id="321" name=""/>
            <p:cNvSpPr/>
            <p:nvPr/>
          </p:nvSpPr>
          <p:spPr>
            <a:xfrm>
              <a:off x="4529160" y="4091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8560" y="11462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8560" y="61833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856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88984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8560" y="150480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3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922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5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114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7184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9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2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11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7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5920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9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5292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356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3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120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70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9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84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69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8560" y="18651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8560" y="22240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560" y="258300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8560" y="29415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8560" y="3300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8560" y="3659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8560" y="40244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8560" y="4389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" y="4748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8560" y="51069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8560" y="54658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8560" y="58244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10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7058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29160" y="4091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8560" y="11462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8560" y="61833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56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88984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560" y="150480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3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922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5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114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7184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3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52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11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7184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59200" y="1146240"/>
              <a:ext cx="1800" cy="50371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925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5292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560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722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3256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120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294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8840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696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8560" y="18651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560" y="22240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8560" y="258300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8560" y="294156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8560" y="3300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8560" y="3659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8560" y="402444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8560" y="43894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560" y="47480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8560" y="510696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560" y="5465880"/>
              <a:ext cx="826128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560" y="5824440"/>
              <a:ext cx="826128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1080" y="1146240"/>
              <a:ext cx="180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05880" y="1146240"/>
              <a:ext cx="1440" cy="50371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78880" y="41385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28560" y="1146240"/>
              <a:ext cx="8207640" cy="5040360"/>
              <a:chOff x="628560" y="1146240"/>
              <a:chExt cx="8207640" cy="504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28560" y="3968640"/>
                <a:ext cx="8207640" cy="114480"/>
              </a:xfrm>
              <a:custGeom>
                <a:avLst/>
                <a:gdLst/>
                <a:ahLst/>
                <a:rect l="l" t="t" r="r" b="b"/>
                <a:pathLst>
                  <a:path w="5170" h="72">
                    <a:moveTo>
                      <a:pt x="0" y="24"/>
                    </a:moveTo>
                    <a:lnTo>
                      <a:pt x="5110" y="24"/>
                    </a:lnTo>
                    <a:lnTo>
                      <a:pt x="5110" y="48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  <a:moveTo>
                      <a:pt x="5098" y="0"/>
                    </a:moveTo>
                    <a:lnTo>
                      <a:pt x="5170" y="36"/>
                    </a:lnTo>
                    <a:lnTo>
                      <a:pt x="5098" y="72"/>
                    </a:lnTo>
                    <a:lnTo>
                      <a:pt x="50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131840" y="1146240"/>
                <a:ext cx="7202520" cy="5040360"/>
                <a:chOff x="1131840" y="1146240"/>
                <a:chExt cx="7202520" cy="50403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675320" y="1146240"/>
                  <a:ext cx="114120" cy="5040360"/>
                </a:xfrm>
                <a:custGeom>
                  <a:avLst/>
                  <a:gdLst/>
                  <a:ahLst/>
                  <a:rect l="l" t="t" r="r" b="b"/>
                  <a:pathLst>
                    <a:path w="72" h="3175">
                      <a:moveTo>
                        <a:pt x="24" y="3175"/>
                      </a:moveTo>
                      <a:lnTo>
                        <a:pt x="24" y="60"/>
                      </a:lnTo>
                      <a:lnTo>
                        <a:pt x="48" y="60"/>
                      </a:lnTo>
                      <a:lnTo>
                        <a:pt x="48" y="3175"/>
                      </a:lnTo>
                      <a:lnTo>
                        <a:pt x="24" y="3175"/>
                      </a:lnTo>
                      <a:close/>
                      <a:moveTo>
                        <a:pt x="0" y="72"/>
                      </a:moveTo>
                      <a:lnTo>
                        <a:pt x="36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09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45328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81184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17220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3256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89292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5328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61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7256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33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37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01148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5292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9256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3220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57184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211480" y="3954600"/>
                  <a:ext cx="144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5256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49220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131840" y="3954600"/>
                  <a:ext cx="1800" cy="14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660920" y="366552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660920" y="330516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660920" y="294624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60920" y="258588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60920" y="222552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60920" y="186516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60920" y="1504800"/>
                  <a:ext cx="142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660920" y="438624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660920" y="474660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660920" y="510552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60920" y="546588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660920" y="5826240"/>
                  <a:ext cx="14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8678880" y="413856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968640"/>
              <a:ext cx="8207640" cy="114480"/>
            </a:xfrm>
            <a:custGeom>
              <a:avLst/>
              <a:gdLst/>
              <a:ahLst/>
              <a:rect l="l" t="t" r="r" b="b"/>
              <a:pathLst>
                <a:path w="5170" h="72">
                  <a:moveTo>
                    <a:pt x="0" y="24"/>
                  </a:moveTo>
                  <a:lnTo>
                    <a:pt x="5110" y="24"/>
                  </a:lnTo>
                  <a:lnTo>
                    <a:pt x="5110" y="48"/>
                  </a:lnTo>
                  <a:lnTo>
                    <a:pt x="0" y="48"/>
                  </a:lnTo>
                  <a:lnTo>
                    <a:pt x="0" y="24"/>
                  </a:lnTo>
                  <a:close/>
                  <a:moveTo>
                    <a:pt x="5098" y="0"/>
                  </a:moveTo>
                  <a:lnTo>
                    <a:pt x="5170" y="36"/>
                  </a:lnTo>
                  <a:lnTo>
                    <a:pt x="5098" y="72"/>
                  </a:lnTo>
                  <a:lnTo>
                    <a:pt x="509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131840" y="1146240"/>
              <a:ext cx="7202520" cy="5040360"/>
              <a:chOff x="1131840" y="1146240"/>
              <a:chExt cx="7202520" cy="5040360"/>
            </a:xfrm>
          </p:grpSpPr>
          <p:sp>
            <p:nvSpPr>
              <p:cNvPr id="443" name=""/>
              <p:cNvSpPr/>
              <p:nvPr/>
            </p:nvSpPr>
            <p:spPr>
              <a:xfrm>
                <a:off x="4675320" y="1146240"/>
                <a:ext cx="114120" cy="5040360"/>
              </a:xfrm>
              <a:custGeom>
                <a:avLst/>
                <a:gdLst/>
                <a:ahLst/>
                <a:rect l="l" t="t" r="r" b="b"/>
                <a:pathLst>
                  <a:path w="72" h="3175">
                    <a:moveTo>
                      <a:pt x="24" y="3175"/>
                    </a:moveTo>
                    <a:lnTo>
                      <a:pt x="24" y="60"/>
                    </a:lnTo>
                    <a:lnTo>
                      <a:pt x="48" y="60"/>
                    </a:lnTo>
                    <a:lnTo>
                      <a:pt x="48" y="3175"/>
                    </a:lnTo>
                    <a:lnTo>
                      <a:pt x="24" y="3175"/>
                    </a:lnTo>
                    <a:close/>
                    <a:moveTo>
                      <a:pt x="0" y="72"/>
                    </a:moveTo>
                    <a:lnTo>
                      <a:pt x="36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9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5328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184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53256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9292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5328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1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97256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33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7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1148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5292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256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3220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7184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11480" y="3954600"/>
                <a:ext cx="14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85256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9220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31840" y="3954600"/>
                <a:ext cx="180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60920" y="366552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60920" y="330516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60920" y="294624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60920" y="258588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60920" y="222552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60920" y="186516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60920" y="150480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660920" y="438624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60920" y="474660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660920" y="510552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660920" y="546588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60920" y="5826240"/>
                <a:ext cx="14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28560" y="3968640"/>
              <a:ext cx="8207640" cy="114480"/>
            </a:xfrm>
            <a:custGeom>
              <a:avLst/>
              <a:gdLst/>
              <a:ahLst/>
              <a:rect l="l" t="t" r="r" b="b"/>
              <a:pathLst>
                <a:path w="5170" h="72">
                  <a:moveTo>
                    <a:pt x="0" y="24"/>
                  </a:moveTo>
                  <a:lnTo>
                    <a:pt x="5110" y="24"/>
                  </a:lnTo>
                  <a:lnTo>
                    <a:pt x="5110" y="48"/>
                  </a:lnTo>
                  <a:lnTo>
                    <a:pt x="0" y="48"/>
                  </a:lnTo>
                  <a:lnTo>
                    <a:pt x="0" y="24"/>
                  </a:lnTo>
                  <a:close/>
                  <a:moveTo>
                    <a:pt x="5098" y="0"/>
                  </a:moveTo>
                  <a:lnTo>
                    <a:pt x="5170" y="36"/>
                  </a:lnTo>
                  <a:lnTo>
                    <a:pt x="5098" y="72"/>
                  </a:lnTo>
                  <a:lnTo>
                    <a:pt x="509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75320" y="1146240"/>
              <a:ext cx="114120" cy="5040360"/>
            </a:xfrm>
            <a:custGeom>
              <a:avLst/>
              <a:gdLst/>
              <a:ahLst/>
              <a:rect l="l" t="t" r="r" b="b"/>
              <a:pathLst>
                <a:path w="72" h="3175">
                  <a:moveTo>
                    <a:pt x="24" y="3175"/>
                  </a:moveTo>
                  <a:lnTo>
                    <a:pt x="24" y="60"/>
                  </a:lnTo>
                  <a:lnTo>
                    <a:pt x="48" y="60"/>
                  </a:lnTo>
                  <a:lnTo>
                    <a:pt x="48" y="3175"/>
                  </a:lnTo>
                  <a:lnTo>
                    <a:pt x="24" y="3175"/>
                  </a:lnTo>
                  <a:close/>
                  <a:moveTo>
                    <a:pt x="0" y="72"/>
                  </a:moveTo>
                  <a:lnTo>
                    <a:pt x="36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9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5292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1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3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9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532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3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1148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5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3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7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114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5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9220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3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60920" y="366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60920" y="330516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60920" y="29462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60920" y="258588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0920" y="222552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60920" y="186516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60920" y="150480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60920" y="438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0920" y="474660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60920" y="510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60920" y="546588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60920" y="582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75320" y="1146240"/>
              <a:ext cx="114120" cy="5040360"/>
            </a:xfrm>
            <a:custGeom>
              <a:avLst/>
              <a:gdLst/>
              <a:ahLst/>
              <a:rect l="l" t="t" r="r" b="b"/>
              <a:pathLst>
                <a:path w="72" h="3175">
                  <a:moveTo>
                    <a:pt x="24" y="3175"/>
                  </a:moveTo>
                  <a:lnTo>
                    <a:pt x="24" y="60"/>
                  </a:lnTo>
                  <a:lnTo>
                    <a:pt x="48" y="60"/>
                  </a:lnTo>
                  <a:lnTo>
                    <a:pt x="48" y="3175"/>
                  </a:lnTo>
                  <a:lnTo>
                    <a:pt x="24" y="3175"/>
                  </a:lnTo>
                  <a:close/>
                  <a:moveTo>
                    <a:pt x="0" y="72"/>
                  </a:moveTo>
                  <a:lnTo>
                    <a:pt x="36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9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5292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1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3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9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532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7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3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1148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292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9256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220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7184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1480" y="3954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5256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9220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31840" y="3954600"/>
              <a:ext cx="18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60920" y="366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60920" y="330516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60920" y="29462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60920" y="258588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60920" y="222552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60920" y="186516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60920" y="150480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60920" y="438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0920" y="474660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60920" y="510552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60920" y="546588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60920" y="5826240"/>
              <a:ext cx="142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971640" y="292428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132000" y="2708280"/>
                <a:ext cx="1090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547640" y="260280"/>
                <a:ext cx="2160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796000" y="260280"/>
                <a:ext cx="2160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971640" y="292428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604360" y="414972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59280" y="119700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859280" y="2565360"/>
            <a:ext cx="936360" cy="1077840"/>
            <a:chOff x="4859280" y="2565360"/>
            <a:chExt cx="936360" cy="1077840"/>
          </a:xfrm>
        </p:grpSpPr>
        <p:sp>
          <p:nvSpPr>
            <p:cNvPr id="550" name=""/>
            <p:cNvSpPr/>
            <p:nvPr/>
          </p:nvSpPr>
          <p:spPr>
            <a:xfrm>
              <a:off x="4859280" y="2565360"/>
              <a:ext cx="436320" cy="1077840"/>
            </a:xfrm>
            <a:custGeom>
              <a:avLst/>
              <a:gdLst>
                <a:gd name="textAreaLeft" fmla="*/ 0 w 436320"/>
                <a:gd name="textAreaRight" fmla="*/ 157680 w 436320"/>
                <a:gd name="textAreaTop" fmla="*/ 28080 h 1077840"/>
                <a:gd name="textAreaBottom" fmla="*/ 1049760 h 10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5359320" y="2996640"/>
                  <a:ext cx="436320" cy="25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2" name=""/>
          <p:cNvSpPr/>
          <p:nvPr/>
        </p:nvSpPr>
        <p:spPr>
          <a:xfrm>
            <a:off x="971640" y="2924280"/>
            <a:ext cx="6913440" cy="2232000"/>
          </a:xfrm>
          <a:custGeom>
            <a:avLst/>
            <a:gdLst/>
            <a:ahLst/>
            <a:rect l="l" t="t" r="r" b="b"/>
            <a:pathLst>
              <a:path w="4355" h="1406">
                <a:moveTo>
                  <a:pt x="0" y="1406"/>
                </a:moveTo>
                <a:cubicBezTo>
                  <a:pt x="359" y="1368"/>
                  <a:pt x="718" y="1330"/>
                  <a:pt x="907" y="1179"/>
                </a:cubicBezTo>
                <a:cubicBezTo>
                  <a:pt x="1096" y="1028"/>
                  <a:pt x="945" y="650"/>
                  <a:pt x="1134" y="499"/>
                </a:cubicBezTo>
                <a:cubicBezTo>
                  <a:pt x="1323" y="348"/>
                  <a:pt x="1776" y="234"/>
                  <a:pt x="2041" y="272"/>
                </a:cubicBezTo>
                <a:cubicBezTo>
                  <a:pt x="2306" y="310"/>
                  <a:pt x="2457" y="613"/>
                  <a:pt x="2722" y="726"/>
                </a:cubicBezTo>
                <a:cubicBezTo>
                  <a:pt x="2987" y="839"/>
                  <a:pt x="3357" y="1074"/>
                  <a:pt x="3629" y="953"/>
                </a:cubicBezTo>
                <a:cubicBezTo>
                  <a:pt x="3901" y="832"/>
                  <a:pt x="4234" y="159"/>
                  <a:pt x="435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067280" y="3716280"/>
            <a:ext cx="576000" cy="1008000"/>
            <a:chOff x="4067280" y="3716280"/>
            <a:chExt cx="576000" cy="1008000"/>
          </a:xfrm>
        </p:grpSpPr>
        <p:sp>
          <p:nvSpPr>
            <p:cNvPr id="554" name=""/>
            <p:cNvSpPr/>
            <p:nvPr/>
          </p:nvSpPr>
          <p:spPr>
            <a:xfrm>
              <a:off x="4354560" y="3716280"/>
              <a:ext cx="288720" cy="100800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4067280" y="4005000"/>
                  <a:ext cx="287280" cy="2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517-0A07-4655-AFE3-71ABB30EEF1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Мирскова Е.В. гимназмя №1 г.о. Шуя  </a:t>
            </a: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1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0023 L -1.38889E-006 -0.16254 E">
                                      <p:cBhvr>
                                        <p:cTn id="74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75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indefinite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4647 L -0.13386 0.29826 E">
                                      <p:cBhvr>
                                        <p:cTn id="761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0116E-006 L 2.5E-006 0.15723 E">
                                      <p:cBhvr>
                                        <p:cTn id="767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7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27746E-006 L 0.10243 0.77017 E">
                                      <p:cBhvr>
                                        <p:cTn id="779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38:46Z</dcterms:created>
  <dc:creator>Лена</dc:creator>
  <dc:description/>
  <dc:language>en-US</dc:language>
  <cp:lastModifiedBy>Лена</cp:lastModifiedBy>
  <dcterms:modified xsi:type="dcterms:W3CDTF">2008-01-07T21:11:06Z</dcterms:modified>
  <cp:revision>35</cp:revision>
  <dc:subject/>
  <dc:title>Слайд 1</dc:title>
</cp:coreProperties>
</file>