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B5B-7E09-4A42-A691-F16BDDF1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2E1-77D5-49BE-94BC-C6C93AD2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8F3-B979-4458-B28F-739438C9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B76-56A7-44CC-B681-B8DD2034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3C4C-8EB0-42CA-A25F-AB06EEFA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62AE-EE6E-4E5A-A804-16074E97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10FE-0D3F-4707-B3FE-DB13F0D1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A292-E5E0-4E6C-BFC0-9C2519C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195-3CA0-4BA9-9844-A8981961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CFA-4A4C-4B8B-9079-4036BB72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35F6-C277-41E9-8FCE-92963FB3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04A-AD06-480B-B124-615DDB9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C73C-5F06-41B6-A067-7C37CB2B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4101-8C53-40D2-BD3C-DED32EE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F38B-0072-4A6C-9687-FC64C6C4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64D8-5780-4AC8-A901-1CA04158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1391-7384-40E5-8309-5AC92D2D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32E-B246-45C9-81F5-F2DEB49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1F4-3A61-4AAB-B090-49E510FB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F35-AF2D-4FAC-82E3-335A7E6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94D-1FD0-41E0-ABE0-EBF548FE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99A-72A2-4167-BB66-B1B96A7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314-028C-42E3-9A86-DEF07A4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6CC-DBEA-43C0-AADE-F59625F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7407-E985-4A0C-8D42-326E9530FF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CFFD-31CD-44FB-B12B-AEB88AAF0D3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БОУ СШ № 2 г. Вязьмы Смолен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52400" y="1557000"/>
            <a:ext cx="7491240" cy="228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660066"/>
                </a:solidFill>
                <a:uFillTx/>
                <a:latin typeface="comic"/>
              </a:rPr>
              <a:t>Памятник Перновскому полку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99760" y="3957120"/>
            <a:ext cx="7643880" cy="228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аботу выполнил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ченица 4 класса 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Лосева Ксения Викторовн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уководитель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Яковлева Ирина Владимировн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Рядовой  и  обер – офицер  Перновского  полка  1812 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picture"/>
          <p:cNvPicPr/>
          <p:nvPr/>
        </p:nvPicPr>
        <p:blipFill>
          <a:blip r:embed="rId1"/>
          <a:stretch/>
        </p:blipFill>
        <p:spPr>
          <a:xfrm>
            <a:off x="3419640" y="1989000"/>
            <a:ext cx="3240000" cy="4249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3640" y="1413000"/>
            <a:ext cx="38512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еоргиевским полковым знамен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наками на шапки - за сражение при Вязьме 22 октября 1812 г.;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двумя георгиевскими трубам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иставкой «лейб» в названии полка (лейб-гренадерский) – за подвиги в годы первой мировой войн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2" name="Picture 4" descr="picture"/>
          <p:cNvPicPr/>
          <p:nvPr/>
        </p:nvPicPr>
        <p:blipFill>
          <a:blip r:embed="rId1"/>
          <a:stretch/>
        </p:blipFill>
        <p:spPr>
          <a:xfrm>
            <a:off x="1476360" y="1341360"/>
            <a:ext cx="3527280" cy="42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83" name="Прямоугольник 1"/>
          <p:cNvSpPr/>
          <p:nvPr/>
        </p:nvSpPr>
        <p:spPr>
          <a:xfrm>
            <a:off x="1979640" y="189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 доблесть и  храбрость полк был отмечен следующими наградами: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1692360" y="5996160"/>
            <a:ext cx="705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еоргиевской  лентой  к  знаменам  со  знаками  ордена  Св.  Георгия  2  степен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52400" y="620640"/>
            <a:ext cx="7167240" cy="56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22 октября (4 ноября по новому стилю) 1812 года под Вязьмой разыгралось одно из самых крупных и ожесточенных сражений Отечественной войн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Оно  продолжалось  целый  день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 кровопролитной  схватке  сошлись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25 тысяч русских и 37 тысяч француз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ечером сражение переместилось в сам город. Первыми в Вязьму «под барабанный бой и с развернутыми знаменами» вступил Перновский полк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5042"/>
                </a:solidFill>
                <a:latin typeface="comic"/>
              </a:rPr>
              <a:t>Вяземское сражение</a:t>
            </a:r>
            <a:br>
              <a:rPr sz="4000"/>
            </a:br>
            <a:r>
              <a:rPr b="1" lang="ru-RU" sz="4000" spc="-1" strike="noStrike">
                <a:solidFill>
                  <a:srgbClr val="545042"/>
                </a:solidFill>
                <a:latin typeface="comic"/>
              </a:rPr>
              <a:t>22 октября 1812</a:t>
            </a:r>
            <a:r>
              <a:rPr b="1" lang="ru-RU" sz="4000" spc="-1" strike="noStrike">
                <a:solidFill>
                  <a:srgbClr val="545042"/>
                </a:solidFill>
                <a:latin typeface="Times New Roman"/>
              </a:rPr>
              <a:t> 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3" descr="gess0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835280" y="1628640"/>
            <a:ext cx="6697440" cy="4059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979640" y="5805360"/>
            <a:ext cx="701208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Картина художника П. Гесса (Хесса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652400" y="475920"/>
            <a:ext cx="687996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Французы оказывали упорное сопротивлени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а площадях и улицах города, внутри домов разгорелся яростный рукопашный бо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ерновский  полк потерял в этом сражении убитыми и ранеными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159 солдат и офицеров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Французы потеряли убитыми и ранеными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6 тыс. человек, 2,5 тыс. пленным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олее 30 штаб- и обер-офицеров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2 знамени  и  3 оруд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52760" y="259920"/>
            <a:ext cx="7240320" cy="59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В канун 100-летнего юбилея Отечественной войны 1812 г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многие полки русской армии приняли решение увековечить подвиг своих предков и установить в их честь на местах боев памятники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Самое большое их количество было поставлено на Бородинском поле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19280" y="1773000"/>
            <a:ext cx="3670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1-й гренадерской дивизии генерала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.А. Строгано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1565280" y="1523880"/>
            <a:ext cx="35370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8000" y="1628280"/>
            <a:ext cx="3671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амятник Кавалергардам и Конной гварди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324000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3959280" cy="5040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6227640" y="191628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ник Волынскому пехотному полку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лейб-гвардии Литовскому полку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от Московского полк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5370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652760" y="333360"/>
            <a:ext cx="70228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держан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ведение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то такое памятники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з истории Перновского полк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ткрытие памятника Перновскому пол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писание памятник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бщие и особенные черты памятников, посвященных Отечественной войне 1812 год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ывод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спользованная литерату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иложен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484360" y="1976400"/>
            <a:ext cx="2664000" cy="3809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5364000" y="2097360"/>
            <a:ext cx="32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лейб-гвардии Егерскому полку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и матросам Гвардейского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экипаж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652400" y="549360"/>
            <a:ext cx="709596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ерновский полк также сражался при Бородино, но офицеры Перновского полка на своем заседании приняли решение поставить памятник в Вязьме, потому что самый великий подвиг воинами-перновцами  был совершен в сражении именно за наш родной город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Перновскому полк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46640" y="1628280"/>
            <a:ext cx="3718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открыт 22 октября 1912 г.  в Вязьм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а торжествах по случаю открытия в Вязьме присутствовал Перновский полк в полном составе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0" name="Picture 8" descr="15"/>
          <p:cNvPicPr/>
          <p:nvPr/>
        </p:nvPicPr>
        <p:blipFill>
          <a:blip r:embed="rId1"/>
          <a:stretch/>
        </p:blipFill>
        <p:spPr>
          <a:xfrm>
            <a:off x="1692360" y="1700280"/>
            <a:ext cx="3554280" cy="46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52760" y="260280"/>
            <a:ext cx="724032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новцы  на  праздновании  юбилейных  событий  1812  года  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 Вязь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picture"/>
          <p:cNvPicPr/>
          <p:nvPr/>
        </p:nvPicPr>
        <p:blipFill>
          <a:blip r:embed="rId1"/>
          <a:stretch/>
        </p:blipFill>
        <p:spPr>
          <a:xfrm>
            <a:off x="3564000" y="2205000"/>
            <a:ext cx="3294000" cy="4394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58560" y="691920"/>
            <a:ext cx="42498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Размеры памятника небольшие (не более 4,5 м в высоту).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На традиционном 2-х-ярусном постаменте установлено 2 цилиндра, соединенных кубом. На кубе содержится информация об участии Перновского полка в сражении за Вязьму, указано число убитых  при освобождении нашего города.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Завершает скульптурную композицию фигура 2-х-главого орла.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4" name="Picture 8" descr="15"/>
          <p:cNvPicPr/>
          <p:nvPr/>
        </p:nvPicPr>
        <p:blipFill>
          <a:blip r:embed="rId1"/>
          <a:stretch/>
        </p:blipFill>
        <p:spPr>
          <a:xfrm>
            <a:off x="5540400" y="981000"/>
            <a:ext cx="3495600" cy="5256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"/>
          <p:cNvSpPr/>
          <p:nvPr/>
        </p:nvSpPr>
        <p:spPr>
          <a:xfrm>
            <a:off x="2050920" y="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Описание памятника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Памятни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«Доблестным предкам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 в г. Вязь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99760" y="1773360"/>
            <a:ext cx="3559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19280" y="1483920"/>
            <a:ext cx="3670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ник открыт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26 ноября 1913 г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Вязьме на Никитской площад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9" name="Picture 8" descr="1812_orel_max"/>
          <p:cNvPicPr/>
          <p:nvPr/>
        </p:nvPicPr>
        <p:blipFill>
          <a:blip r:embed="rId1"/>
          <a:stretch/>
        </p:blipFill>
        <p:spPr>
          <a:xfrm>
            <a:off x="1619280" y="1773360"/>
            <a:ext cx="344016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6879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накомясь с различными памятниками войны 1812 года, я отметила, что скульпторы применяли 2 типа изображения орлов на монументах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рел с распростертыми, распахнутыми крыльям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(например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 памятниках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1-й гренадерской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дивиз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енерала Строганов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.А., Кавалергардам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и Конной гварди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2" name="Picture 6" descr="E:\проекты\история  перновского  полка\1248172265_3.jpg"/>
          <p:cNvPicPr/>
          <p:nvPr/>
        </p:nvPicPr>
        <p:blipFill>
          <a:blip r:embed="rId1"/>
          <a:stretch/>
        </p:blipFill>
        <p:spPr>
          <a:xfrm>
            <a:off x="5292720" y="2565360"/>
            <a:ext cx="3274920" cy="389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6879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орл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 полу распахнутым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крыльям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(например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амятниках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лейб-гвард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Литовскому полку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т Московского полка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олынскому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ехотном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олк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5" name="Picture 3" descr="E:\проекты\история  перновского  полка\b3930c978d29c8984e16725850d51431.jpg"/>
          <p:cNvPicPr/>
          <p:nvPr/>
        </p:nvPicPr>
        <p:blipFill>
          <a:blip r:embed="rId1"/>
          <a:stretch/>
        </p:blipFill>
        <p:spPr>
          <a:xfrm>
            <a:off x="5383080" y="836640"/>
            <a:ext cx="336564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6879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Можно предположить, что первый вариант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имволизирует собой ярость сражения. Птица, изготовившись к нападению, напоминает русских воинов, вступивших в схватку с враг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торой вариант птицы менее агрессивен, и, как мне кажется,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воими полураскрытыми крылами, как символ России, покрывает и укрывает своих павших воинов. Если первый вариант орла является символом мужества, доблести и отваги, то второй-символом памяти и скорби. Памятник Перновскому полку выполнен во втором варианте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52400" y="115920"/>
            <a:ext cx="7383240" cy="66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Еще хочется отметить, что уникально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обенностью памятников, поставленных в 100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летний юбилей войны 1812 года, является то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то инициатором их создания являлся народ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аселение городов, солдаты и офицеры полков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отомки героев. Средства, на которы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озводились эти монументы, также собирал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конкретные люд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осле революции государство взяло на себ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аво определять -память, каких событий 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людей увековечивать и полность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финансировало работы по создании  памятник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52760" y="333360"/>
            <a:ext cx="70228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ыявить причину возникновения памятника Перновскому полку в нашем город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Задачи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изучить историю создания Памятника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брать и систематизировать информацию о подвиге Перновского  полк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пределить общие и особенные черты памятника Перновскому полку на фоне других монументов, воздвигнутых к 100-летней годовщине Отечественной войн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рассказать  своим сверстникам историю памятника Перновскому полку, который каждый из нас видел, но может не знает, в честь каких событий он поставлен и есть ли в нашей стране похожие монумент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716724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ники - это произведения искусства, созданные для увековечивания памяти об определенных событиях и людях, они являются культурной частью нашего города, наро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озданный более двух столетий назад  Перновский полк прошел славный боевой путь, он участвовал во многих сражениях и войнах, и всегда перновцы являлись и будут являться примером верного служения Родине, и я горжусь тем, что единственный памятник этому полку установлен именно в городе  Вязьме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52400" y="189000"/>
            <a:ext cx="709596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Литератур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1.Бородино: битва гигантов. Государственный Бородинский военно-исторический музей-заповедн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2.Вязьма. Страницы истории. Сборник материалов краеведческих конференций 2001-2004 гг. Смоленск, 2005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3. Комаров Д.Е. Вязьма и уезд в 19 веке. Смоленск, 2000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4. Комаров Д.Е. Под Георгиевскими знаменами. Очерки истории 3-го гренадерского Перновского  полка. Смоленск, 2002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5.Поклон из Вязьмы. «Памятники Отечества» М. 1996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6.Смоленская область. Энциклопедия. Т.2 Смоленск, 2003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52760" y="115920"/>
            <a:ext cx="7022880" cy="61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Что такое памятник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амятник - объект, составляющий часть культурного достояния страны, народа, человечества (Памятники  археологии, истории, искусства, письменности т. п., обычно охраняемые специальными законами) (Советский энциклопедический словарь, 1984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амятник - произведения искусства, созданное для увековечения людей или исторических событий; скульптурная группа, статуя, бюст, плита с рельефом или с надписью, триумфальная арка, колонна, обелиск, гробница, надгробие и т.д. Наиболее развитый вид памятников  мемориальные сооружения (Советский энциклопедический словарь, 1984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640" y="259920"/>
            <a:ext cx="687888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з истории Перновского полк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ерновский  полк является одной из старейших частей русской регулярной арм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н был сформирован 16 августа 1806 г. полковником П.Н. Чеглоковым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 Санкт-Петербурге из 6 рот Кексгольмского мушкетерского полка с добавлением рекрутов из окрестностей прибалтийского г. Пернов (Пярну)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Именно этот факт объясняет название полк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702288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 свою историю полк принимал участие  во всех войнах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9-начала 20 век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наполеоновских войнах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подавлении польского восстания 1830-1831 гг.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участвовали в Крымской войне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штурмовали Карскую крепость в Русско-турецкой войне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се четыре года первой мировой войны перновские гренадеры сражались против германско-австрийских войск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Павел Николаевич Чегло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64000" y="1483920"/>
            <a:ext cx="34624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ервый командир,  а затем шеф Перновского полк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22 октября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1812 г.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во главе штурмующих колон ворвался в Вязьму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Picture 4" descr="Choglokov_Pavel_Nikolaevich"/>
          <p:cNvPicPr/>
          <p:nvPr/>
        </p:nvPicPr>
        <p:blipFill>
          <a:blip r:embed="rId1"/>
          <a:stretch/>
        </p:blipFill>
        <p:spPr>
          <a:xfrm>
            <a:off x="1500120" y="1484280"/>
            <a:ext cx="36687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Гренадер Перновского по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Барабанщик Перновского полка в парадной форме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1877-1878 гг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5" name="Picture 8" descr="foto14"/>
          <p:cNvPicPr/>
          <p:nvPr/>
        </p:nvPicPr>
        <p:blipFill>
          <a:blip r:embed="rId1"/>
          <a:stretch/>
        </p:blipFill>
        <p:spPr>
          <a:xfrm>
            <a:off x="1763640" y="1413000"/>
            <a:ext cx="331308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Гренадеры Перновского по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03640" y="155700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ижние чины Перновского полка в начале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XX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ек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8" name="Picture 8" descr="рядовые перновского полка"/>
          <p:cNvPicPr/>
          <p:nvPr/>
        </p:nvPicPr>
        <p:blipFill>
          <a:blip r:embed="rId1"/>
          <a:stretch/>
        </p:blipFill>
        <p:spPr>
          <a:xfrm>
            <a:off x="1763640" y="1413000"/>
            <a:ext cx="303696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08:26Z</dcterms:created>
  <dc:creator>Дима</dc:creator>
  <dc:description/>
  <dc:language>en-US</dc:language>
  <cp:lastModifiedBy>Олег</cp:lastModifiedBy>
  <dcterms:modified xsi:type="dcterms:W3CDTF">2017-02-19T19:15:37Z</dcterms:modified>
  <cp:revision>27</cp:revision>
  <dc:subject/>
  <dc:title>Сражение </dc:title>
</cp:coreProperties>
</file>