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AD4-D479-4FC9-BE93-BA3C15CE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4F7-C7DE-447B-B94B-D78306A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24A-0B6C-4E03-9716-6D8520B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435-EC84-4E70-A37E-70CE8466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57E-470E-4085-8611-34E4293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A17-F49C-4D77-BC0C-A3F076D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0A8-A1C5-4817-9B66-485BCA1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932-12FA-4734-878E-42BD7A3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343-83AC-4C04-9986-E1ADCF2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856-93AE-4127-9A4C-61C8EDC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49D-5C71-445F-A2D9-8064C50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FD3-A963-4DF4-8649-820A514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276-3F7E-4178-9EA9-A5E5A45FF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1247760"/>
            <a:ext cx="718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изитная карточка участников конкурса на лучшую авторскую дидактическую игру по математическому развитию дошкольников «Дидактическая игра – гимнастика для ум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84360" y="620640"/>
            <a:ext cx="74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47» (МБДОУ № 4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348000" y="580536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ысаево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8" descr=""/>
          <p:cNvPicPr/>
          <p:nvPr/>
        </p:nvPicPr>
        <p:blipFill>
          <a:blip r:embed="rId1"/>
          <a:stretch/>
        </p:blipFill>
        <p:spPr>
          <a:xfrm>
            <a:off x="1542960" y="3700440"/>
            <a:ext cx="8827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"/>
          <p:cNvPicPr/>
          <p:nvPr/>
        </p:nvPicPr>
        <p:blipFill>
          <a:blip r:embed="rId2"/>
          <a:stretch/>
        </p:blipFill>
        <p:spPr>
          <a:xfrm>
            <a:off x="1542960" y="4748040"/>
            <a:ext cx="88272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3"/>
          <a:stretch/>
        </p:blipFill>
        <p:spPr>
          <a:xfrm>
            <a:off x="1536840" y="2603520"/>
            <a:ext cx="888840" cy="1170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627280" y="287640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ченко Светлана Александр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питатель, 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627280" y="3776760"/>
            <a:ext cx="57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а Татьяна Петр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питател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2627280" y="477504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нёва Наталья Вадим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питател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лоун Бим и клоун 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1" descr=""/>
          <p:cNvPicPr/>
          <p:nvPr/>
        </p:nvPicPr>
        <p:blipFill>
          <a:blip r:embed="rId1"/>
          <a:stretch/>
        </p:blipFill>
        <p:spPr>
          <a:xfrm>
            <a:off x="1403280" y="1181160"/>
            <a:ext cx="6337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153800"/>
            <a:ext cx="71960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познавательных способностей и привитие навыков к самостоятельной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476360" y="692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для детей от 1.5 до 3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988920" y="2781360"/>
            <a:ext cx="7205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зличать количество однородных предметов (один – мног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едметах контрастных размеров и обозначению их в речи (большой – маленький), (длинный – коротки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классифицировать и обобщать предметы по определенному признаку (форма, цвет) и называть 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опыт практического освоения окружающего простр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внимание, памя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972720" y="23036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2268360" y="620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30320" y="1082520"/>
            <a:ext cx="71294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чем приступить к игре, перед детьми выкладывают её элементы (клоуны, чемодан с дополнительными деталями). Дети внимательно их рассматривают, одновременно отвечают на вопросы воспитателя. (Знаете ли вы, что это? Как можно украсить клоуна? Как двигается клоун?) Затем воспитатель перемещает бусины на дуге у клоуна Бима, он качается вправо – влево. Чем больше бусин, тем ниже наклоняется клоун. А клоун Бом держит рычаг, с помощью которого накручиваются ленты или по которому передвигается игрушка - бусина. Варианты заданий в игр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, где на дуге одна бусина и где много бусин, сделай наоборот. Сделай так, чтобы клоун стоял ров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ути длинную ленту (или короткую) на рычаг. Какого цвета длинная лента? Какого цвета короткая лен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 клоуна Бима и клоуна Бома с помощью одинаковых геометрических фигур определенного цвета (например, красные круги и т. д.). Или наряди клоуна в разные фигуры определенного цв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усложняется включением задач на ориентировку в пространст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руке больше бусин, в какой - меньше? Сделай так, чтобы бусин было поровну. Оставь в одной руке одну бусину (2, 3), а в другой - мно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руке игрушка у клоуна Бома? А теперь переложи в другую рук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мелкой моторики клоуны могут использоваться как шнуров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971640" y="1197000"/>
            <a:ext cx="7200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расочная игра с набором дополнительного материала. В комплект игры входит: два клоуна различные по величине (большой и маленький); чемоданчик с цветными геометрическими фигурами на липучках; цветные ленты разной длинны; большие деревянные бусины; игрушки в виде бусины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й характер игры состоит в том что, ребенок самостоятельно находит решение задач благодаря практическим действ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ценность игры «Клоун Бим и клоун Бом» в том что она является пособием на познавательном занятии для демонстрации понятия «больше – меньше», «один – много», «длинный – короткий». А также при индивидуальной работе с детьми по закреплению знаний о форме, цвете и развитию мелкой моторики.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оответствует возрастным особенностям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участвуют 1 или 2 ребен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игру лучше под руководством взрослого ведущего. В дальнейшем дети смогут играть самостоятель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игры зависит от интереса и усидчивости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232000" y="6192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южетные фото игры «Клоун Бим и клоун Б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2" descr=""/>
          <p:cNvPicPr/>
          <p:nvPr/>
        </p:nvPicPr>
        <p:blipFill>
          <a:blip r:embed="rId1"/>
          <a:stretch/>
        </p:blipFill>
        <p:spPr>
          <a:xfrm>
            <a:off x="1096920" y="981000"/>
            <a:ext cx="3133800" cy="237816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1096920" y="3700440"/>
            <a:ext cx="3164040" cy="2414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3"/>
          <a:stretch/>
        </p:blipFill>
        <p:spPr>
          <a:xfrm>
            <a:off x="4840200" y="981000"/>
            <a:ext cx="3151440" cy="2328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4"/>
          <a:stretch/>
        </p:blipFill>
        <p:spPr>
          <a:xfrm>
            <a:off x="4913280" y="3718080"/>
            <a:ext cx="2992320" cy="2377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4859280" y="6093000"/>
            <a:ext cx="34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- шнур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611280" y="6083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зличать количество однородных предметов (один – мног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601560" y="32655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знаний о предмета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инный – коротки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4290840" y="322272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предметов по определенному признаку (форма, цв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200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характеристика материалов, из которых изготовлена игра «Клоун Бим и клоун Б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971640" y="162864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уны изготовлены из качественных экологически чистых материал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клоунов выпилены из 5 мм фанеры, что является залогом долгой службы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 раскрашены акриловыми водно-дисперсионными красками, применяемыми для детского художественного творчества (яркость и привлекательность оформления - неотъемлемая часть среды детей младшего дошкольного возраст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материалы (геометрические фигуры, деревянные бусины, ленты длинные и короткие) сделаны с учётом возрастных особенностей детей – антивандальные, легко моются, крепятся на безопасные застежки (липучки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а техника безопасности для детей от 1.5 до 3х лет (исключена техническая опасность, зажимы, мелкие детали и т. д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DNA7 X86</cp:lastModifiedBy>
  <dcterms:modified xsi:type="dcterms:W3CDTF">2016-03-31T06:55:41Z</dcterms:modified>
  <cp:revision>37</cp:revision>
  <dc:subject/>
  <dc:title>Презентация PowerPoint</dc:title>
</cp:coreProperties>
</file>