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6D90-0850-422D-9254-8E3DD5957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571D-22C1-4ECE-B538-F5B7EBC7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A101-0C8C-4BEC-A186-6FF395545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E944-619B-495F-AF0B-85DDBCF7B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87C6F-3F2C-4633-BEED-182298DA8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FFB3-7267-4016-8879-CDEBA2B4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5EBC-F06E-42D0-8EE1-17A3065A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CDE8A-BBA2-4960-881D-6F4DB7A1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4BC0-3F31-483E-AC1F-CF86D676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15AC-45C9-49C1-9C10-48C1C555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A69E0-5B7E-45A7-8715-9159EC7E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7ED5-3C48-4EF5-86CB-34F43DCB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593A-B00E-4300-B91D-A816C7F6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1BBBC-D873-44D9-8AD8-0F5FB168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1BD3-5FA4-49E7-903A-B464B77E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F135-D972-4419-89D1-E49FF7DD6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9559-D632-4291-A6ED-12F036453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AE134-7088-45C3-A2B8-D0D25A34C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9217C-D0B2-453B-B87C-20C203C5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C909A-E211-469B-8BC4-5C40EB33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36FE8-07CF-413C-B26C-3D6F5FB0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472CA-4B08-4EA2-8142-A59A110E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1BE5-1A86-4FCD-B682-1891CA9E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80D08-0FE1-4474-AE88-4CF00F46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15114-A430-44AA-976C-1B3005F4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C3FB9-38B6-4121-9BA2-B81828A5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5A8DE-BE43-409E-AF21-253205DD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9919F-A538-4A04-9456-9E93C86C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1CE91-0275-4803-8F59-72E462D8A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2FBC7-1C70-4DB3-89C9-C677EB76D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1407-C918-420F-AD44-393425D0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06C6-8727-4DDE-83A1-FBABB242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13DA-5629-4958-BEF0-8E66E7CA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227A-5B57-4575-89AE-D49F7AAD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B9CA-62E8-4589-AC8A-25D6F23B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8A90-ED54-480C-B0C8-D099EADC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F400-AB36-4ECA-AE14-57C4E5DC1B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5EA3-3D80-4D41-B2F0-5063AFA565D6}" type="slidenum">
              <a:rPr b="0" lang="ru-RU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59B0-F31A-47CA-9A11-D79E724A35E5}" type="slidenum">
              <a:rPr b="0" lang="ru-RU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8" name="Picture 6" descr="b861254286190"/>
          <p:cNvPicPr/>
          <p:nvPr/>
        </p:nvPicPr>
        <p:blipFill>
          <a:blip r:embed="rId1"/>
          <a:stretch/>
        </p:blipFill>
        <p:spPr>
          <a:xfrm>
            <a:off x="179280" y="0"/>
            <a:ext cx="856944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WordArt 7"/>
          <p:cNvSpPr txBox="1"/>
          <p:nvPr/>
        </p:nvSpPr>
        <p:spPr>
          <a:xfrm>
            <a:off x="4067280" y="3789360"/>
            <a:ext cx="450540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утешествие в мир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рожного движени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8"/>
          <p:cNvSpPr/>
          <p:nvPr/>
        </p:nvSpPr>
        <p:spPr>
          <a:xfrm>
            <a:off x="179280" y="6237360"/>
            <a:ext cx="468360" cy="476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5832720" cy="36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3"/>
          <p:cNvSpPr/>
          <p:nvPr/>
        </p:nvSpPr>
        <p:spPr>
          <a:xfrm>
            <a:off x="179280" y="6237360"/>
            <a:ext cx="468360" cy="476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179280" y="6237360"/>
            <a:ext cx="468360" cy="476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908000" y="333360"/>
            <a:ext cx="53406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1212121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"/>
          <p:cNvSpPr/>
          <p:nvPr/>
        </p:nvSpPr>
        <p:spPr>
          <a:xfrm>
            <a:off x="179280" y="6237360"/>
            <a:ext cx="468360" cy="476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"/>
          <p:cNvSpPr/>
          <p:nvPr/>
        </p:nvSpPr>
        <p:spPr>
          <a:xfrm flipV="1">
            <a:off x="468360" y="2708280"/>
            <a:ext cx="7993080" cy="1944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7"/>
          <p:cNvSpPr/>
          <p:nvPr/>
        </p:nvSpPr>
        <p:spPr>
          <a:xfrm flipH="1">
            <a:off x="971640" y="1484280"/>
            <a:ext cx="7416720" cy="1297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3"/>
          <p:cNvSpPr/>
          <p:nvPr/>
        </p:nvSpPr>
        <p:spPr>
          <a:xfrm>
            <a:off x="179280" y="6237360"/>
            <a:ext cx="468360" cy="476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7"/>
          <p:cNvSpPr/>
          <p:nvPr/>
        </p:nvSpPr>
        <p:spPr>
          <a:xfrm>
            <a:off x="324000" y="6165720"/>
            <a:ext cx="468000" cy="476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1476360" y="260280"/>
            <a:ext cx="5678640" cy="5689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Пешеходный перех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539640" y="6021360"/>
            <a:ext cx="468360" cy="476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179280" y="6237360"/>
            <a:ext cx="468360" cy="476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"/>
          <p:cNvSpPr/>
          <p:nvPr/>
        </p:nvSpPr>
        <p:spPr>
          <a:xfrm>
            <a:off x="179280" y="6237360"/>
            <a:ext cx="468360" cy="476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3"/>
          <p:cNvSpPr/>
          <p:nvPr/>
        </p:nvSpPr>
        <p:spPr>
          <a:xfrm>
            <a:off x="179280" y="6237360"/>
            <a:ext cx="468360" cy="476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179280" y="6237360"/>
            <a:ext cx="468360" cy="476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218440" cy="38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Участники </a:t>
            </a:r>
            <a:br>
              <a:rPr sz="5400"/>
            </a:b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дорожного движ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179280" y="6237360"/>
            <a:ext cx="468360" cy="476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539640" y="2997360"/>
            <a:ext cx="3672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пешеходы</a:t>
            </a:r>
            <a:br>
              <a:rPr sz="4400"/>
            </a:b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539640" y="378936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води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11280" y="4581360"/>
            <a:ext cx="41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пассажи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3"/>
          <p:cNvSpPr/>
          <p:nvPr/>
        </p:nvSpPr>
        <p:spPr>
          <a:xfrm>
            <a:off x="179280" y="6237360"/>
            <a:ext cx="468360" cy="476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"/>
          <p:cNvSpPr/>
          <p:nvPr/>
        </p:nvSpPr>
        <p:spPr>
          <a:xfrm>
            <a:off x="179280" y="6237360"/>
            <a:ext cx="468360" cy="476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179280" y="6237360"/>
            <a:ext cx="468360" cy="476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6T02:41:02Z</dcterms:created>
  <dc:creator>Home</dc:creator>
  <dc:description/>
  <dc:language>en-US</dc:language>
  <cp:lastModifiedBy>1</cp:lastModifiedBy>
  <dcterms:modified xsi:type="dcterms:W3CDTF">2012-09-08T18:27:29Z</dcterms:modified>
  <cp:revision>26</cp:revision>
  <dc:subject/>
  <dc:title>Слайд 1</dc:title>
</cp:coreProperties>
</file>