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972F-041C-41B8-94C9-1493F08AD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FB1A-5A84-4BA9-9D41-8679C3B4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D017-5C97-4EC4-8823-1FFC94587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15E1-0C35-45F2-B66D-B23371565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7D18-FFAD-4E2E-A975-BE508D19C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F523-8993-4E99-906A-913EC52A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7773-4A3F-49DF-8425-5F036E75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2165-B93A-42F2-B5D0-15DA5CA1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6156-518A-45CA-B1D4-CC344AD2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1E2A-0CDF-4906-9CEF-0ABCC215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1B0A-ADB6-4ECD-80FC-DEFFD6C4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EDCF-FC66-4367-9C81-7F47230E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B0CF4-BE49-4111-B81C-64982B77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58FBA-C428-41F8-8227-991DD6F5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61CA2-9B28-4EA0-81BD-EDD51DFD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E3252-7D38-4661-B614-9F5F08E00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2372-940F-4AC2-9BCD-9F996C682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91CEF-2400-402E-99BA-AF598A3EC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20DAE-DB54-4544-9E83-ADDE298E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A3942-2648-438F-9F8C-11B8885A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65DB4-6051-42F2-9A6E-E65A84B3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AABD5-8859-4EA0-BB87-F78711EA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6462-0161-4F3B-A7F3-CB780DCB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9FC0C-833E-4409-BE06-83CC92C5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93D33-FD21-4BBF-8FD2-3B986764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FFEC2-D86C-410F-A7DE-363943E3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E1CA0-8CA3-42CC-B3B6-17709CF5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B9361-5906-4ADC-9F39-91375209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12C82-FF0E-409E-98F3-AEC19227D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584A1-990E-4D69-A808-D05FFE85E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F784-1E2F-41BD-8C98-3FC48F14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C0AA-3E27-4826-9445-577A3AEA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D033-B939-4A92-B164-B8FCBB82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786D-788C-4981-917F-66227703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C0B6-9D8F-4074-8F4E-F7327B80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1BAD-13B9-4300-BD6A-78311EF6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82FF-25EC-4297-AE87-DA4D850CBF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80C5-71D4-474F-8A9F-45138BC26B82}" type="slidenum">
              <a:rPr b="0" lang="ru-RU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9727-973D-46AA-A23D-D17B0D81E4EE}" type="slidenum">
              <a:rPr b="0" lang="ru-RU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8" name="Picture 6" descr="b861254286190"/>
          <p:cNvPicPr/>
          <p:nvPr/>
        </p:nvPicPr>
        <p:blipFill>
          <a:blip r:embed="rId1"/>
          <a:stretch/>
        </p:blipFill>
        <p:spPr>
          <a:xfrm>
            <a:off x="179280" y="0"/>
            <a:ext cx="856944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WordArt 7"/>
          <p:cNvSpPr txBox="1"/>
          <p:nvPr/>
        </p:nvSpPr>
        <p:spPr>
          <a:xfrm>
            <a:off x="4067280" y="3789360"/>
            <a:ext cx="450540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утешествие в мир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рожного движени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8"/>
          <p:cNvSpPr/>
          <p:nvPr/>
        </p:nvSpPr>
        <p:spPr>
          <a:xfrm>
            <a:off x="179280" y="6237360"/>
            <a:ext cx="468360" cy="476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5832720" cy="36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3"/>
          <p:cNvSpPr/>
          <p:nvPr/>
        </p:nvSpPr>
        <p:spPr>
          <a:xfrm>
            <a:off x="179280" y="6237360"/>
            <a:ext cx="468360" cy="476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179280" y="6237360"/>
            <a:ext cx="468360" cy="476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908000" y="333360"/>
            <a:ext cx="53406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1212121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"/>
          <p:cNvSpPr/>
          <p:nvPr/>
        </p:nvSpPr>
        <p:spPr>
          <a:xfrm>
            <a:off x="179280" y="6237360"/>
            <a:ext cx="468360" cy="476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"/>
          <p:cNvSpPr/>
          <p:nvPr/>
        </p:nvSpPr>
        <p:spPr>
          <a:xfrm flipV="1">
            <a:off x="468360" y="2708280"/>
            <a:ext cx="7993080" cy="1944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7"/>
          <p:cNvSpPr/>
          <p:nvPr/>
        </p:nvSpPr>
        <p:spPr>
          <a:xfrm flipH="1">
            <a:off x="971640" y="1484280"/>
            <a:ext cx="7416720" cy="1297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3"/>
          <p:cNvSpPr/>
          <p:nvPr/>
        </p:nvSpPr>
        <p:spPr>
          <a:xfrm>
            <a:off x="179280" y="6237360"/>
            <a:ext cx="468360" cy="476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7"/>
          <p:cNvSpPr/>
          <p:nvPr/>
        </p:nvSpPr>
        <p:spPr>
          <a:xfrm>
            <a:off x="324000" y="6165720"/>
            <a:ext cx="468000" cy="476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1476360" y="260280"/>
            <a:ext cx="5678640" cy="5689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Пешеходный перех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539640" y="6021360"/>
            <a:ext cx="468360" cy="476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179280" y="6237360"/>
            <a:ext cx="468360" cy="476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"/>
          <p:cNvSpPr/>
          <p:nvPr/>
        </p:nvSpPr>
        <p:spPr>
          <a:xfrm>
            <a:off x="179280" y="6237360"/>
            <a:ext cx="468360" cy="476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3"/>
          <p:cNvSpPr/>
          <p:nvPr/>
        </p:nvSpPr>
        <p:spPr>
          <a:xfrm>
            <a:off x="179280" y="6237360"/>
            <a:ext cx="468360" cy="476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179280" y="6237360"/>
            <a:ext cx="468360" cy="476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218440" cy="38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Участники </a:t>
            </a:r>
            <a:br>
              <a:rPr sz="5400"/>
            </a:b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дорожного движ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179280" y="6237360"/>
            <a:ext cx="468360" cy="476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539640" y="2997360"/>
            <a:ext cx="3672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пешеходы</a:t>
            </a:r>
            <a:br>
              <a:rPr sz="4400"/>
            </a:b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539640" y="378936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води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11280" y="4581360"/>
            <a:ext cx="41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пассажи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3"/>
          <p:cNvSpPr/>
          <p:nvPr/>
        </p:nvSpPr>
        <p:spPr>
          <a:xfrm>
            <a:off x="179280" y="6237360"/>
            <a:ext cx="468360" cy="476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"/>
          <p:cNvSpPr/>
          <p:nvPr/>
        </p:nvSpPr>
        <p:spPr>
          <a:xfrm>
            <a:off x="179280" y="6237360"/>
            <a:ext cx="468360" cy="476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179280" y="6237360"/>
            <a:ext cx="468360" cy="476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6T02:41:02Z</dcterms:created>
  <dc:creator>Home</dc:creator>
  <dc:description/>
  <dc:language>en-US</dc:language>
  <cp:lastModifiedBy>1</cp:lastModifiedBy>
  <dcterms:modified xsi:type="dcterms:W3CDTF">2012-09-08T18:27:29Z</dcterms:modified>
  <cp:revision>26</cp:revision>
  <dc:subject/>
  <dc:title>Слайд 1</dc:title>
</cp:coreProperties>
</file>