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AFD-650E-410B-9F33-4FE7BBA117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4B87-33CB-440B-8ACC-EDCCB66F4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8187-708B-42DF-8E1F-ADB6E4129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A6A-ED1F-400A-B0AB-31AC5598C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9CF5-43AB-47F9-B224-96EAD278A4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F80F-61CE-4E23-842C-C70BA49AC9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692-480F-42B1-B25C-28102F9D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2C0-93C5-4592-989F-B9C5EDD1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584-38C8-4BC2-AE96-5C5F48E2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B02-5F8C-4C74-B0F2-105F009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85F-C644-4379-92FA-2F28C6A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F22-88D5-48B9-8D07-32BF1997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582-7A2B-4A8F-8B4D-3180512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300-210F-46D2-9969-641436D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AE3-0980-40F6-BF27-56AE3AE2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3E2-726D-4084-8A15-11B577D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283-8443-4536-8F22-A541B4A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338-11E4-4006-939C-65F33EB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C45-E4DF-4F86-8751-7E1BF0B06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d9cd"/>
            </a:gs>
            <a:gs pos="100000">
              <a:srgbClr val="f4b39b">
                <a:alpha val="47058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776e12b93a83.png"/>
          <p:cNvPicPr/>
          <p:nvPr/>
        </p:nvPicPr>
        <p:blipFill>
          <a:blip r:embed="rId1"/>
          <a:stretch/>
        </p:blipFill>
        <p:spPr>
          <a:xfrm>
            <a:off x="0" y="3581280"/>
            <a:ext cx="685800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4920" y="5130360"/>
            <a:ext cx="4419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9240c"/>
                </a:solidFill>
                <a:latin typeface="Calibri"/>
              </a:rPr>
              <a:t>Стихотворе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9240c"/>
                </a:solidFill>
                <a:latin typeface="Calibri"/>
              </a:rPr>
              <a:t>Загад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9240c"/>
                </a:solidFill>
                <a:latin typeface="Calibri"/>
              </a:rPr>
              <a:t>Народные прим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2"/>
          <a:stretch/>
        </p:blipFill>
        <p:spPr>
          <a:xfrm>
            <a:off x="-371520" y="-133200"/>
            <a:ext cx="7667640" cy="4529160"/>
          </a:xfrm>
          <a:prstGeom prst="rect">
            <a:avLst/>
          </a:prstGeom>
          <a:ln w="0">
            <a:noFill/>
          </a:ln>
        </p:spPr>
      </p:pic>
      <p:grpSp>
        <p:nvGrpSpPr>
          <p:cNvPr id="51" name="Равнобедренный треугольник 4"/>
          <p:cNvGrpSpPr/>
          <p:nvPr/>
        </p:nvGrpSpPr>
        <p:grpSpPr>
          <a:xfrm>
            <a:off x="-19080" y="-19080"/>
            <a:ext cx="1609920" cy="1609920"/>
            <a:chOff x="-19080" y="-19080"/>
            <a:chExt cx="1609920" cy="1609920"/>
          </a:xfrm>
        </p:grpSpPr>
        <p:pic>
          <p:nvPicPr>
            <p:cNvPr id="52" name="Равнобедренный тре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-19080"/>
              <a:ext cx="16099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0800000">
              <a:off x="-360" y="-36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Равнобедренный треугольник 5"/>
          <p:cNvGrpSpPr/>
          <p:nvPr/>
        </p:nvGrpSpPr>
        <p:grpSpPr>
          <a:xfrm>
            <a:off x="5194440" y="2066760"/>
            <a:ext cx="1608120" cy="1609920"/>
            <a:chOff x="5194440" y="2066760"/>
            <a:chExt cx="1608120" cy="1609920"/>
          </a:xfrm>
        </p:grpSpPr>
        <p:pic>
          <p:nvPicPr>
            <p:cNvPr id="55" name="Равнобедренный треугольник 5" descr=""/>
            <p:cNvPicPr/>
            <p:nvPr/>
          </p:nvPicPr>
          <p:blipFill>
            <a:blip r:embed="rId4"/>
            <a:stretch/>
          </p:blipFill>
          <p:spPr>
            <a:xfrm>
              <a:off x="5194440" y="2066760"/>
              <a:ext cx="16081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996160" y="2871720"/>
              <a:ext cx="7855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6400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Народные приметы и поговор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Содержимое 2"/>
          <p:cNvGrpSpPr/>
          <p:nvPr/>
        </p:nvGrpSpPr>
        <p:grpSpPr>
          <a:xfrm>
            <a:off x="195120" y="731880"/>
            <a:ext cx="6461280" cy="1352520"/>
            <a:chOff x="195120" y="731880"/>
            <a:chExt cx="6461280" cy="1352520"/>
          </a:xfrm>
        </p:grpSpPr>
        <p:pic>
          <p:nvPicPr>
            <p:cNvPr id="5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95120" y="731880"/>
              <a:ext cx="64612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28600" y="762120"/>
              <a:ext cx="6400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0000"/>
                  </a:solidFill>
                  <a:latin typeface="Calibri"/>
                </a:rPr>
                <a:t>В лесу много рябины - осень будет дождливая, мало - сухая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0000"/>
                  </a:solidFill>
                  <a:latin typeface="Calibri"/>
                </a:rPr>
                <a:t>Если журавли летят высоко, не спеша и "разговаривают", будет стоять хорошая осень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0000"/>
                  </a:solidFill>
                  <a:latin typeface="Calibri"/>
                </a:rPr>
                <a:t>Облака редкие - будет ясно и холодно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0000"/>
                  </a:solidFill>
                  <a:latin typeface="Calibri"/>
                </a:rPr>
                <a:t>Если орехов много, а грибов нет - зима будет снежная и суровая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одержимое 2"/>
          <p:cNvGrpSpPr/>
          <p:nvPr/>
        </p:nvGrpSpPr>
        <p:grpSpPr>
          <a:xfrm>
            <a:off x="122400" y="6595920"/>
            <a:ext cx="6686280" cy="1432080"/>
            <a:chOff x="122400" y="6595920"/>
            <a:chExt cx="6686280" cy="1432080"/>
          </a:xfrm>
        </p:grpSpPr>
        <p:pic>
          <p:nvPicPr>
            <p:cNvPr id="6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22400" y="6595920"/>
              <a:ext cx="668628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2280" y="6629400"/>
              <a:ext cx="6629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Комары в ноябре - быть мягкой зим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Кто в ноябре не зябнет, тот и в декабре не замерзне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ноябре снега надует - хлеба прибуде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ноябре первый прочный снег выпадает за ноч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ноябре с утра может дождь дождить, а к вечеру сугробами снег лежа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Содержимое 2"/>
          <p:cNvGrpSpPr/>
          <p:nvPr/>
        </p:nvGrpSpPr>
        <p:grpSpPr>
          <a:xfrm>
            <a:off x="122400" y="4614840"/>
            <a:ext cx="6534000" cy="1432080"/>
            <a:chOff x="122400" y="4614840"/>
            <a:chExt cx="6534000" cy="1432080"/>
          </a:xfrm>
        </p:grpSpPr>
        <p:pic>
          <p:nvPicPr>
            <p:cNvPr id="65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122400" y="4614840"/>
              <a:ext cx="65340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52280" y="4648320"/>
              <a:ext cx="6477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октябре с солнцем распрощайся, ближе к печке подбирайс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Гром в октябре предвещает бесснежную, короткую и мягкую зиму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Если в октябре лист с березы и дуба опадет не чисто - жди суровую зиму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Октябрь землю покроет где листком, где снежк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Быстро тает октябрьский день - не привяжешь за плетен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-182520" y="1773360"/>
            <a:ext cx="3101760" cy="909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5"/>
          <a:stretch/>
        </p:blipFill>
        <p:spPr>
          <a:xfrm>
            <a:off x="1542960" y="3754440"/>
            <a:ext cx="2840040" cy="909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6"/>
          <a:stretch/>
        </p:blipFill>
        <p:spPr>
          <a:xfrm>
            <a:off x="4297320" y="5815080"/>
            <a:ext cx="2621160" cy="903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vika\88cd041e6951.png"/>
          <p:cNvPicPr/>
          <p:nvPr/>
        </p:nvPicPr>
        <p:blipFill>
          <a:blip r:embed="rId7"/>
          <a:stretch/>
        </p:blipFill>
        <p:spPr>
          <a:xfrm>
            <a:off x="380880" y="8077320"/>
            <a:ext cx="58960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1" name="Содержимое 2"/>
          <p:cNvGrpSpPr/>
          <p:nvPr/>
        </p:nvGrpSpPr>
        <p:grpSpPr>
          <a:xfrm>
            <a:off x="195120" y="2712960"/>
            <a:ext cx="6461280" cy="1425600"/>
            <a:chOff x="195120" y="2712960"/>
            <a:chExt cx="6461280" cy="1425600"/>
          </a:xfrm>
        </p:grpSpPr>
        <p:pic>
          <p:nvPicPr>
            <p:cNvPr id="72" name="Содержимое 2" descr=""/>
            <p:cNvPicPr/>
            <p:nvPr/>
          </p:nvPicPr>
          <p:blipFill>
            <a:blip r:embed="rId8"/>
            <a:stretch/>
          </p:blipFill>
          <p:spPr>
            <a:xfrm>
              <a:off x="195120" y="2712960"/>
              <a:ext cx="64612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28600" y="2743200"/>
              <a:ext cx="6400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Сентябрь красное лето провожает, осень золотую встречает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Гром в сентябре предвещает теплую осен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сентябре днем погоже, да по утрам негож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сентябре и лист на дереве не держитс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Calibri"/>
                </a:rPr>
                <a:t>В сентябре лес реже и птичий голос тиш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968a"/>
            </a:gs>
            <a:gs pos="100000">
              <a:srgbClr val="fbe0dd">
                <a:alpha val="5019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6" descr="a8456a711e4f.png"/>
          <p:cNvPicPr/>
          <p:nvPr/>
        </p:nvPicPr>
        <p:blipFill>
          <a:blip r:embed="rId1"/>
          <a:stretch/>
        </p:blipFill>
        <p:spPr>
          <a:xfrm>
            <a:off x="4343400" y="5334120"/>
            <a:ext cx="249876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-109440" y="5315040"/>
            <a:ext cx="3925800" cy="750960"/>
          </a:xfrm>
          <a:prstGeom prst="rect">
            <a:avLst/>
          </a:prstGeom>
          <a:ln w="0">
            <a:noFill/>
          </a:ln>
        </p:spPr>
      </p:pic>
      <p:grpSp>
        <p:nvGrpSpPr>
          <p:cNvPr id="76" name="Скругленный прямоугольник 4"/>
          <p:cNvGrpSpPr/>
          <p:nvPr/>
        </p:nvGrpSpPr>
        <p:grpSpPr>
          <a:xfrm>
            <a:off x="122400" y="4005360"/>
            <a:ext cx="3181320" cy="1352520"/>
            <a:chOff x="122400" y="4005360"/>
            <a:chExt cx="3181320" cy="1352520"/>
          </a:xfrm>
        </p:grpSpPr>
        <p:pic>
          <p:nvPicPr>
            <p:cNvPr id="7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2400" y="4005360"/>
              <a:ext cx="31813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16000" y="4102200"/>
              <a:ext cx="29970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Поглядите, поглядите 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Потянулись с неба нити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Что за тоненькая нить 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Землю с небом хочет сшить?            (дожд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Скругленный прямоугольник 5"/>
          <p:cNvGrpSpPr/>
          <p:nvPr/>
        </p:nvGrpSpPr>
        <p:grpSpPr>
          <a:xfrm>
            <a:off x="122400" y="7510320"/>
            <a:ext cx="3181320" cy="1505160"/>
            <a:chOff x="122400" y="7510320"/>
            <a:chExt cx="3181320" cy="1505160"/>
          </a:xfrm>
        </p:grpSpPr>
        <p:pic>
          <p:nvPicPr>
            <p:cNvPr id="8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22400" y="7510320"/>
              <a:ext cx="318132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23920" y="7615080"/>
              <a:ext cx="298116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030a0"/>
                  </a:solidFill>
                  <a:latin typeface="Calibri"/>
                </a:rPr>
                <a:t>Дождь и слякоть, грязь и ветер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030a0"/>
                  </a:solidFill>
                  <a:latin typeface="Calibri"/>
                </a:rPr>
                <a:t>Осень, ты за все в ответ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030a0"/>
                  </a:solidFill>
                  <a:latin typeface="Calibri"/>
                </a:rPr>
                <a:t>Мерзнет, мерзнет человек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030a0"/>
                  </a:solidFill>
                  <a:latin typeface="Calibri"/>
                </a:rPr>
                <a:t>Выпал первый белый ..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(снег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Скругленный прямоугольник 7"/>
          <p:cNvGrpSpPr/>
          <p:nvPr/>
        </p:nvGrpSpPr>
        <p:grpSpPr>
          <a:xfrm>
            <a:off x="122400" y="2633760"/>
            <a:ext cx="2339640" cy="1279440"/>
            <a:chOff x="122400" y="2633760"/>
            <a:chExt cx="2339640" cy="1279440"/>
          </a:xfrm>
        </p:grpSpPr>
        <p:pic>
          <p:nvPicPr>
            <p:cNvPr id="8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22400" y="2633760"/>
              <a:ext cx="2339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36520" y="2751120"/>
              <a:ext cx="211788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Пришла без крас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И без кист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И перекрасила все листья.  (осен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8"/>
          <p:cNvGrpSpPr/>
          <p:nvPr/>
        </p:nvGrpSpPr>
        <p:grpSpPr>
          <a:xfrm>
            <a:off x="3932280" y="4005360"/>
            <a:ext cx="2797200" cy="1352520"/>
            <a:chOff x="3932280" y="4005360"/>
            <a:chExt cx="2797200" cy="1352520"/>
          </a:xfrm>
        </p:grpSpPr>
        <p:pic>
          <p:nvPicPr>
            <p:cNvPr id="86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3932280" y="4005360"/>
              <a:ext cx="27972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025880" y="4102200"/>
              <a:ext cx="2616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Над тобою, надо мно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Пролетел мешок с водою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Наскочил на дальний лес 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Прохудился и исчез. (туч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9"/>
          <p:cNvGrpSpPr/>
          <p:nvPr/>
        </p:nvGrpSpPr>
        <p:grpSpPr>
          <a:xfrm>
            <a:off x="122400" y="6066000"/>
            <a:ext cx="3181320" cy="1272960"/>
            <a:chOff x="122400" y="6066000"/>
            <a:chExt cx="3181320" cy="1272960"/>
          </a:xfrm>
        </p:grpSpPr>
        <p:pic>
          <p:nvPicPr>
            <p:cNvPr id="89" name="Скругленный 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122400" y="6066000"/>
              <a:ext cx="318132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10960" y="6154560"/>
              <a:ext cx="3007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Холода их так пугают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К теплым странам улетают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Петь не могут, веселить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Кто собрался в стайки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(птицы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10"/>
          <p:cNvGrpSpPr/>
          <p:nvPr/>
        </p:nvGrpSpPr>
        <p:grpSpPr>
          <a:xfrm>
            <a:off x="3932280" y="2633760"/>
            <a:ext cx="2797200" cy="1279440"/>
            <a:chOff x="3932280" y="2633760"/>
            <a:chExt cx="2797200" cy="127944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932280" y="2633760"/>
              <a:ext cx="27972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021200" y="2725560"/>
              <a:ext cx="26258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Осень в гости к нам приш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И с собою принесла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Что? Скажите наугад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Calibri"/>
                </a:rPr>
                <a:t>Ну, конечно... (листопад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12" descr="293f21a67371.png"/>
          <p:cNvPicPr/>
          <p:nvPr/>
        </p:nvPicPr>
        <p:blipFill>
          <a:blip r:embed="rId9"/>
          <a:stretch/>
        </p:blipFill>
        <p:spPr>
          <a:xfrm>
            <a:off x="3352680" y="6383160"/>
            <a:ext cx="2210040" cy="2760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d46fa4209151.png"/>
          <p:cNvPicPr/>
          <p:nvPr/>
        </p:nvPicPr>
        <p:blipFill>
          <a:blip r:embed="rId10"/>
          <a:stretch/>
        </p:blipFill>
        <p:spPr>
          <a:xfrm>
            <a:off x="3500280" y="0"/>
            <a:ext cx="335772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aca4515aa84f.jpg"/>
          <p:cNvPicPr/>
          <p:nvPr/>
        </p:nvPicPr>
        <p:blipFill>
          <a:blip r:embed="rId11"/>
          <a:stretch/>
        </p:blipFill>
        <p:spPr>
          <a:xfrm>
            <a:off x="2209680" y="9036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4bc963e578f4.png"/>
          <p:cNvPicPr/>
          <p:nvPr/>
        </p:nvPicPr>
        <p:blipFill>
          <a:blip r:embed="rId12"/>
          <a:stretch/>
        </p:blipFill>
        <p:spPr>
          <a:xfrm>
            <a:off x="0" y="76320"/>
            <a:ext cx="2057400" cy="1706400"/>
          </a:xfrm>
          <a:prstGeom prst="rect">
            <a:avLst/>
          </a:prstGeom>
          <a:ln w="0">
            <a:noFill/>
          </a:ln>
        </p:spPr>
      </p:pic>
      <p:sp>
        <p:nvSpPr>
          <p:cNvPr id="98" name="Капля 13"/>
          <p:cNvSpPr/>
          <p:nvPr/>
        </p:nvSpPr>
        <p:spPr>
          <a:xfrm>
            <a:off x="4191120" y="6172200"/>
            <a:ext cx="152280" cy="76320"/>
          </a:xfrm>
          <a:prstGeom prst="pie">
            <a:avLst/>
          </a:prstGeom>
          <a:solidFill>
            <a:srgbClr val="99ccff">
              <a:alpha val="62000"/>
            </a:srgbClr>
          </a:solidFill>
          <a:ln cap="rnd" w="25560">
            <a:solidFill>
              <a:srgbClr val="007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Капля 18"/>
          <p:cNvSpPr/>
          <p:nvPr/>
        </p:nvSpPr>
        <p:spPr>
          <a:xfrm>
            <a:off x="4114800" y="6705720"/>
            <a:ext cx="152280" cy="152280"/>
          </a:xfrm>
          <a:prstGeom prst="pie">
            <a:avLst/>
          </a:prstGeom>
          <a:solidFill>
            <a:srgbClr val="99ccff">
              <a:alpha val="62000"/>
            </a:srgbClr>
          </a:solidFill>
          <a:ln cap="rnd" w="25560">
            <a:solidFill>
              <a:srgbClr val="007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Капля 19"/>
          <p:cNvSpPr/>
          <p:nvPr/>
        </p:nvSpPr>
        <p:spPr>
          <a:xfrm>
            <a:off x="3581280" y="7086600"/>
            <a:ext cx="152640" cy="152280"/>
          </a:xfrm>
          <a:prstGeom prst="pie">
            <a:avLst/>
          </a:prstGeom>
          <a:solidFill>
            <a:srgbClr val="99ccff">
              <a:alpha val="62000"/>
            </a:srgbClr>
          </a:solidFill>
          <a:ln cap="rnd" w="25560">
            <a:solidFill>
              <a:srgbClr val="007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Капля 20"/>
          <p:cNvSpPr/>
          <p:nvPr/>
        </p:nvSpPr>
        <p:spPr>
          <a:xfrm>
            <a:off x="5562720" y="6248520"/>
            <a:ext cx="152280" cy="152280"/>
          </a:xfrm>
          <a:prstGeom prst="pie">
            <a:avLst/>
          </a:prstGeom>
          <a:solidFill>
            <a:srgbClr val="99ccff">
              <a:alpha val="62000"/>
            </a:srgbClr>
          </a:solidFill>
          <a:ln cap="rnd" w="25560">
            <a:solidFill>
              <a:srgbClr val="007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Капля 21"/>
          <p:cNvSpPr/>
          <p:nvPr/>
        </p:nvSpPr>
        <p:spPr>
          <a:xfrm>
            <a:off x="4800600" y="6400800"/>
            <a:ext cx="152280" cy="152280"/>
          </a:xfrm>
          <a:prstGeom prst="pie">
            <a:avLst/>
          </a:prstGeom>
          <a:solidFill>
            <a:srgbClr val="99ccff">
              <a:alpha val="62000"/>
            </a:srgbClr>
          </a:solidFill>
          <a:ln cap="rnd" w="25560">
            <a:solidFill>
              <a:srgbClr val="007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Капля 22"/>
          <p:cNvSpPr/>
          <p:nvPr/>
        </p:nvSpPr>
        <p:spPr>
          <a:xfrm>
            <a:off x="4343400" y="7238880"/>
            <a:ext cx="152280" cy="152640"/>
          </a:xfrm>
          <a:prstGeom prst="pie">
            <a:avLst/>
          </a:prstGeom>
          <a:solidFill>
            <a:srgbClr val="99ccff">
              <a:alpha val="62000"/>
            </a:srgbClr>
          </a:solidFill>
          <a:ln cap="rnd" w="25560">
            <a:solidFill>
              <a:srgbClr val="007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лнце 23"/>
          <p:cNvSpPr/>
          <p:nvPr/>
        </p:nvSpPr>
        <p:spPr>
          <a:xfrm>
            <a:off x="5867280" y="7238880"/>
            <a:ext cx="304920" cy="304920"/>
          </a:xfrm>
          <a:prstGeom prst="sun">
            <a:avLst>
              <a:gd name="adj" fmla="val 33333"/>
            </a:avLst>
          </a:prstGeom>
          <a:solidFill>
            <a:srgbClr val="00b0f0"/>
          </a:solidFill>
          <a:ln cap="rnd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24"/>
          <p:cNvSpPr/>
          <p:nvPr/>
        </p:nvSpPr>
        <p:spPr>
          <a:xfrm>
            <a:off x="6400800" y="7696080"/>
            <a:ext cx="228600" cy="228600"/>
          </a:xfrm>
          <a:prstGeom prst="sun">
            <a:avLst>
              <a:gd name="adj" fmla="val 41666"/>
            </a:avLst>
          </a:prstGeom>
          <a:solidFill>
            <a:srgbClr val="00b0f0"/>
          </a:solidFill>
          <a:ln cap="rnd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лнце 25"/>
          <p:cNvSpPr/>
          <p:nvPr/>
        </p:nvSpPr>
        <p:spPr>
          <a:xfrm>
            <a:off x="6248520" y="8610480"/>
            <a:ext cx="304560" cy="304920"/>
          </a:xfrm>
          <a:prstGeom prst="sun">
            <a:avLst>
              <a:gd name="adj" fmla="val 38888"/>
            </a:avLst>
          </a:prstGeom>
          <a:solidFill>
            <a:srgbClr val="00b0f0"/>
          </a:solidFill>
          <a:ln cap="rnd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лнце 26"/>
          <p:cNvSpPr/>
          <p:nvPr/>
        </p:nvSpPr>
        <p:spPr>
          <a:xfrm>
            <a:off x="6324480" y="6858000"/>
            <a:ext cx="228600" cy="228600"/>
          </a:xfrm>
          <a:prstGeom prst="sun">
            <a:avLst>
              <a:gd name="adj" fmla="val 46875"/>
            </a:avLst>
          </a:prstGeom>
          <a:solidFill>
            <a:srgbClr val="00b0f0"/>
          </a:solidFill>
          <a:ln cap="rnd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7"/>
          <p:cNvSpPr/>
          <p:nvPr/>
        </p:nvSpPr>
        <p:spPr>
          <a:xfrm>
            <a:off x="5791320" y="8001000"/>
            <a:ext cx="304560" cy="304920"/>
          </a:xfrm>
          <a:prstGeom prst="sun">
            <a:avLst>
              <a:gd name="adj" fmla="val 33333"/>
            </a:avLst>
          </a:prstGeom>
          <a:solidFill>
            <a:srgbClr val="00b0f0"/>
          </a:solidFill>
          <a:ln cap="rnd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Овал 9"/>
          <p:cNvSpPr/>
          <p:nvPr/>
        </p:nvSpPr>
        <p:spPr>
          <a:xfrm>
            <a:off x="4114800" y="228600"/>
            <a:ext cx="2514600" cy="4114800"/>
          </a:xfrm>
          <a:prstGeom prst="ellipse">
            <a:avLst/>
          </a:prstGeom>
          <a:solidFill>
            <a:srgbClr val="ffffff">
              <a:alpha val="75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2987640" y="8400960"/>
            <a:ext cx="3625920" cy="749520"/>
          </a:xfrm>
          <a:prstGeom prst="rect">
            <a:avLst/>
          </a:prstGeom>
          <a:ln w="0">
            <a:noFill/>
          </a:ln>
        </p:spPr>
      </p:pic>
      <p:sp>
        <p:nvSpPr>
          <p:cNvPr id="111" name="Загнутый угол 4"/>
          <p:cNvSpPr/>
          <p:nvPr/>
        </p:nvSpPr>
        <p:spPr>
          <a:xfrm>
            <a:off x="152280" y="152280"/>
            <a:ext cx="3581640" cy="39625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e3bbb2"/>
              </a:gs>
              <a:gs pos="100000">
                <a:srgbClr val="f8edea"/>
              </a:gs>
            </a:gsLst>
            <a:lin ang="16200000"/>
          </a:gradFill>
          <a:ln cap="rnd" w="9360">
            <a:solidFill>
              <a:srgbClr val="935f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Уж небо осенью дыш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Уж реже солнышко блист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Короче становился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Лесов таинственная 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С печальным шумом обнажа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Ложился на поля тум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Гусей крикливых кара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Тянулся к югу: приближ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Довольно скучная п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Стоял ноябрь уж у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2217"/>
                </a:solidFill>
                <a:latin typeface="Calibri"/>
              </a:rPr>
              <a:t>(А. С. Пушк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нутый угол 5"/>
          <p:cNvSpPr/>
          <p:nvPr/>
        </p:nvSpPr>
        <p:spPr>
          <a:xfrm>
            <a:off x="2438280" y="4800600"/>
            <a:ext cx="4343400" cy="30481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d5cacb"/>
              </a:gs>
              <a:gs pos="100000">
                <a:srgbClr val="f4f0f1"/>
              </a:gs>
            </a:gsLst>
            <a:lin ang="16200000"/>
          </a:gradFill>
          <a:ln cap="rnd" w="9360">
            <a:solidFill>
              <a:srgbClr val="8e818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Есть в осени перво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Короткая, но дивная пора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Весь день стоит как бы хрусталь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И лучезарны вечер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Пустеет воздух, птиц не слышно бо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Но далеко еще до первых зимних бу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И льется чистая и теплая лазу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На отдыхающее поле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Arial"/>
                <a:ea typeface="Arial"/>
              </a:rPr>
              <a:t>(Ф. Тютч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7" descr="e3c3c9df52bb.png"/>
          <p:cNvPicPr/>
          <p:nvPr/>
        </p:nvPicPr>
        <p:blipFill>
          <a:blip r:embed="rId2"/>
          <a:stretch/>
        </p:blipFill>
        <p:spPr>
          <a:xfrm>
            <a:off x="0" y="6043680"/>
            <a:ext cx="3505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3"/>
          <p:cNvSpPr/>
          <p:nvPr/>
        </p:nvSpPr>
        <p:spPr>
          <a:xfrm>
            <a:off x="3581280" y="3200400"/>
            <a:ext cx="3048120" cy="2286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228600" y="152280"/>
            <a:ext cx="2514600" cy="312444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-139680" y="8400960"/>
            <a:ext cx="3625920" cy="749520"/>
          </a:xfrm>
          <a:prstGeom prst="rect">
            <a:avLst/>
          </a:prstGeom>
          <a:ln w="0">
            <a:noFill/>
          </a:ln>
        </p:spPr>
      </p:pic>
      <p:grpSp>
        <p:nvGrpSpPr>
          <p:cNvPr id="117" name="Загнутый угол 4"/>
          <p:cNvGrpSpPr/>
          <p:nvPr/>
        </p:nvGrpSpPr>
        <p:grpSpPr>
          <a:xfrm>
            <a:off x="3108240" y="133200"/>
            <a:ext cx="3616560" cy="2934000"/>
            <a:chOff x="3108240" y="133200"/>
            <a:chExt cx="3616560" cy="2934000"/>
          </a:xfrm>
        </p:grpSpPr>
        <p:pic>
          <p:nvPicPr>
            <p:cNvPr id="118" name="Загнутый угол 4" descr=""/>
            <p:cNvPicPr/>
            <p:nvPr/>
          </p:nvPicPr>
          <p:blipFill>
            <a:blip r:embed="rId2"/>
            <a:stretch/>
          </p:blipFill>
          <p:spPr>
            <a:xfrm>
              <a:off x="3108240" y="133200"/>
              <a:ext cx="3616560" cy="29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124080" y="152280"/>
              <a:ext cx="3581640" cy="24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Еще вчера, на солнце мле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Последним лес дрожал листо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И озимь, пышно зелене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Лежала бархатным ковр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...Сегодня вдруг исчезло лет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Бело, безжизненно круго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Земля и небо — все одето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Times New Roman"/>
                  <a:ea typeface="Times New Roman"/>
                </a:rPr>
                <a:t>Каким-то тусклым серебром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4a3d"/>
                  </a:solidFill>
                  <a:latin typeface="Calibri"/>
                </a:rPr>
                <a:t>(А. Фе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Загнутый угол 5"/>
          <p:cNvSpPr/>
          <p:nvPr/>
        </p:nvSpPr>
        <p:spPr>
          <a:xfrm>
            <a:off x="152280" y="3200400"/>
            <a:ext cx="2895840" cy="35812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d8bbbb"/>
              </a:gs>
              <a:gs pos="100000">
                <a:srgbClr val="f5eded"/>
              </a:gs>
            </a:gsLst>
            <a:lin ang="16200000"/>
          </a:gradFill>
          <a:ln cap="rnd" w="9360">
            <a:solidFill>
              <a:srgbClr val="835a5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НА ЗИМ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Шуршащей вере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За солнышком вдого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Летят над нами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В далёкую сторо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Летят они к зим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А во дворе, на холо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Прищепки на верё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Как ласточки на про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4646"/>
                </a:solidFill>
                <a:latin typeface="Calibri"/>
              </a:rPr>
              <a:t>(В. Ор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нутый угол 6"/>
          <p:cNvSpPr/>
          <p:nvPr/>
        </p:nvSpPr>
        <p:spPr>
          <a:xfrm>
            <a:off x="3429000" y="5486400"/>
            <a:ext cx="3276720" cy="35053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Нивы сжаты, рощи гол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От воды туман и сыр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Колесом за сини г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Солнце тихое скат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Дремлет взрытая дор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Ей сегодня примечта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Что совсем-совсем не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4733"/>
                </a:solidFill>
                <a:latin typeface="Times New Roman"/>
                <a:ea typeface="Times New Roman"/>
              </a:rPr>
              <a:t>Ждать зимы седой осталось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4733"/>
                </a:solidFill>
                <a:latin typeface="Verdana"/>
              </a:rPr>
              <a:t>(С. Есен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8" descr="942229dfd3e2.png"/>
          <p:cNvPicPr/>
          <p:nvPr/>
        </p:nvPicPr>
        <p:blipFill>
          <a:blip r:embed="rId3"/>
          <a:stretch/>
        </p:blipFill>
        <p:spPr>
          <a:xfrm>
            <a:off x="457200" y="76320"/>
            <a:ext cx="220824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249282016873.png"/>
          <p:cNvPicPr/>
          <p:nvPr/>
        </p:nvPicPr>
        <p:blipFill>
          <a:blip r:embed="rId4"/>
          <a:stretch/>
        </p:blipFill>
        <p:spPr>
          <a:xfrm>
            <a:off x="533520" y="6934320"/>
            <a:ext cx="1752480" cy="1741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1" descr="4bc963e578f4.png"/>
          <p:cNvPicPr/>
          <p:nvPr/>
        </p:nvPicPr>
        <p:blipFill>
          <a:blip r:embed="rId5"/>
          <a:stretch/>
        </p:blipFill>
        <p:spPr>
          <a:xfrm>
            <a:off x="3733920" y="3352680"/>
            <a:ext cx="22096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А</dc:creator>
  <dc:description/>
  <dc:language>en-US</dc:language>
  <cp:lastModifiedBy>User</cp:lastModifiedBy>
  <dcterms:modified xsi:type="dcterms:W3CDTF">2017-09-12T10:48:30Z</dcterms:modified>
  <cp:revision>58</cp:revision>
  <dc:subject/>
  <dc:title>Слайд 1</dc:title>
</cp:coreProperties>
</file>