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316-8006-4B6A-8B4D-5F0B008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0CF-B379-412A-969F-D7BCC8F7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B79-F248-4B72-BF7B-E652DA3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6D2-8DFC-4741-9964-B08EEC39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F94-80AA-4FFC-A557-C6DB535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0CC-EE9B-49EF-B289-2619254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479-619E-417F-B45B-77ED09EE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CBE2-2CD5-49DE-BD3C-D41B790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453-95D0-4D49-9738-7ECE0B28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7237-4108-4F16-ABE4-0F721F5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F64D-8D2A-4B59-AB43-633F8C25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AEF-BB9C-4DA3-AB73-72EB210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8AC-EBCA-405D-A1A8-BB13B2A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D95-851D-4B26-BB4E-DE9EA08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8785-35C6-4A74-90B8-5C7FC1F5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CCA2-21DD-443F-BDDC-EADB0B4F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BB89-FF0A-42A5-AAEE-6A112AE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849-94CE-4606-B16B-5D53812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9C-783B-4F2E-B715-3DCE8A28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D45-51C1-45EE-BEA6-410FC47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2CB-5DFE-427E-AFC0-8B46723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CA3-7F52-49E0-89E7-D9C4B01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15F-466F-4259-8668-CB342DB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831-DB8C-4A30-AA02-18B88B1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4DA-567B-47B5-AF80-D6BD374B6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9" descr="3397784.png"/>
          <p:cNvPicPr/>
          <p:nvPr/>
        </p:nvPicPr>
        <p:blipFill>
          <a:blip r:embed="rId2"/>
          <a:stretch/>
        </p:blipFill>
        <p:spPr>
          <a:xfrm>
            <a:off x="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0" descr="3397784.png"/>
          <p:cNvPicPr/>
          <p:nvPr/>
        </p:nvPicPr>
        <p:blipFill>
          <a:blip r:embed="rId3"/>
          <a:stretch/>
        </p:blipFill>
        <p:spPr>
          <a:xfrm>
            <a:off x="731520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1" descr="3397784.png"/>
          <p:cNvPicPr/>
          <p:nvPr/>
        </p:nvPicPr>
        <p:blipFill>
          <a:blip r:embed="rId4"/>
          <a:stretch/>
        </p:blipFill>
        <p:spPr>
          <a:xfrm>
            <a:off x="594036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2" descr="3397784.png"/>
          <p:cNvPicPr/>
          <p:nvPr/>
        </p:nvPicPr>
        <p:blipFill>
          <a:blip r:embed="rId5"/>
          <a:stretch/>
        </p:blipFill>
        <p:spPr>
          <a:xfrm>
            <a:off x="450072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3397784.png"/>
          <p:cNvPicPr/>
          <p:nvPr/>
        </p:nvPicPr>
        <p:blipFill>
          <a:blip r:embed="rId6"/>
          <a:stretch/>
        </p:blipFill>
        <p:spPr>
          <a:xfrm>
            <a:off x="305928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4" descr="3397784.png"/>
          <p:cNvPicPr/>
          <p:nvPr/>
        </p:nvPicPr>
        <p:blipFill>
          <a:blip r:embed="rId7"/>
          <a:stretch/>
        </p:blipFill>
        <p:spPr>
          <a:xfrm>
            <a:off x="1619280" y="5380200"/>
            <a:ext cx="1828800" cy="1477800"/>
          </a:xfrm>
          <a:prstGeom prst="rect">
            <a:avLst/>
          </a:prstGeom>
          <a:ln w="0">
            <a:noFill/>
          </a:ln>
        </p:spPr>
      </p:pic>
      <p:sp>
        <p:nvSpPr>
          <p:cNvPr id="1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77933c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9" descr="3397784.png"/>
          <p:cNvPicPr/>
          <p:nvPr/>
        </p:nvPicPr>
        <p:blipFill>
          <a:blip r:embed="rId2"/>
          <a:stretch/>
        </p:blipFill>
        <p:spPr>
          <a:xfrm>
            <a:off x="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3397784.png"/>
          <p:cNvPicPr/>
          <p:nvPr/>
        </p:nvPicPr>
        <p:blipFill>
          <a:blip r:embed="rId3"/>
          <a:stretch/>
        </p:blipFill>
        <p:spPr>
          <a:xfrm>
            <a:off x="731520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3397784.png"/>
          <p:cNvPicPr/>
          <p:nvPr/>
        </p:nvPicPr>
        <p:blipFill>
          <a:blip r:embed="rId4"/>
          <a:stretch/>
        </p:blipFill>
        <p:spPr>
          <a:xfrm>
            <a:off x="594036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3397784.png"/>
          <p:cNvPicPr/>
          <p:nvPr/>
        </p:nvPicPr>
        <p:blipFill>
          <a:blip r:embed="rId5"/>
          <a:stretch/>
        </p:blipFill>
        <p:spPr>
          <a:xfrm>
            <a:off x="450072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3397784.png"/>
          <p:cNvPicPr/>
          <p:nvPr/>
        </p:nvPicPr>
        <p:blipFill>
          <a:blip r:embed="rId6"/>
          <a:stretch/>
        </p:blipFill>
        <p:spPr>
          <a:xfrm>
            <a:off x="3059280" y="5380200"/>
            <a:ext cx="1828800" cy="1477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3397784.png"/>
          <p:cNvPicPr/>
          <p:nvPr/>
        </p:nvPicPr>
        <p:blipFill>
          <a:blip r:embed="rId7"/>
          <a:stretch/>
        </p:blipFill>
        <p:spPr>
          <a:xfrm>
            <a:off x="1619280" y="5380200"/>
            <a:ext cx="1828800" cy="1477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77933c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Компас\Pictures\блестки.png"/>
          <p:cNvPicPr/>
          <p:nvPr/>
        </p:nvPicPr>
        <p:blipFill>
          <a:blip r:embed="rId8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3B45-EC7A-43E7-A719-D616562F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2349360"/>
            <a:ext cx="82296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тский сад №19 «Ален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.Шеп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униципа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уапс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Impact"/>
              </a:rPr>
              <a:t>Предполагаемый продукт проекта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витие творческих способностей детей посредством нетрадиционного рис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ыставка творческих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ивлечения родителей к деятельности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ноябрь 034"/>
          <p:cNvPicPr/>
          <p:nvPr/>
        </p:nvPicPr>
        <p:blipFill>
          <a:blip r:embed="rId1"/>
          <a:stretch/>
        </p:blipFill>
        <p:spPr>
          <a:xfrm>
            <a:off x="5580000" y="1197000"/>
            <a:ext cx="3241800" cy="230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62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. Подготов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.Содержа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. Аналитиче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234"/>
          <p:cNvPicPr/>
          <p:nvPr/>
        </p:nvPicPr>
        <p:blipFill>
          <a:blip r:embed="rId2"/>
          <a:stretch/>
        </p:blipFill>
        <p:spPr>
          <a:xfrm>
            <a:off x="3995640" y="3645000"/>
            <a:ext cx="3168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Образовательная область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Речевое развитие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 Рассматривание картин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художественной литератур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витие словаря(новые слова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художественное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 Материалы д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традиционного рис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мат 1"/>
          <p:cNvPicPr/>
          <p:nvPr/>
        </p:nvPicPr>
        <p:blipFill>
          <a:blip r:embed="rId1"/>
          <a:stretch/>
        </p:blipFill>
        <p:spPr>
          <a:xfrm>
            <a:off x="5867280" y="2492280"/>
            <a:ext cx="3035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Calibri"/>
              </a:rPr>
              <a:t>Образовательная область</a:t>
            </a:r>
            <a:br>
              <a:rPr sz="36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«Познавательное развитие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7" descr="мат2"/>
          <p:cNvPicPr/>
          <p:nvPr/>
        </p:nvPicPr>
        <p:blipFill>
          <a:blip r:embed="rId1"/>
          <a:stretch/>
        </p:blipFill>
        <p:spPr>
          <a:xfrm>
            <a:off x="324000" y="4076640"/>
            <a:ext cx="4038480" cy="192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496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ть условия для обогащение опыта детей, их представлений о многообразии материалов для нетрадиционного ри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0" descr="мат 3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Образовательная область</a:t>
            </a:r>
            <a:r>
              <a:rPr b="0" lang="en-US" sz="4000" spc="-1" strike="noStrike">
                <a:solidFill>
                  <a:srgbClr val="0000ff"/>
                </a:solidFill>
                <a:latin typeface="Impact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Художественно-эстетическое развитие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9" descr="бю"/>
          <p:cNvPicPr/>
          <p:nvPr/>
        </p:nvPicPr>
        <p:blipFill>
          <a:blip r:embed="rId1"/>
          <a:stretch/>
        </p:blipFill>
        <p:spPr>
          <a:xfrm>
            <a:off x="2627280" y="2133720"/>
            <a:ext cx="40384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Образовательная область</a:t>
            </a:r>
            <a:r>
              <a:rPr b="0" lang="en-US" sz="4000" spc="-1" strike="noStrike">
                <a:solidFill>
                  <a:srgbClr val="0000ff"/>
                </a:solidFill>
                <a:latin typeface="Impact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Физическое развитие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Держим кисточк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Держим кисточку вот так:                                                                              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Это трудно? Нет, пустяк!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право – влево, вверх и вниз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бежала наша ки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А потом, а потом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источка бежит кругом.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Закрутилась, как вол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За тычком идет тычо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572000" y="1628640"/>
            <a:ext cx="354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284720" y="1773360"/>
            <a:ext cx="43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  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«Пальч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Мы сегодня рисовали,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ши пальчики у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усть немного отдохнут,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нова рисовать нач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ружно локти отведем,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нова рисовать нач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ыставка творческих работ детей и родителей.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Мир волшебных превраще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765"/>
          <p:cNvPicPr/>
          <p:nvPr/>
        </p:nvPicPr>
        <p:blipFill>
          <a:blip r:embed="rId1"/>
          <a:stretch/>
        </p:blipFill>
        <p:spPr>
          <a:xfrm>
            <a:off x="766800" y="3938760"/>
            <a:ext cx="3417840" cy="218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17"/>
          <p:cNvPicPr/>
          <p:nvPr/>
        </p:nvPicPr>
        <p:blipFill>
          <a:blip r:embed="rId2"/>
          <a:stretch/>
        </p:blipFill>
        <p:spPr>
          <a:xfrm>
            <a:off x="5433840" y="410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р654"/>
          <p:cNvPicPr/>
          <p:nvPr/>
        </p:nvPicPr>
        <p:blipFill>
          <a:blip r:embed="rId3"/>
          <a:stretch/>
        </p:blipFill>
        <p:spPr>
          <a:xfrm>
            <a:off x="4859280" y="1628640"/>
            <a:ext cx="3119400" cy="209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бьт"/>
          <p:cNvPicPr/>
          <p:nvPr/>
        </p:nvPicPr>
        <p:blipFill>
          <a:blip r:embed="rId4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.Е. Н. Лебедева «Использование нетрадиционных техник в формировании изобразительной деятельности дошкольник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2. А. А. Фатеева «Рисуем без кисточки»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3. О. Г. Жукова, И. И. Дьяченко «Волшебные ладошки», «Волшебные крас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А.Грек «Рисую штрихом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5.  К. К. Утробина, Г. Ф. Утробин «Увлекательное рисование методом ты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6. А. М. Страунинг «Развитие творческого воображения дошкольников на занятиях по изобразительной деятельност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7 Давыдова Г.Н. «Нетрадиционные техники рисования в детском саду» - М.,2007 г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.И.А.Лыкова «Изобразительная деятельность в детском саду»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50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5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Arial"/>
              </a:rPr>
              <a:t>«Мы открываем разноцветный ми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нетрадицио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 рис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р: воспитатель старшей 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дакчян Г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БДОУ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ДС №19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Алёнушка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с. Шеп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 рисую на пес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овно мелом на до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сто палочкой черч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что только захо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о ежик, это к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о бабочка лети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сто здесь для всех реб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рисуют все твор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В связи с переходом на ФГОС в своей работе использовала следующие принцип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. Формирование художественно – эстетических кач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. Построение образовательной деятельности на основе индивидуальных особенностей каждого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3. Формирование познавательных интересов детей через использование нетрадиционного рис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. Сотрудничества ДО с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Содействовать знакомству родителей с нетрадиционными техниками рисования, стимулировать их совместное творчество с дет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 Творческая личность имеет больше шансов для успешного обучения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витие интере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етей к изобразитель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еятельности и творчес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активности в проце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воения нетрадицио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хник рис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5364000" y="2133720"/>
            <a:ext cx="34671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Развивать художественно-творческие способности детей дошкольного возраста с применением различных 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развивать воображение, восприятие, мелкую моторику рук и фантазию при помощи нетрадиционного ри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 создавать условия для свободного экспериментирования с художественными материалами и инструмен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 Формирование творческой личности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ноябрь 032"/>
          <p:cNvPicPr/>
          <p:nvPr/>
        </p:nvPicPr>
        <p:blipFill>
          <a:blip r:embed="rId1"/>
          <a:stretch/>
        </p:blipFill>
        <p:spPr>
          <a:xfrm>
            <a:off x="248436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4508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оспитатель, дети старшей группы, 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360" y="115920"/>
            <a:ext cx="4691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Тип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знавательно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вор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олгосрочный (1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Пробле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уме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спользовать многообраз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ехник и способ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ля соз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художественного об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1"/>
          <p:cNvPicPr/>
          <p:nvPr/>
        </p:nvPicPr>
        <p:blipFill>
          <a:blip r:embed="rId1"/>
          <a:stretch/>
        </p:blipFill>
        <p:spPr>
          <a:xfrm>
            <a:off x="539640" y="1700280"/>
            <a:ext cx="4116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08:08Z</dcterms:created>
  <dc:creator>Компас</dc:creator>
  <dc:description/>
  <dc:language>en-US</dc:language>
  <cp:lastModifiedBy>Windows User</cp:lastModifiedBy>
  <dcterms:modified xsi:type="dcterms:W3CDTF">2017-09-12T14:31:16Z</dcterms:modified>
  <cp:revision>9</cp:revision>
  <dc:subject/>
  <dc:title>Слайд 1</dc:title>
</cp:coreProperties>
</file>