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3B7-2D84-44D3-A79B-CE3E468C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2CAE-3E45-4081-84A6-5AF2A1AD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C3F-65FA-4CBD-95D0-493A64CF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D054-6EDD-4419-84F5-5B7BF6BA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6D4-2795-4CFF-9FF6-1D5D8E65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7687-DC50-491E-9274-BB1BD521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4399-E806-460D-8095-8125089E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69E-291D-4B5F-BF24-B308F43E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D6C-913C-4E33-A7CE-918AB272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C00-D092-4572-B333-18564EAE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C3C4-BF99-4025-81AB-B7A2EAAC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6A4-0D56-426C-AC59-EBFD824E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5731-3E00-4546-AC8F-0DC638B908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wpbf619047"/>
          <p:cNvPicPr/>
          <p:nvPr/>
        </p:nvPicPr>
        <p:blipFill>
          <a:blip r:embed="rId2"/>
          <a:stretch/>
        </p:blipFill>
        <p:spPr>
          <a:xfrm>
            <a:off x="3132000" y="177336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NATURAL DISAST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Arial"/>
              </a:rPr>
              <a:t>Tsuna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3848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o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urviv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o be bu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Huge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ieces of 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o pull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o be resc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2421000"/>
            <a:ext cx="40384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Injured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mergency first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Horrific lit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treet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o gen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o 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o lose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lavina2"/>
          <p:cNvPicPr/>
          <p:nvPr/>
        </p:nvPicPr>
        <p:blipFill>
          <a:blip r:embed="rId2"/>
          <a:stretch/>
        </p:blipFill>
        <p:spPr>
          <a:xfrm>
            <a:off x="395280" y="907920"/>
            <a:ext cx="4105440" cy="2737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DETAIL_PICTURE_523565"/>
          <p:cNvPicPr/>
          <p:nvPr/>
        </p:nvPicPr>
        <p:blipFill>
          <a:blip r:embed="rId3"/>
          <a:stretch/>
        </p:blipFill>
        <p:spPr>
          <a:xfrm>
            <a:off x="4716360" y="907920"/>
            <a:ext cx="3959280" cy="2737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74256586_zasuha_v_Meksike_may_2011"/>
          <p:cNvPicPr/>
          <p:nvPr/>
        </p:nvPicPr>
        <p:blipFill>
          <a:blip r:embed="rId4"/>
          <a:stretch/>
        </p:blipFill>
        <p:spPr>
          <a:xfrm>
            <a:off x="395280" y="3860640"/>
            <a:ext cx="4111560" cy="266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1fdc313322"/>
          <p:cNvPicPr/>
          <p:nvPr/>
        </p:nvPicPr>
        <p:blipFill>
          <a:blip r:embed="rId5"/>
          <a:stretch/>
        </p:blipFill>
        <p:spPr>
          <a:xfrm>
            <a:off x="4716360" y="3860640"/>
            <a:ext cx="4032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1_tormenta"/>
          <p:cNvPicPr/>
          <p:nvPr/>
        </p:nvPicPr>
        <p:blipFill>
          <a:blip r:embed="rId2"/>
          <a:stretch/>
        </p:blipFill>
        <p:spPr>
          <a:xfrm>
            <a:off x="395280" y="1052640"/>
            <a:ext cx="4105440" cy="266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1352616475"/>
          <p:cNvPicPr/>
          <p:nvPr/>
        </p:nvPicPr>
        <p:blipFill>
          <a:blip r:embed="rId3"/>
          <a:stretch/>
        </p:blipFill>
        <p:spPr>
          <a:xfrm>
            <a:off x="4716360" y="1052640"/>
            <a:ext cx="4103640" cy="273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5138119_600x400"/>
          <p:cNvPicPr/>
          <p:nvPr/>
        </p:nvPicPr>
        <p:blipFill>
          <a:blip r:embed="rId4"/>
          <a:stretch/>
        </p:blipFill>
        <p:spPr>
          <a:xfrm>
            <a:off x="395280" y="4076640"/>
            <a:ext cx="4105440" cy="259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26131511"/>
          <p:cNvPicPr/>
          <p:nvPr/>
        </p:nvPicPr>
        <p:blipFill>
          <a:blip r:embed="rId5"/>
          <a:stretch/>
        </p:blipFill>
        <p:spPr>
          <a:xfrm>
            <a:off x="4716360" y="4076640"/>
            <a:ext cx="4103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ut the letters in the correct order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27280" y="2637000"/>
            <a:ext cx="6059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 Black"/>
              </a:rPr>
              <a:t>r g u h o t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 Black"/>
              </a:rPr>
              <a:t>a e k u q r e h a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 Black"/>
              </a:rPr>
              <a:t>h a v c e a l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 Black"/>
              </a:rPr>
              <a:t>c r h r i u e 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 Black"/>
              </a:rPr>
              <a:t>o o d f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 Black"/>
              </a:rPr>
              <a:t>n t i s a m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 Black"/>
              </a:rPr>
              <a:t>a t d o r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800" spc="-1" strike="noStrike">
                <a:solidFill>
                  <a:srgbClr val="ffff66"/>
                </a:solidFill>
                <a:latin typeface="Arial Black"/>
              </a:rPr>
              <a:t>People are destroying nature themselves and all natural disasters are man’s creation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Nature is our home. We must save it and it will save u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4:13:05Z</dcterms:created>
  <dc:creator>Kbebeshina@mail.ru</dc:creator>
  <dc:description/>
  <dc:language>en-US</dc:language>
  <cp:lastModifiedBy>Пользователь Windows</cp:lastModifiedBy>
  <dcterms:modified xsi:type="dcterms:W3CDTF">2017-08-31T15:55:57Z</dcterms:modified>
  <cp:revision>9</cp:revision>
  <dc:subject/>
  <dc:title>Слайд 1</dc:title>
</cp:coreProperties>
</file>