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183-ABB6-4762-9D00-3EE13D48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1C3-858C-488C-BC29-5BF8825C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DCF-0051-4ED2-A555-7393B1F4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1CD-5007-41D2-B790-8A92C9B1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54E-BAE8-41F9-9CA3-1DBD57E8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E8A-5B28-4E88-A6EC-3D2330C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357-46BB-4D1E-9369-3D66A1AC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6A1-0AB5-4362-A71B-CFA5E35B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EB2-27BB-4FF3-AD0B-AD8F917B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625-A97B-409D-9EC1-07FA567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FD7-83CC-48C9-86C9-DA30AE6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C31-8016-4834-9F6D-AF136CA2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5E4E-B269-4706-B72E-241AAB3888F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000" y="119700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го Величество – Учитель!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проектно-исследовательская деятельност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1212"/>
          <p:cNvPicPr/>
          <p:nvPr/>
        </p:nvPicPr>
        <p:blipFill>
          <a:blip r:embed="rId1"/>
          <a:stretch/>
        </p:blipFill>
        <p:spPr>
          <a:xfrm>
            <a:off x="539640" y="2349360"/>
            <a:ext cx="8280360" cy="410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00720" y="5805360"/>
            <a:ext cx="4319280" cy="93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Выполнил: Родионов Артём Дмитриевич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ученик 2 «Б» кла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Руководитель работы: Евдокимова Ирина Петровн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r>
              <a:rPr b="1" i="1" lang="ru-RU" sz="14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468360" y="47628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55640" y="48276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«Берёзовская средняя образовательная школа № 1 имени Е. К. Зырянов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0920" y="692280"/>
            <a:ext cx="5185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594da"/>
                </a:solidFill>
                <a:latin typeface="Calibri"/>
              </a:rPr>
              <a:t>Пассивный мет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28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Цель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и доказательство, что учителем быть трудно, но величестве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Задачи исследов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винуть гипотезу об оценке учительского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снить плюсы и минусы профессии учителя с точки зрения учителей 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оставить точки зрения учителей и учащихся и сделать общий выв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елать книжку-раскладушку «Берегите учителей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Лента лицом вниз 8"/>
          <p:cNvSpPr/>
          <p:nvPr/>
        </p:nvSpPr>
        <p:spPr>
          <a:xfrm>
            <a:off x="1187280" y="500040"/>
            <a:ext cx="7272360" cy="768240"/>
          </a:xfrm>
          <a:custGeom>
            <a:avLst/>
            <a:gdLst>
              <a:gd name="textAreaLeft" fmla="*/ 1818000 w 7272360"/>
              <a:gd name="textAreaRight" fmla="*/ 5454360 w 7272360"/>
              <a:gd name="textAreaTop" fmla="*/ 12780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48000" y="1599840"/>
            <a:ext cx="353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рение у учителей -  из 14 педагогов проблемы со зрением у 8 человек (57%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ительская «зарядка» - если учитель в школе  проработал 25 лет, то он прошёл по классу расстояние около 78 км, что способствует сохранению физического здоровь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 учителей, которые бы не улыбались. Настроение учителя на уроке зависит от подготовки и поведения учащихс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 учителей всегда хорошая память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14600" y="464760"/>
            <a:ext cx="4114800" cy="952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, влияющие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труд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:\Users\Евдокимов\Desktop\ДЛЯ РАБОТЫ ВО  2 Б КЛАССЕ\Учителя фото 18.12.15\IMG_2228.jpg"/>
          <p:cNvPicPr/>
          <p:nvPr/>
        </p:nvPicPr>
        <p:blipFill>
          <a:blip r:embed="rId1"/>
          <a:stretch/>
        </p:blipFill>
        <p:spPr>
          <a:xfrm>
            <a:off x="324000" y="1989000"/>
            <a:ext cx="48243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8000" y="177300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Лента лицом вниз 2"/>
          <p:cNvSpPr/>
          <p:nvPr/>
        </p:nvSpPr>
        <p:spPr>
          <a:xfrm>
            <a:off x="108000" y="189000"/>
            <a:ext cx="8928000" cy="1439640"/>
          </a:xfrm>
          <a:custGeom>
            <a:avLst/>
            <a:gdLst>
              <a:gd name="textAreaLeft" fmla="*/ 2232000 w 8928000"/>
              <a:gd name="textAreaRight" fmla="*/ 6696000 w 8928000"/>
              <a:gd name="textAreaTop" fmla="*/ 23976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амые популярные «плюсы» и «минусы» в работе уч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шей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Диаграмма 1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961080" cy="4176720"/>
          </a:xfrm>
          <a:prstGeom prst="rect">
            <a:avLst/>
          </a:prstGeom>
          <a:ln w="0">
            <a:noFill/>
          </a:ln>
        </p:spPr>
      </p:pic>
      <p:pic>
        <p:nvPicPr>
          <p:cNvPr id="55" name="Диаграмма 1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3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1628280"/>
            <a:ext cx="7991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Лента лицом вниз 6"/>
          <p:cNvSpPr/>
          <p:nvPr/>
        </p:nvSpPr>
        <p:spPr>
          <a:xfrm>
            <a:off x="468360" y="189000"/>
            <a:ext cx="8496360" cy="1224000"/>
          </a:xfrm>
          <a:custGeom>
            <a:avLst/>
            <a:gdLst>
              <a:gd name="textAreaLeft" fmla="*/ 2124000 w 8496360"/>
              <a:gd name="textAreaRight" fmla="*/ 6372360 w 8496360"/>
              <a:gd name="textAreaTop" fmla="*/ 20376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ы анкетирования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3" descr="C:\Users\Евдокимов\Desktop\КАРТИНКИ 2\картинки\i.jpg"/>
          <p:cNvPicPr/>
          <p:nvPr/>
        </p:nvPicPr>
        <p:blipFill>
          <a:blip r:embed="rId1"/>
          <a:stretch/>
        </p:blipFill>
        <p:spPr>
          <a:xfrm>
            <a:off x="6838920" y="5129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1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991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Евдокимов\Desktop\IMG_7049.jpg"/>
          <p:cNvPicPr/>
          <p:nvPr/>
        </p:nvPicPr>
        <p:blipFill>
          <a:blip r:embed="rId1"/>
          <a:stretch/>
        </p:blipFill>
        <p:spPr>
          <a:xfrm>
            <a:off x="135000" y="2492280"/>
            <a:ext cx="328464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446920" y="620280"/>
            <a:ext cx="4392720" cy="18007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клет </a:t>
            </a:r>
            <a:br>
              <a:rPr sz="36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Улыбайтесь, дорогие    учителя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Ирина\Мои документы\Мои рисунки\442df74900a6.gif"/>
          <p:cNvPicPr/>
          <p:nvPr/>
        </p:nvPicPr>
        <p:blipFill>
          <a:blip r:embed="rId2"/>
          <a:stretch/>
        </p:blipFill>
        <p:spPr>
          <a:xfrm>
            <a:off x="108000" y="26028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Евдокимов\Desktop\Ирина Петровна моя\ШКОЛА ВСЕ ФОТО\фото 2 класс б 2016 год\IMG_4182.JPG"/>
          <p:cNvPicPr/>
          <p:nvPr/>
        </p:nvPicPr>
        <p:blipFill>
          <a:blip r:embed="rId3"/>
          <a:stretch/>
        </p:blipFill>
        <p:spPr>
          <a:xfrm>
            <a:off x="3635280" y="2565360"/>
            <a:ext cx="532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664000" cy="2179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- человек, котор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ет   делать трудные вещи легкими.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. Эмерс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доказал свою гипотезу «Быть учителем трудно, новеличествен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агаю всем ученикам объединиться и научиться сохранять здоровье своих педагогов. Для этого надо совсем немног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ять вовремя и всегда все домашние зад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ти себя на уроках и переменах культурно и уважительно по отношению к учител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ренне интересоваться  успехами своих учителей и помогать им всегда и во всё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этого я создал буклет «Улыбайтесь, дорогие учителя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14600" y="464760"/>
            <a:ext cx="4114800" cy="952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6:38:45Z</dcterms:created>
  <dc:creator>User</dc:creator>
  <dc:description/>
  <dc:language>en-US</dc:language>
  <cp:lastModifiedBy>Евдокимов</cp:lastModifiedBy>
  <dcterms:modified xsi:type="dcterms:W3CDTF">2016-02-27T12:54:44Z</dcterms:modified>
  <cp:revision>228</cp:revision>
  <dc:subject/>
  <dc:title>Слайд 1</dc:title>
</cp:coreProperties>
</file>