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AE1-948C-4888-A7CF-2336B096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A42-6BE4-4348-9ACE-A712C8B0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F25-4ECD-4FE0-8722-7FEE1FC2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494-591E-4E26-B529-D061480D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5962-FB20-4AA0-BF28-A45FC405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421-17B8-4837-B88D-DF1BFFA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8EA6-2260-42EF-9BCC-D6A1B49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F422-303C-49B8-90DA-FBF7708A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AF5-7DD3-4A55-94D7-B64DF0E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695F-57BA-4F67-AD9E-1867328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341-C1D7-4748-8ACA-FFFAA65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B29-5437-46BD-87FA-6E6FDD2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D696-F427-4B24-8638-D39CA95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5F8-70AC-45D1-BC60-42B0390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D698-88AF-4129-A81C-DBFE0EEA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17DF-4EE1-47B7-AC23-BF757F21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CBAB-29FA-4A02-9C09-AE273606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E06-000B-4F3F-9EC3-4248618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56E-F75E-4667-8B47-346FBEC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C5F-43D5-43F1-BC06-BB56A4E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1A4-CC39-43D4-9A2D-62C80D6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0E2-3415-42E4-9AFB-656C0E0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8DB-330E-4EFE-9CF4-1B80E02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0A9-20D7-499B-AE52-A00168F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3F2-1CB2-4EF1-B861-32F99CFC5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4BB-917D-4668-8092-37CB6D477E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60/60171_or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60/60169_or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shkolazhizni.ru/img/content/i60/60170_or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Традиции чаепития в Росси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Чай пить – не дрова руби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0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ркалось. На столе,       блиста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Шумел вечерний самова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 чайник нагрева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 ним клубился легкий п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литый Ольгиной руко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 чашкам темною струё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же душистый чай бежа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Самовар уже закипел"/>
          <p:cNvPicPr/>
          <p:nvPr/>
        </p:nvPicPr>
        <p:blipFill>
          <a:blip r:embed="rId1"/>
          <a:stretch/>
        </p:blipFill>
        <p:spPr>
          <a:xfrm>
            <a:off x="4770360" y="1700280"/>
            <a:ext cx="412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тройство самов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11" descr="img_356[1]"/>
          <p:cNvPicPr/>
          <p:nvPr/>
        </p:nvPicPr>
        <p:blipFill>
          <a:blip r:embed="rId1"/>
          <a:stretch/>
        </p:blipFill>
        <p:spPr>
          <a:xfrm>
            <a:off x="826920" y="1844640"/>
            <a:ext cx="3673800" cy="410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Samovar0[1]"/>
          <p:cNvPicPr/>
          <p:nvPr/>
        </p:nvPicPr>
        <p:blipFill>
          <a:blip r:embed="rId2"/>
          <a:stretch/>
        </p:blipFill>
        <p:spPr>
          <a:xfrm>
            <a:off x="4932360" y="1844640"/>
            <a:ext cx="3887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. Коровин. За чайным столом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692280"/>
            <a:ext cx="66960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 чаем – не скуча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мператор белых чаш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Чайников архимандр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вой глубокий ропот тя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ем, кто миру зло дар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Заболоц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samovar(1)"/>
          <p:cNvPicPr/>
          <p:nvPr/>
        </p:nvPicPr>
        <p:blipFill>
          <a:blip r:embed="rId1"/>
          <a:stretch/>
        </p:blipFill>
        <p:spPr>
          <a:xfrm>
            <a:off x="5114880" y="1844640"/>
            <a:ext cx="3481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. А. Гончаров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Фрегат Паллад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Мы называем хорошими нежные, душистые цветочные чаи. Не для всякого носа и языка доступен аромат и букет этого чая: он слишком тонок. Эти чаи называются пекое (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Pekoe Flower)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. Англичане хорошим чаем называют особый сорт грубого черного или смесь его с зеленым, смесь очень наркотическую. От чая требуют того же, чего от индийских сой и перцев, то есть чего-то вроде я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Иван Александрович Гончаров 1812-1891"/>
          <p:cNvPicPr/>
          <p:nvPr/>
        </p:nvPicPr>
        <p:blipFill>
          <a:blip r:embed="rId1"/>
          <a:stretch/>
        </p:blipFill>
        <p:spPr>
          <a:xfrm>
            <a:off x="5259240" y="1905120"/>
            <a:ext cx="324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ександр Дюма-отец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улинарный словарь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Лучший чай пьют в Санкт-Петербурге и в целом по всей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бычаи странны в России, так что иностранцы находят  их необычайно шокирующими, когда впервые встреч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ужчины пьют чай из стаканов, тогда как женщины используют чашки китайского фар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Александр Дюма-отец"/>
          <p:cNvPicPr/>
          <p:nvPr/>
        </p:nvPicPr>
        <p:blipFill>
          <a:blip r:embed="rId1"/>
          <a:stretch/>
        </p:blipFill>
        <p:spPr>
          <a:xfrm>
            <a:off x="1166760" y="1905120"/>
            <a:ext cx="3268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йные сто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741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ас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ужеских бесед у чайного стол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зяйке молодой и честь и похвал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-православному, не на манер немецк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жидкий, как вода или напиток детск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 Русью веющий, но сочный, но густ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шистый льется чай янтарною струё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. Вязем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А.Я. Волосков. За чайным столом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44640"/>
            <a:ext cx="2736720" cy="22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Б.М. Кустодиев. Московский тракти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407664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4326120_w218[1]"/>
          <p:cNvPicPr/>
          <p:nvPr/>
        </p:nvPicPr>
        <p:blipFill>
          <a:blip r:embed="rId1"/>
          <a:stretch/>
        </p:blipFill>
        <p:spPr>
          <a:xfrm>
            <a:off x="900000" y="620640"/>
            <a:ext cx="3600720" cy="261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11_241208_10[1]"/>
          <p:cNvPicPr/>
          <p:nvPr/>
        </p:nvPicPr>
        <p:blipFill>
          <a:blip r:embed="rId2"/>
          <a:stretch/>
        </p:blipFill>
        <p:spPr>
          <a:xfrm>
            <a:off x="4788000" y="620640"/>
            <a:ext cx="3838320" cy="255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Beseda[1]"/>
          <p:cNvPicPr/>
          <p:nvPr/>
        </p:nvPicPr>
        <p:blipFill>
          <a:blip r:embed="rId3"/>
          <a:stretch/>
        </p:blipFill>
        <p:spPr>
          <a:xfrm>
            <a:off x="826920" y="3429000"/>
            <a:ext cx="367380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104419[1]"/>
          <p:cNvPicPr/>
          <p:nvPr/>
        </p:nvPicPr>
        <p:blipFill>
          <a:blip r:embed="rId4"/>
          <a:stretch/>
        </p:blipFill>
        <p:spPr>
          <a:xfrm>
            <a:off x="4788000" y="3429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061213ba800[1]"/>
          <p:cNvPicPr/>
          <p:nvPr/>
        </p:nvPicPr>
        <p:blipFill>
          <a:blip r:embed="rId1"/>
          <a:stretch/>
        </p:blipFill>
        <p:spPr>
          <a:xfrm>
            <a:off x="900000" y="476280"/>
            <a:ext cx="4200480" cy="279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_c740_30ad5e9d_XL[1]"/>
          <p:cNvPicPr/>
          <p:nvPr/>
        </p:nvPicPr>
        <p:blipFill>
          <a:blip r:embed="rId2"/>
          <a:stretch/>
        </p:blipFill>
        <p:spPr>
          <a:xfrm>
            <a:off x="5435640" y="105264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Stanislav_Moskvitin"/>
          <p:cNvPicPr/>
          <p:nvPr/>
        </p:nvPicPr>
        <p:blipFill>
          <a:blip r:embed="rId3"/>
          <a:stretch/>
        </p:blipFill>
        <p:spPr>
          <a:xfrm>
            <a:off x="900000" y="357336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0_162b6_92a389a6_XL[1]"/>
          <p:cNvPicPr/>
          <p:nvPr/>
        </p:nvPicPr>
        <p:blipFill>
          <a:blip r:embed="rId1"/>
          <a:stretch/>
        </p:blipFill>
        <p:spPr>
          <a:xfrm>
            <a:off x="468360" y="217440"/>
            <a:ext cx="4062240" cy="304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8a2c216bbc268f1bc[1]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2976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0_ea2e_ad8da54f_XL[1]"/>
          <p:cNvPicPr/>
          <p:nvPr/>
        </p:nvPicPr>
        <p:blipFill>
          <a:blip r:embed="rId3"/>
          <a:stretch/>
        </p:blipFill>
        <p:spPr>
          <a:xfrm>
            <a:off x="468360" y="3500280"/>
            <a:ext cx="4032360" cy="313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418688[1]"/>
          <p:cNvPicPr/>
          <p:nvPr/>
        </p:nvPicPr>
        <p:blipFill>
          <a:blip r:embed="rId4"/>
          <a:stretch/>
        </p:blipFill>
        <p:spPr>
          <a:xfrm>
            <a:off x="4716360" y="3486240"/>
            <a:ext cx="3961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вар кипит – уходить не вели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3" descr="kustod_17[1]"/>
          <p:cNvPicPr/>
          <p:nvPr/>
        </p:nvPicPr>
        <p:blipFill>
          <a:blip r:embed="rId1"/>
          <a:stretch/>
        </p:blipFill>
        <p:spPr>
          <a:xfrm>
            <a:off x="3132000" y="1844640"/>
            <a:ext cx="4105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Самовар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вар – металлический прибор для кипячения воды с топкой внутри, наполненной уг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Словарь русского языка», М., 1981 г., т.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Тульский самовар"/>
          <p:cNvPicPr/>
          <p:nvPr/>
        </p:nvPicPr>
        <p:blipFill>
          <a:blip r:embed="rId1"/>
          <a:stretch/>
        </p:blipFill>
        <p:spPr>
          <a:xfrm>
            <a:off x="4859280" y="1844640"/>
            <a:ext cx="403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Самовар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вар – водогрейный для чаю сосуд, медный с трубою и жаровнею вну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Толковый словарь живого великорусского языка» В. И. Д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3d8db7076ba6[1]"/>
          <p:cNvPicPr/>
          <p:nvPr/>
        </p:nvPicPr>
        <p:blipFill>
          <a:blip r:embed="rId1"/>
          <a:stretch/>
        </p:blipFill>
        <p:spPr>
          <a:xfrm>
            <a:off x="4859280" y="1628640"/>
            <a:ext cx="410544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лухая тоска без пр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 дум неотвязный уг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авай-ка наколем лучины -Раздуем себе самовар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За верность старинному чин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За то, чтобы жить не спеша! Авось, и распарит круч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Хлебнувшая чаю душа!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Русское чаепитие"/>
          <p:cNvPicPr/>
          <p:nvPr/>
        </p:nvPicPr>
        <p:blipFill>
          <a:blip r:embed="rId1"/>
          <a:stretch/>
        </p:blipFill>
        <p:spPr>
          <a:xfrm>
            <a:off x="5259240" y="836640"/>
            <a:ext cx="3657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варки к ча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Листья малины"/>
          <p:cNvPicPr/>
          <p:nvPr/>
        </p:nvPicPr>
        <p:blipFill>
          <a:blip r:embed="rId1"/>
          <a:stretch/>
        </p:blipFill>
        <p:spPr>
          <a:xfrm>
            <a:off x="755640" y="1844640"/>
            <a:ext cx="2906640" cy="39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Мята"/>
          <p:cNvPicPr/>
          <p:nvPr/>
        </p:nvPicPr>
        <p:blipFill>
          <a:blip r:embed="rId2"/>
          <a:stretch/>
        </p:blipFill>
        <p:spPr>
          <a:xfrm>
            <a:off x="3635280" y="1844640"/>
            <a:ext cx="2206800" cy="396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Иван-чай"/>
          <p:cNvPicPr/>
          <p:nvPr/>
        </p:nvPicPr>
        <p:blipFill>
          <a:blip r:embed="rId3"/>
          <a:stretch/>
        </p:blipFill>
        <p:spPr>
          <a:xfrm>
            <a:off x="5846760" y="1844640"/>
            <a:ext cx="2865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варки к ча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lipa[1]"/>
          <p:cNvPicPr/>
          <p:nvPr/>
        </p:nvPicPr>
        <p:blipFill>
          <a:blip r:embed="rId1"/>
          <a:stretch/>
        </p:blipFill>
        <p:spPr>
          <a:xfrm>
            <a:off x="611280" y="177336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смородина"/>
          <p:cNvPicPr/>
          <p:nvPr/>
        </p:nvPicPr>
        <p:blipFill>
          <a:blip r:embed="rId2"/>
          <a:stretch/>
        </p:blipFill>
        <p:spPr>
          <a:xfrm>
            <a:off x="4788000" y="1773360"/>
            <a:ext cx="3897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пей чайку – забудешь тос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6" descr="new[1]"/>
          <p:cNvPicPr/>
          <p:nvPr/>
        </p:nvPicPr>
        <p:blipFill>
          <a:blip r:embed="rId1"/>
          <a:stretch/>
        </p:blipFill>
        <p:spPr>
          <a:xfrm>
            <a:off x="2124000" y="1844640"/>
            <a:ext cx="540072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9:09:29Z</dcterms:created>
  <dc:creator>Марченко Борис Дмитриевич</dc:creator>
  <dc:description/>
  <dc:language>en-US</dc:language>
  <cp:lastModifiedBy>Пользователь Windows</cp:lastModifiedBy>
  <dcterms:modified xsi:type="dcterms:W3CDTF">2017-03-30T16:43:24Z</dcterms:modified>
  <cp:revision>40</cp:revision>
  <dc:subject/>
  <dc:title>Традиции чаепития в России</dc:title>
</cp:coreProperties>
</file>