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9038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0" y="951840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903840" y="951840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8243-24CB-4476-A822-CE4E582C3F66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0238-D313-47BB-A46F-003827B3D3FE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383C-8365-4870-BC0F-FF944D4400DD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9F3E-228C-46FB-9249-0A63946E2873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3AA2-1924-407E-80E3-50AA945707B7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621C-E519-4E55-B1F6-49B22785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C34D-F1BB-4CFD-BC46-3BD33302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0148-4814-4FB2-841C-1A7D33902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6B81-D459-496F-BA9C-A3103E8FD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739D-8C7A-4D65-8C01-FBAC6D39A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6CED-1800-40DE-8C1B-93422A66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B48F-08D3-4DD2-8552-A45A248B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A5ED-915E-4337-A9BA-4E210ED0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8AAF-0A54-4C30-B108-19265A2B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19D0-E2AE-4D81-B223-253E537A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90BE-A3E7-419D-ACC1-6E2E2F38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4EE0-63CC-4204-9D69-73CD53CD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752F-A253-41A7-BA46-87E4E959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EAFB-4E6A-4049-86DD-8AA5A366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9FDC-51C5-47C0-A1D2-2E77DC0A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B360-3034-43F5-AF26-09AE1A942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08E2-1726-4165-9260-6BEE72F2C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F8C3-A82B-4536-BA6F-010AA9B4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19D7-DAFE-4F6D-9E66-B97A06AD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457C-6B28-4D67-9BCD-ACB42D2A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5D4D-1E19-4A09-89D9-7AFF3D17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02ED-3BAE-4C8B-ADE5-10C2B6B9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46AB-F4BC-491D-B428-797087F4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D305-2AFF-4F0B-87EC-31A1D703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3351"/>
            </a:gs>
            <a:gs pos="100000">
              <a:srgbClr val="4f59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282e49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303657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14974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55e9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2b314d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73e62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963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5294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92e48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f689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2c3250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32395a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62b45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335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3e466f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4166"/>
                  </a:gs>
                  <a:gs pos="100000">
                    <a:srgbClr val="4f598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98d"/>
                  </a:gs>
                  <a:gs pos="100000">
                    <a:srgbClr val="5f68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192C-A442-417F-8ACA-CC0DB516C00E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34F6-B012-449E-AA46-A267019ED8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3351"/>
            </a:gs>
            <a:gs pos="100000">
              <a:srgbClr val="4f59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282e49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303657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14974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55e9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2b314d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73e62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963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5294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92e48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f689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2c3250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32395a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62b45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335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3e466f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4166"/>
                  </a:gs>
                  <a:gs pos="100000">
                    <a:srgbClr val="4f598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98d"/>
                  </a:gs>
                  <a:gs pos="100000">
                    <a:srgbClr val="5f68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CE03-C938-4689-A8F9-B2AD2A6C3BE9}" type="datetime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24D7-125E-4F32-91C8-764BF62CD6D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142640"/>
            <a:ext cx="68580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c000"/>
                </a:solidFill>
                <a:latin typeface="Arial"/>
              </a:rPr>
              <a:t>Использование мнемотаблиц, схем </a:t>
            </a:r>
            <a:br>
              <a:rPr sz="4800"/>
            </a:br>
            <a:r>
              <a:rPr b="1" i="1" lang="ru-RU" sz="4800" spc="-1" strike="noStrike">
                <a:solidFill>
                  <a:srgbClr val="ffc000"/>
                </a:solidFill>
                <a:latin typeface="Arial"/>
              </a:rPr>
              <a:t>в познавательно - речевом развитии дошкольников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228600" y="1285920"/>
            <a:ext cx="8686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и обучении детей с общим  недоразвитием речи составлению рассказов с элементами творчества решаются следующее основные задачи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Формирование умения составлять план будущего рассказ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Актуализация имеющихся у детей знаний и представлений об окружающе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звитие словесно-логического мышлени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звитие воссоздающего и творческого воображени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Заголовок 1" descr=""/>
          <p:cNvPicPr/>
          <p:nvPr/>
        </p:nvPicPr>
        <p:blipFill>
          <a:blip r:embed="rId5"/>
          <a:stretch/>
        </p:blipFill>
        <p:spPr>
          <a:xfrm>
            <a:off x="304920" y="152280"/>
            <a:ext cx="868680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52280" y="22860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Этапы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.Воспитатель  читает детям начало рассказ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.В вопросно-ответной форме проводится разбор содержания рассказ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.Совместно с детьми составляется мнемосхема рассказа. Последняя ячейка мнемосхемы представлена в виде вопроса (?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.Текст читается еще раз с опорой на мнемотаблицу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лагается несколько вариантов возможного продолжения в соответствие с данной сюжетной ситуаци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228600" y="45684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Придумывание продолжения рассказа детьми по одному из предложенных вариан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Анализ детских рассказ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учение составлению рассказов на заданную тему является наиболее сложным и проводится на заключительном этапе работ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Рисунок 46" descr="Составление рассказа по картинкам символам &quot;Осень в лесу&quot;"/>
          <p:cNvPicPr/>
          <p:nvPr/>
        </p:nvPicPr>
        <p:blipFill>
          <a:blip r:embed="rId1"/>
          <a:srcRect l="1038" t="0" r="-1031" b="11329"/>
          <a:stretch/>
        </p:blipFill>
        <p:spPr>
          <a:xfrm>
            <a:off x="-1908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6840" y="144792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Рисунок 4" descr="http://www.maaam.ru/upload/blogs/afc2660cabf3b8be9abf4f9128f1e1cf.jp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9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9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9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9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Рисунок 3" descr="http://www.maaam.ru/upload/blogs/2e3a88dd1623b7418c1f032ba3e9e62b.jpg.jpg"/>
          <p:cNvPicPr/>
          <p:nvPr/>
        </p:nvPicPr>
        <p:blipFill>
          <a:blip r:embed="rId1"/>
          <a:stretch/>
        </p:blipFill>
        <p:spPr>
          <a:xfrm>
            <a:off x="-307800" y="-28440"/>
            <a:ext cx="94518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Объект 3" descr="http://www.maaam.ru/upload/blogs/9d418e932d605dbad87e1fcc0a421f7c.jp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76320" y="114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Рисунок 3" descr="http://www.maaam.ru/upload/blogs/159475838e0435f52dcf5bd903f1224a.jpg.jpg"/>
          <p:cNvPicPr/>
          <p:nvPr/>
        </p:nvPicPr>
        <p:blipFill>
          <a:blip r:embed="rId4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Рисунок 3" descr="http://www.maaam.ru/upload/blogs/c31579d4bad195e9911b909786d44227.jpg.jpg"/>
          <p:cNvPicPr/>
          <p:nvPr/>
        </p:nvPicPr>
        <p:blipFill>
          <a:blip r:embed="rId1"/>
          <a:stretch/>
        </p:blipFill>
        <p:spPr>
          <a:xfrm>
            <a:off x="-50760" y="0"/>
            <a:ext cx="9685440" cy="702936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4"/>
          <p:cNvSpPr/>
          <p:nvPr/>
        </p:nvSpPr>
        <p:spPr>
          <a:xfrm>
            <a:off x="5643720" y="635796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”</a:t>
            </a: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Рисунок 3" descr="http://www.maaam.ru/upload/blogs/ae73dd4b65c0e7fd5ed2db825ddc71be.jp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04920" y="142920"/>
            <a:ext cx="8337600" cy="60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немотехника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 - это система методов и приемов, обеспечивающих эффективное запоминание, сохранение и воспроизведение информации, и конечно развитие реч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ь обучения мнемотехнике - развитие памяти, мышления, воображения, внимания, а именно психических процессов, ведь именно они тесно связаны с полноценным развитием реч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Рисунок 3" descr="http://www.maaam.ru/upload/blogs/c916b5e02381ebddad95f28d1e4a2665.jpg.jpg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ндивидуальная работа по опорным картинк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6212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ересказ рассказа “Здравствуй, зимушка-зима!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2"/>
          <p:cNvSpPr/>
          <p:nvPr/>
        </p:nvSpPr>
        <p:spPr>
          <a:xfrm>
            <a:off x="3429000" y="1371600"/>
            <a:ext cx="556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ступила зима. Всюду белый, пушистый снег. Холодно на улице. Дети оделись тепло, и пошли гулять. Они покатались на санках, лыжах, поиграли в снежки, слепили весёлого снеговика. Хорошо зимой!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Чтение воспитателем текста и демонстрация опорных картинок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 Ответы на вопросы по содержанию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просы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ое наступило время года? Где лежит снег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ой снег? Какая погода на улице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уда пошли дети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они оделись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делали дети на прогулке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равиться ли детям гулять зимой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. Повторное чтение рассказа с установкой на пересказ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. Пересказ текста ребёнком своими словами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Рисунок 4" descr="http://rudocs.exdat.com/pars_docs/tw_refs/66/65853/65853_html_34a9db08.jpg"/>
          <p:cNvPicPr/>
          <p:nvPr/>
        </p:nvPicPr>
        <p:blipFill>
          <a:blip r:embed="rId1"/>
          <a:stretch/>
        </p:blipFill>
        <p:spPr>
          <a:xfrm>
            <a:off x="0" y="1916280"/>
            <a:ext cx="3429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Работа с мнемотаблицей на слово “зима”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6320" y="11430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Рисунок 3" descr="http://rudocs.exdat.com/pars_docs/tw_refs/66/65853/65853_html_cdb0814.jpg"/>
          <p:cNvPicPr/>
          <p:nvPr/>
        </p:nvPicPr>
        <p:blipFill>
          <a:blip r:embed="rId4"/>
          <a:stretch/>
        </p:blipFill>
        <p:spPr>
          <a:xfrm>
            <a:off x="152280" y="1600200"/>
            <a:ext cx="3886200" cy="449568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1"/>
          <p:cNvSpPr/>
          <p:nvPr/>
        </p:nvSpPr>
        <p:spPr>
          <a:xfrm>
            <a:off x="4038480" y="1371600"/>
            <a:ext cx="48769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.Рассматривание мнемотаблицы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 зимы три месяца: декабрь, январь, февраль. Зимой снег повсюду: на земле, на деревьях, на домах. Солнце светит, но не греет. В домах топят печи. Люди одеваются тепло: в меховые шубы, шапки, валенки, шерстяные шарфы, варежки. Домашние животные зимой находятся в тёплых хлевах. Дикие животные зимуют по-разному: медведь и ёжик – в спячке, белка заготовила себе корм и устроила себе тёплое дупло, сложнее зимой волку и лисе, зайчик сменил серую шубку на белую и его не заметно на белом снегу. Люди заботятся о птицах, развешивают кормушки, приносят корм. У детей зимой много развлечений: праздник Новогодней Ёлки, подарки от Деда Мороза, катания на санках, лыжах, коньках, игры со снегом. Зимой можно слепить снеговика, построить горку, крепость, поиграть в снежк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. Воспроизведение таблицы по памяти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142560" y="213840"/>
            <a:ext cx="86202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атериалы для развития памяти, речи и заучивания стихотвор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Рисунок 2" descr="В нашем ДС"/>
          <p:cNvPicPr/>
          <p:nvPr/>
        </p:nvPicPr>
        <p:blipFill>
          <a:blip r:embed="rId1"/>
          <a:stretch/>
        </p:blipFill>
        <p:spPr>
          <a:xfrm>
            <a:off x="1676520" y="1523880"/>
            <a:ext cx="6264000" cy="280836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1"/>
          <p:cNvSpPr/>
          <p:nvPr/>
        </p:nvSpPr>
        <p:spPr>
          <a:xfrm>
            <a:off x="1981080" y="4800600"/>
            <a:ext cx="595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нашем детском саду – маленькие столик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нашем детском саду – голуби и кролики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нашем детском саду – песенки и сказки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нашем детском саду – кубики и краски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357120" y="4191120"/>
            <a:ext cx="90727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мотрите - в магази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груш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а витрин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водные зайчик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уколки и мячик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ушистые котят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рёшки, медвежата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 на полочках сидя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нами поиграть хотят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Рисунок 4" descr="игрушки на витрине"/>
          <p:cNvPicPr/>
          <p:nvPr/>
        </p:nvPicPr>
        <p:blipFill>
          <a:blip r:embed="rId1"/>
          <a:stretch/>
        </p:blipFill>
        <p:spPr>
          <a:xfrm>
            <a:off x="1066680" y="457200"/>
            <a:ext cx="67820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92504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br>
              <a:rPr sz="2000"/>
            </a:br>
            <a:br>
              <a:rPr sz="20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Таким образом, с помощью мнемотаблиц, схем - моделей удаётся достичь следующих результатов: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у детей увеличивается круг знаний об окружающем мире;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является желание пересказывать тексты, придумывать интересные истории;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является интерес к заучиванию стихов и потешек;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ловарный запас выходит на более высокий уровень;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ети преодолевают робость, застенчивость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    Считаю, чем раньше будем учить детей рассказывать или пересказывать, используя метод мнемотехники, тем лучше подготовим их к школе, так как связная речь является важным показателем умственных способностей ребенка и готовности его к школьному обучению.</a:t>
            </a:r>
            <a:br>
              <a:rPr sz="2800"/>
            </a:br>
            <a:endParaRPr b="0" lang="en-US" sz="2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3351"/>
            </a:gs>
            <a:gs pos="100000">
              <a:srgbClr val="4f59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28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TextBox 5"/>
          <p:cNvSpPr/>
          <p:nvPr/>
        </p:nvSpPr>
        <p:spPr>
          <a:xfrm>
            <a:off x="3048120" y="5410080"/>
            <a:ext cx="75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Прямоугольник 10" descr=""/>
          <p:cNvPicPr/>
          <p:nvPr/>
        </p:nvPicPr>
        <p:blipFill>
          <a:blip r:embed="rId1"/>
          <a:stretch/>
        </p:blipFill>
        <p:spPr>
          <a:xfrm>
            <a:off x="274680" y="2749680"/>
            <a:ext cx="8601120" cy="1614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746748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Arial"/>
              </a:rPr>
              <a:t>Мнемотаблица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 – это схема, в которую заложена определенная информация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Как любая работа строится от простого к сложному. Начиная работу с простейших мнемоквадратов, последовательно переходим к мнемодорожкам, и позже к мнемотаблицам. Что можно изобразить в мнемотаблице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61760" y="220932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spcBef>
                <a:spcPts val="799"/>
              </a:spcBef>
              <a:buClr>
                <a:srgbClr val="f9f9f9"/>
              </a:buClr>
              <a:buSzPct val="9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spcBef>
                <a:spcPts val="799"/>
              </a:spcBef>
              <a:buClr>
                <a:srgbClr val="f9f9f9"/>
              </a:buClr>
              <a:buSzPct val="9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Прямоугольник 3"/>
          <p:cNvSpPr/>
          <p:nvPr/>
        </p:nvSpPr>
        <p:spPr>
          <a:xfrm>
            <a:off x="838080" y="533520"/>
            <a:ext cx="7696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мнемотаблице можно изображать практически все – т.е. производится графическое или частично графическое изображение персонажей сказки, явлений природы, некоторых действий, т.е. можно нарисовать то, что посчитаете нужным. Но изобразить так, чтобы нарисованное было понятно детям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6" name="Содержимое 3" descr="Мнемотаблицы - схемы служат дидактическим материалом в моей работе по развитию связной речи детей. Обогащение словарного запаса. Мнемотаблицы- схемы. Обучение составлению рассказов. Пересказ художественной литературы. Отгадывание и загадывание загадок. Заучивание стихов."/>
          <p:cNvPicPr/>
          <p:nvPr/>
        </p:nvPicPr>
        <p:blipFill>
          <a:blip r:embed="rId1"/>
          <a:stretch/>
        </p:blipFill>
        <p:spPr>
          <a:xfrm>
            <a:off x="-15840" y="0"/>
            <a:ext cx="1097928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5"/>
          <p:cNvSpPr/>
          <p:nvPr/>
        </p:nvSpPr>
        <p:spPr>
          <a:xfrm>
            <a:off x="5857920" y="6581880"/>
            <a:ext cx="4572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 </a:t>
            </a:r>
            <a:br>
              <a:rPr sz="36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Прямоугольник 1"/>
          <p:cNvSpPr/>
          <p:nvPr/>
        </p:nvSpPr>
        <p:spPr>
          <a:xfrm>
            <a:off x="609480" y="457200"/>
            <a:ext cx="7772400" cy="60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Работа по мнемотаблице состоит из пяти этапов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1. Рассматривание таблицы и разбор того, что на ней изображено. 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2. Преобразование из абстрактных символов в образы. 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3. Пересказ сказки с опорой на символы. 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4. Делается графическая зарисовка мнемотаблицы. 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5. Таблица воспроизводиться ребенком при ее показе ему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-6858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Составление рассказа по мнемотаблицам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52280"/>
            <a:ext cx="824544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Рассматривание мнемодороже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Составление предложений по мнемодорожк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Рассматривание мнемотабли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Составление рассказа воспитател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Составление рассказа деть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5486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ересказ рассказ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Прямоугольник 2"/>
          <p:cNvSpPr/>
          <p:nvPr/>
        </p:nvSpPr>
        <p:spPr>
          <a:xfrm>
            <a:off x="685800" y="990720"/>
            <a:ext cx="7696080" cy="60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.Чтение воспитателем текста и демонстрация картинок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.Ответы на вопросы по содержанию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( языковой разбор текста)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.Демонстрация и разбор каждой ячейки мнемотаблицы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.Повторное чтение рассказа с опорой на мнемотаблицу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5.Коллективный пересказ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6.Самостоятельный пересказ текста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7.Анализ самостоятельных пересказов детей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Этапы работы над стихотворение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Прямоугольник 1"/>
          <p:cNvSpPr/>
          <p:nvPr/>
        </p:nvSpPr>
        <p:spPr>
          <a:xfrm>
            <a:off x="533520" y="257040"/>
            <a:ext cx="822960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разительное чтение стихотворения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общение, что это стихотворение дети будут учить наизусть. Затем еще раз чтение стихотворения с опорой на мнемотаблицу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просы по содержанию стихотворения, помогая детям уяснить основную мысль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яснить, какие слова непонятны детям, объяснить их значение в доступной для детей форме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ение  отдельно каждой строчки стихотворения. Дети повторяет ее с опорой на мнемотаблицу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ти рассказывает стихотворение с опорой на мнемотаблицу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ти по памяти зарисовывают мнемотаблицу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sha</dc:creator>
  <dc:description/>
  <dc:language>en-US</dc:language>
  <cp:lastModifiedBy>Андрей</cp:lastModifiedBy>
  <cp:lastPrinted>2014-10-25T17:49:06Z</cp:lastPrinted>
  <dcterms:modified xsi:type="dcterms:W3CDTF">2014-10-26T14:48:10Z</dcterms:modified>
  <cp:revision>7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