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9469-3CD5-40BC-AF42-4DFBC883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037E-28D7-4411-81DB-6621CEA2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1DD7-B8E4-4FA3-AE16-25971929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8CE-5613-46A0-99A7-F54DA0B0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BABF-4C31-4E41-B018-AA82E90A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B01B-9793-4DD6-9FD5-28847979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749F-12B2-455C-9283-290145C9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B661-1BAA-4D30-8B91-78953F68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A5BB-E0EB-455C-BD59-298037F1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F1E8-5556-457B-8A43-4F098AF5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51DB-0C84-4416-A6CB-F06456E6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4C6A-B178-4AD8-9B0F-763B0BED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14A6-24B0-497A-B03E-36AF3AA7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F3B8-1194-4E93-A576-BC28BEDE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5D49-3795-438C-962F-DF63EBEC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A016-8200-4A2A-8034-92F84EC3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A6C1-1FE0-4E9F-B19E-856FD280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685CF3-326F-444A-AF94-C209BE6C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3F9A5-17C0-40E5-B00A-7645A917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21528-AF48-4B42-9C5F-53929280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2AA9A-F3BA-4914-8855-6F90CF91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FCD29-1D99-4262-951F-19C17E62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BBF0-6C01-4D82-A35B-2A433E4B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794DD-EE75-4753-BD97-4F84B30E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E0A7D-76CC-4EC5-A37F-52B5FC9D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7C8190-DCBD-4988-9604-98152D12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5EDF1E-E826-4907-BF9A-CF35451F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42105C-23B3-4C20-8E16-E1C1F771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92428C-D61A-4D0D-91C2-BE76B47C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647EC-CB9A-4180-854C-629E7ADD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08F82-1261-40DD-BE58-051CEC51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32110-9EED-4A3F-9C88-9968F599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A8182-B91B-4ABE-A778-711A3EF4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9D4A-9903-4D4B-BB4C-894986CD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580DB-F7C1-43B1-82C2-A82F419C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24870-2BD9-4F4F-BF2B-F71C481D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80FA8-FBDC-4102-B15C-291D61FC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37FF5-E36E-4810-91B2-8A9DD785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2F8EE-23F5-4777-BA8D-9221EDD0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1DBA8-17AB-434E-B2E2-960C67BB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700E4-A7E7-4959-8517-7CB5B0B9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6113D-E28D-48B1-B67D-A1DADA2B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1EAD0-2537-402E-B923-B333CC81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DFC46-A7B3-4905-A8C3-2A8CCB1E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04E-59D0-46AD-908E-1E8845F7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608FD2-6E36-49B4-A53C-00795DF1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65E230-C3B0-4993-BDCF-1A6826B2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1999D3-253E-4054-A320-687C0A92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99584A-C0D6-490F-83CE-17E12604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0AAC5-289F-4806-B800-831CBD59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D84285-E01E-4C13-8714-5FAF7971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F5B1E4-8898-49C6-B6A8-06E41746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30527F-B034-4B1E-8EEA-2522217B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0E908C-F506-4CC5-B8E9-1F59BC2C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A52A5D-1817-4005-AB74-DF6A624C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DB5B-1553-4D65-AC86-E4A63169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8DE30A-DB4E-4A0C-A039-B1E3783A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7D0DD4-EB45-45D6-9E32-8986344A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F76B9A-9294-4E32-A620-379EBF0A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CF27F4-6C2E-47EF-9C43-BD47BCC1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CA91C1-C902-4B68-9BD5-7476E89E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0F4A77-B9B7-4BD8-B666-F3A7AAFE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70941B-8136-44CB-AA35-41CAB3B8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3100E6-6EA7-4BCA-B9BE-9944659A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00D04D-5E8A-45FF-AB14-61E2FFCA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7C090C-789F-490F-979E-5F9BD0D5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2ECA-29F2-45DD-BCBE-40A4F150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ED1372-3665-4105-8E87-D993832D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ADC18B-A095-41DF-994E-8E46D7B6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DFB16E-A391-4DA6-80B7-718FBB29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1FE6CF-9513-4F67-943F-D6016DD1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4700BF-3BE0-40B4-9CAE-8CCF3121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764231-AA66-4DA4-AB8E-B91C339B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F29F10-D9AC-4125-A183-F062D61A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D8B253-C8FA-4B1F-849E-424C8D2B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26A565-5178-47EE-A16D-38EA6C7B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84EA1A-098A-4B5B-8E4E-1554E30A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F0F-378D-45B8-B83D-379E1E84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4F2BAD-CD7C-4C19-B9E0-DC949668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85C49D-E0D9-4793-A135-58505609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6F0FA6-F1B9-4155-89ED-2918E1BA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C809DE-20B2-4BF8-8A4A-A4054AE0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B1B534-1F43-4000-96E9-13DD3F08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2951-31E9-4614-980A-9447B8E0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D5BF-245D-4A52-9223-003DD8152C0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D3E7-E349-4EAD-8445-76212CBD5C7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6D2E-AD95-4F3E-AF14-46205709D03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F506-8989-402E-BEA0-EC107D18B5D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293B-D64C-4618-896F-51FEE708210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BE49-C874-4301-A52B-7B20DCF4B6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3851-FEDF-42DC-B224-6D84E01BFF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360" y="14284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ТЕХНИКИ БИСЕРОПЛЕТЕНИЯ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                           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Подготовила педагог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дополнительного образования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                          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Мечёва Ольга Николае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-540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571320"/>
            <a:ext cx="5043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Основа любого листика или лепестка при круговом плетении – это осевой стержень из проволоки (как правило, он достаточно короткий,  длиной около 10 см). На осевой стержень нужно нанизать необходимое количество бисера и сделать небольшие петли для закрепления. На более тонкую проволоку нужно нанизать бисер длиной 30 – 40 см и выполнить дуг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5643720" y="714240"/>
            <a:ext cx="23572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-18468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500040"/>
            <a:ext cx="74674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ервая дуга всегда делается самой маленькой: на 2 – 3 бисеринки больше, чем первый осевой ряд, после чего проволоку следует снова закрепить на стержне, вернуться вниз и снова зафиксировать на стержне, а затем выполнить новую дугу. Количество дуг определяется размерами листка, при каждую дугу следует делать на несколько бисерин длиннее предыдуще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 последнем ряду конец проволоки необходимо обязательно закрепить двумя витками и обрезать. Один конец осевого стержня следует обрезать так, чтобы остался отрезок примерно 0,3 – 0, 5 см, который потом нужно загнуть на внутреннюю сторону листи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-14868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713880"/>
            <a:ext cx="35434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записи схем для кругового (французского) плетения вначале указывают коли- чество бисерин для центральной оси или её длина в сантиметрах, а затем количество дуг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4214880" y="714240"/>
            <a:ext cx="3929040" cy="55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-14868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3429000"/>
            <a:ext cx="746748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и плетении цветов или деревьев часто комбинируют различные техни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857160" y="642960"/>
            <a:ext cx="69296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8400" y="-576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642840" y="571320"/>
            <a:ext cx="43578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Чтобы создать своими руками цветущую вишню, стройную берёзку, кустик клубники, нежные лилии или красавицу розу, быстрокрылую стрекозу или яркую бабочку, изящных кукол в разноцветных нарядах и множество различных поделок для себя, друзей и родных, вам понадобится бисер, проволока, простейшие инструменты и… , самое главное, </a:t>
            </a:r>
            <a:r>
              <a:rPr b="0" lang="en-US" sz="2400" spc="-1" strike="noStrike">
                <a:solidFill>
                  <a:srgbClr val="3668c4"/>
                </a:solidFill>
                <a:latin typeface="Century Schoolbook"/>
              </a:rPr>
              <a:t>терпени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75c01"/>
                </a:solidFill>
                <a:latin typeface="Century Schoolbook"/>
              </a:rPr>
              <a:t>    </a:t>
            </a:r>
            <a:r>
              <a:rPr b="1" lang="en-US" sz="2400" spc="-1" strike="noStrike">
                <a:solidFill>
                  <a:srgbClr val="e75c01"/>
                </a:solidFill>
                <a:latin typeface="Century Schoolbook"/>
              </a:rPr>
              <a:t>ЖЕЛАЮ ВАМ УДАЧИ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144360" y="642960"/>
            <a:ext cx="3713400" cy="3214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"/>
          <p:cNvPicPr/>
          <p:nvPr/>
        </p:nvPicPr>
        <p:blipFill>
          <a:blip r:embed="rId2"/>
          <a:stretch/>
        </p:blipFill>
        <p:spPr>
          <a:xfrm>
            <a:off x="642960" y="4000680"/>
            <a:ext cx="25002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571320"/>
            <a:ext cx="746748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бисероплетении используются различные способы соединения бисеринок между собой. Для изготовления цветов, деревьев или объёмных фигурок, как правило, используют четыре техники плетен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араллельное,                   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гольчатое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етельное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руговое (французское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2" descr="H:\бисер\22.jpeg"/>
          <p:cNvPicPr/>
          <p:nvPr/>
        </p:nvPicPr>
        <p:blipFill>
          <a:blip r:embed="rId1"/>
          <a:stretch/>
        </p:blipFill>
        <p:spPr>
          <a:xfrm>
            <a:off x="5429160" y="3429000"/>
            <a:ext cx="2714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285840" y="213840"/>
            <a:ext cx="94298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75c01"/>
                </a:solidFill>
                <a:latin typeface="Century Schoolbook"/>
              </a:rPr>
              <a:t>ПАРАЛЛЕЛЬНОЕ ПЛЕТЕ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786200" y="1285920"/>
            <a:ext cx="3643560" cy="421488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6"/>
          <p:cNvSpPr/>
          <p:nvPr/>
        </p:nvSpPr>
        <p:spPr>
          <a:xfrm>
            <a:off x="500040" y="1285920"/>
            <a:ext cx="4214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en-US" sz="2400" spc="-1" strike="noStrike">
                <a:solidFill>
                  <a:srgbClr val="244583"/>
                </a:solidFill>
                <a:latin typeface="Century Schoolbook"/>
              </a:rPr>
              <a:t>Параллельное плетение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– очень распространённая  техника для изготовления цветов, ведь этим способом можно сделать и листья, и лепест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Особенность этого вида плетения заключается в том, что ряды бисера параллельны друг другу (лежат один под другим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-14868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85480" y="571320"/>
            <a:ext cx="450036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Работа выполняется по заранее заготовленной схеме, на которой указаны ряды, цвет бисеринок и их количество. Каждый ряд нанизывается на один из концов проволоки, второй идёт навстречу первому через все бисеринки ря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Детали изделия при этом получаются плотными и хорошо держат форму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Единственный  недостаток техники – большой расход проволо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5072040" y="812880"/>
            <a:ext cx="300024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97256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75c01"/>
                </a:solidFill>
                <a:latin typeface="Century Schoolbook"/>
              </a:rPr>
              <a:t>ИГОЛЬЧАТОЕ ПЛЕТЕ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285560"/>
            <a:ext cx="425772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хника </a:t>
            </a:r>
            <a:r>
              <a:rPr b="0" i="1" lang="ru-RU" sz="2400" spc="-1" strike="noStrike">
                <a:solidFill>
                  <a:srgbClr val="3668c4"/>
                </a:solidFill>
                <a:latin typeface="Century Schoolbook"/>
              </a:rPr>
              <a:t>игольчатого плетени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спользуется для изготовления ты- чинок, травинок, еловых веток, тонких лепестков таких цветов, как хризантемы или астры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исер для игольчатого плетения лучше брать покрупнее, чтобы пово- лока легко проходила через отверст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4929120" y="1149480"/>
            <a:ext cx="314316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-108360"/>
            <a:ext cx="7467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1"/>
          <a:stretch/>
        </p:blipFill>
        <p:spPr>
          <a:xfrm>
            <a:off x="1285920" y="3500280"/>
            <a:ext cx="6286320" cy="278640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6"/>
          <p:cNvSpPr/>
          <p:nvPr/>
        </p:nvSpPr>
        <p:spPr>
          <a:xfrm>
            <a:off x="642960" y="571680"/>
            <a:ext cx="750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и игольчатом способе плетения нужно нанизать на отрезок проволоки несколько бисеринок. После того как на один из концов проволоки нанизали последнюю бисеринку, нужно пройти проволокой в обратном направлении через оставшиеся бисеринки. Получится «иголочка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75c01"/>
                </a:solidFill>
                <a:latin typeface="Century Schoolbook"/>
              </a:rPr>
              <a:t>ПЕТЕЛЬНОЕ ПЛЕТЕ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599840"/>
            <a:ext cx="382896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аще всего </a:t>
            </a:r>
            <a:r>
              <a:rPr b="0" i="1" lang="ru-RU" sz="2400" spc="-1" strike="noStrike">
                <a:solidFill>
                  <a:srgbClr val="3668c4"/>
                </a:solidFill>
                <a:latin typeface="Century Schoolbook"/>
              </a:rPr>
              <a:t>петель- ное плетени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споль- зуют при изготовле- нии деревьев, тычи- нок и травы, но таким способом можно де- лать и лепестки прос- тых цвет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уть техники состоит в скручива- нии петель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2" descr="H:\бисер\8.jpeg"/>
          <p:cNvPicPr/>
          <p:nvPr/>
        </p:nvPicPr>
        <p:blipFill>
          <a:blip r:embed="rId1"/>
          <a:stretch/>
        </p:blipFill>
        <p:spPr>
          <a:xfrm>
            <a:off x="4357800" y="1214280"/>
            <a:ext cx="37861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-14868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856800"/>
            <a:ext cx="74674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Для петельного плетения на проволоку нужно набрать несколько бисеринок, а концы проволоки скрутить  вместе 4 – 5 витками. Так получится листочек или лепесток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Если нужно сделать тычинку, на проволоку надо набрать одну бисеринку и концы проволоки скрутить до необходимой высоты тычин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642960" y="4000680"/>
            <a:ext cx="74293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75c01"/>
                </a:solidFill>
                <a:latin typeface="Century Schoolbook"/>
              </a:rPr>
              <a:t>КРУГОВОЕ ПЛЕТЕ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142640"/>
            <a:ext cx="37576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хника </a:t>
            </a:r>
            <a:r>
              <a:rPr b="0" i="1" lang="ru-RU" sz="2400" spc="-1" strike="noStrike">
                <a:solidFill>
                  <a:srgbClr val="3668c4"/>
                </a:solidFill>
                <a:latin typeface="Century Schoolbook"/>
              </a:rPr>
              <a:t>кругового (французского) пле- тения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пожалуй, самая распространён- ная среди способов бисе- роплетения. И это неудивительно, ведь цветы и листья, выполненные в ней, получаются ажур- ными и воздушным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4429080" y="1285920"/>
            <a:ext cx="38577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15:19:17Z</dcterms:created>
  <dc:creator>UserXP</dc:creator>
  <dc:description/>
  <dc:language>en-US</dc:language>
  <cp:lastModifiedBy>User</cp:lastModifiedBy>
  <dcterms:modified xsi:type="dcterms:W3CDTF">2017-09-10T09:42:02Z</dcterms:modified>
  <cp:revision>34</cp:revision>
  <dc:subject/>
  <dc:title>Техники бисероплетения</dc:title>
</cp:coreProperties>
</file>