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91A-091B-40A4-BB4F-697612BC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1B5-5AFC-4D93-BFDD-1DD25C4C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2FD-550B-4F6A-BF92-281937C7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444-DD46-4D2E-8253-EFDDD7C4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744E-9672-4A93-B8A1-00464BE1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A9C1-E8EC-4ADE-8DC4-B46EB73A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BB9C-6D1B-49DB-A73E-40F25149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20C4-48F0-4DCA-AE27-E19FB73B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318E-CA43-4D94-B6AB-893D511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81D3-E1E1-47C6-8B3C-081F9028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592C-3C15-4DEF-9EA4-D6C5C6DA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4A1-0886-4429-AFED-DC3BABA2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656E-EA9B-4A07-825E-25416BD3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E758-7925-4A0E-968A-41B42B5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91BB-D1D9-4876-836B-7C1D8C83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9CD5-C875-4693-B69F-D652F999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B8DB-AE18-4FEF-8813-1948AC43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2F70-1FF8-4F26-B98D-4BF1C038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100C-2DB9-41A0-BE7A-7A7EFD4C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1B99-3C28-45BA-9727-25135A6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619E-1161-491A-9DA3-1E1ABE2F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DA7B-9638-4F43-B5F6-F60E9878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8CA-8BBF-4953-83E1-4BB9EE94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2348-DA49-4223-9790-C4B91DA5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F4D2-5469-429C-A86F-86789F25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5460-3A76-4AE4-87B8-C2D11A5F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032C-D651-4036-9294-A5068F3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F21E-87D4-4E8E-B92B-42F19DBB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C131-E383-4737-A935-8E084C96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88A5-41BD-4DCA-89C7-50D27A46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3A1F-CE47-4DFD-B302-AA4044E1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E7A9-5DD5-4D95-BC5A-323BEA9E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7633-35E2-400B-9994-D5841D4F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802-10CC-4530-B00A-9608D51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83FB-0F2C-400B-945C-DA3E18C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EB5DD-7D58-4136-83D0-DF9DDE1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4E61-A7EF-4482-A05C-2EF5EB66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D1DF-693D-4E09-B589-416FBF6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E0AE-B5BD-4E78-817A-4F8D153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C330-F7D8-4E3F-9CDF-C804B38E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006E-CBAB-410A-AF44-13A098C2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FC56-7A2C-459C-8AA7-E903DD43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0C737-7A57-46C1-81C1-FC4DBDB9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9D2-D538-4604-8803-FDC5BD3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2F5-78B8-4D8E-9A22-21FF9FB3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25D-F0EE-480B-AD40-BCAC6D07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1A1-0799-47C3-8415-2DB74337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F4B-94F7-4F74-BF17-5A26AF72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82CC-F400-41C7-99BC-521EE21098A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D31D-7D19-41BB-9295-507B713713B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86A-4A71-49C8-93DD-45DD9219A30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BAB5-9464-4B5F-B4F9-6B93519B197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8369280" cy="1719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 Будем учиться правильно ставить ударение в слова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ть ударный сло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оворим о роли ударения в русском язык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рение в русском языке разноместное. Оно может падать на любой слог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: во многих языках ударение является фиксированным, постоянным, т.е. ударение закреплено за определенным слогом в слов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французском языке ударение всегда падает на последний слог, в польском – на предпоследний, в чешском – на первый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324000" y="981000"/>
            <a:ext cx="45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море красивые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250920" y="2276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мены катаются 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Диагональная полоса 3"/>
          <p:cNvSpPr/>
          <p:nvPr/>
        </p:nvSpPr>
        <p:spPr>
          <a:xfrm>
            <a:off x="5435640" y="1052640"/>
            <a:ext cx="73080" cy="144360"/>
          </a:xfrm>
          <a:custGeom>
            <a:avLst/>
            <a:gdLst/>
            <a:ahLst/>
            <a:rect l="l" t="t" r="r" b="b"/>
            <a:pathLst>
              <a:path w="73025" h="144462">
                <a:moveTo>
                  <a:pt x="0" y="72231"/>
                </a:moveTo>
                <a:lnTo>
                  <a:pt x="36513" y="0"/>
                </a:lnTo>
                <a:lnTo>
                  <a:pt x="73025" y="0"/>
                </a:lnTo>
                <a:lnTo>
                  <a:pt x="0" y="144462"/>
                </a:lnTo>
                <a:lnTo>
                  <a:pt x="0" y="7223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Диагональная полоса 4"/>
          <p:cNvSpPr/>
          <p:nvPr/>
        </p:nvSpPr>
        <p:spPr>
          <a:xfrm>
            <a:off x="7812000" y="234936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71438"/>
                </a:moveTo>
                <a:lnTo>
                  <a:pt x="72231" y="0"/>
                </a:lnTo>
                <a:lnTo>
                  <a:pt x="144462" y="0"/>
                </a:lnTo>
                <a:lnTo>
                  <a:pt x="0" y="142875"/>
                </a:lnTo>
                <a:lnTo>
                  <a:pt x="0" y="71438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5" descr="СЁРФ.jpg"/>
          <p:cNvPicPr/>
          <p:nvPr/>
        </p:nvPicPr>
        <p:blipFill>
          <a:blip r:embed="rId1"/>
          <a:stretch/>
        </p:blipFill>
        <p:spPr>
          <a:xfrm>
            <a:off x="2143080" y="3214800"/>
            <a:ext cx="4357800" cy="32860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5010120" y="981000"/>
            <a:ext cx="21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4859280" y="98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6886440" y="2276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6481800" y="2349360"/>
            <a:ext cx="193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609480" y="401760"/>
            <a:ext cx="8229600" cy="19699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115640" y="1700280"/>
            <a:ext cx="6985080" cy="3938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Го′ры – гора′х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ода′ – на во′дах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Леса′ – в леса′х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о′вости – нет новосте′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вер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′м – дома′ – до′м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и′б – грибы′ – грибно′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′м – сомы′ – со′м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о′т – кроты′ – кроти′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у′ст – кусты′ – кустово′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′ль – соли′ – соляно′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′л – столы′ – столо′в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ли′н – блины′ – бли′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′ж – ножи′ – но′ж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′ст – ли′стья - листово′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542880" y="189000"/>
            <a:ext cx="8381880" cy="17920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6696000" cy="3984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дарение в русском языке подвижное. В родственных словах и при изменении одного и того же слова ударение может передвигаться на другой слог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40d0183662d[1]"/>
          <p:cNvPicPr/>
          <p:nvPr/>
        </p:nvPicPr>
        <p:blipFill>
          <a:blip r:embed="rId1"/>
          <a:stretch/>
        </p:blipFill>
        <p:spPr>
          <a:xfrm>
            <a:off x="1116000" y="3141720"/>
            <a:ext cx="2989440" cy="2232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177009230193[1]"/>
          <p:cNvPicPr/>
          <p:nvPr/>
        </p:nvPicPr>
        <p:blipFill>
          <a:blip r:embed="rId2"/>
          <a:stretch/>
        </p:blipFill>
        <p:spPr>
          <a:xfrm>
            <a:off x="5003640" y="2666880"/>
            <a:ext cx="2036880" cy="271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Пи′щ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4824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574800" y="836280"/>
            <a:ext cx="5111640" cy="5411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Пища′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2" descr="з1.jpg"/>
          <p:cNvPicPr/>
          <p:nvPr/>
        </p:nvPicPr>
        <p:blipFill>
          <a:blip r:embed="rId1"/>
          <a:stretch/>
        </p:blipFill>
        <p:spPr>
          <a:xfrm>
            <a:off x="539640" y="3645000"/>
            <a:ext cx="3384720" cy="2808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3" descr="з2.jpg"/>
          <p:cNvPicPr/>
          <p:nvPr/>
        </p:nvPicPr>
        <p:blipFill>
          <a:blip r:embed="rId2"/>
          <a:stretch/>
        </p:blipFill>
        <p:spPr>
          <a:xfrm>
            <a:off x="5003640" y="3429000"/>
            <a:ext cx="3168720" cy="3006720"/>
          </a:xfrm>
          <a:prstGeom prst="rect">
            <a:avLst/>
          </a:prstGeom>
          <a:ln w="0">
            <a:noFill/>
          </a:ln>
        </p:spPr>
      </p:pic>
      <p:pic>
        <p:nvPicPr>
          <p:cNvPr id="283" name="Заголовок 4" descr=""/>
          <p:cNvPicPr/>
          <p:nvPr/>
        </p:nvPicPr>
        <p:blipFill>
          <a:blip r:embed="rId3"/>
          <a:stretch/>
        </p:blipFill>
        <p:spPr>
          <a:xfrm>
            <a:off x="262080" y="2127240"/>
            <a:ext cx="8405640" cy="1603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782880"/>
            <a:ext cx="640080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дарение различает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лова по смыслу.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От ударения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зависит смыл слова.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542880" y="334800"/>
            <a:ext cx="8223120" cy="1640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058160" cy="4225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ова, отличающиеся лишь ударением называю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МОГРАФАМ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дной из причин возникновения омографов в русском языке является различное ударение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′рок - соро′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мографы также могут возникать за счет того, что в текстах обычно не ставят точки над ё, например: небо (небе – нёбо), поем (поем – поём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. Ударение всегда падает на гласный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. В русском языке ударение разноместно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. Ударение подвижно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4. Ударение играет смыслоразличительную роль в словах омографах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сные букв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17400" y="2349360"/>
            <a:ext cx="865080" cy="3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Прямоугольник 1" descr=""/>
          <p:cNvPicPr/>
          <p:nvPr/>
        </p:nvPicPr>
        <p:blipFill>
          <a:blip r:embed="rId1"/>
          <a:stretch/>
        </p:blipFill>
        <p:spPr>
          <a:xfrm>
            <a:off x="4552920" y="2048040"/>
            <a:ext cx="920880" cy="42494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 rot="5400000">
            <a:off x="2601000" y="3560040"/>
            <a:ext cx="39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Прямоугольник 5" descr=""/>
          <p:cNvPicPr/>
          <p:nvPr/>
        </p:nvPicPr>
        <p:blipFill>
          <a:blip r:embed="rId2"/>
          <a:stretch/>
        </p:blipFill>
        <p:spPr>
          <a:xfrm>
            <a:off x="3718080" y="2036880"/>
            <a:ext cx="1628640" cy="485136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6" descr=""/>
          <p:cNvPicPr/>
          <p:nvPr/>
        </p:nvPicPr>
        <p:blipFill>
          <a:blip r:embed="rId3"/>
          <a:stretch/>
        </p:blipFill>
        <p:spPr>
          <a:xfrm>
            <a:off x="3067200" y="1914480"/>
            <a:ext cx="919080" cy="43830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7" descr=""/>
          <p:cNvPicPr/>
          <p:nvPr/>
        </p:nvPicPr>
        <p:blipFill>
          <a:blip r:embed="rId4"/>
          <a:stretch/>
        </p:blipFill>
        <p:spPr>
          <a:xfrm>
            <a:off x="2382840" y="1914480"/>
            <a:ext cx="920880" cy="42483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9" descr=""/>
          <p:cNvPicPr/>
          <p:nvPr/>
        </p:nvPicPr>
        <p:blipFill>
          <a:blip r:embed="rId5"/>
          <a:stretch/>
        </p:blipFill>
        <p:spPr>
          <a:xfrm>
            <a:off x="1639800" y="2077920"/>
            <a:ext cx="153036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40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28480" y="22082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982440" y="98100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а′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3421800" y="100800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о′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5495400" y="1008000"/>
            <a:ext cx="201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Му′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324800" y="2349360"/>
            <a:ext cx="13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ю′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3202200" y="234936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ло′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5653800" y="2349360"/>
            <a:ext cx="21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то′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1800000" y="354960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ря′з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5364000" y="3559320"/>
            <a:ext cx="29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же′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2"/>
          <p:cNvSpPr/>
          <p:nvPr/>
        </p:nvSpPr>
        <p:spPr>
          <a:xfrm>
            <a:off x="4043520" y="52243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40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дарный слог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лог, который произносится с большей силой и длитель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сный звук ударного слога называ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дарным гласны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тальные слоги и гласные в слове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езударн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112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′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Овал 3"/>
          <p:cNvSpPr/>
          <p:nvPr/>
        </p:nvSpPr>
        <p:spPr>
          <a:xfrm>
            <a:off x="3203640" y="479736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4"/>
          <p:cNvSpPr/>
          <p:nvPr/>
        </p:nvSpPr>
        <p:spPr>
          <a:xfrm>
            <a:off x="4932360" y="474804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692280" y="1276200"/>
            <a:ext cx="24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ы′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3319200" y="127620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′п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5726160" y="1276200"/>
            <a:ext cx="2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о′р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1866600" y="2708280"/>
            <a:ext cx="21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о′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4434480" y="270828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а′я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     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′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Овал 3"/>
          <p:cNvSpPr/>
          <p:nvPr/>
        </p:nvSpPr>
        <p:spPr>
          <a:xfrm>
            <a:off x="3059280" y="479736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4"/>
          <p:cNvSpPr/>
          <p:nvPr/>
        </p:nvSpPr>
        <p:spPr>
          <a:xfrm>
            <a:off x="4565520" y="476244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896760" y="1285920"/>
            <a:ext cx="21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ука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3062160" y="1285920"/>
            <a:ext cx="24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убы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5561280" y="1285920"/>
            <a:ext cx="23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ицо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939240" y="2690640"/>
            <a:ext cx="21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иса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3212280" y="269064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алы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5565960" y="2660760"/>
            <a:ext cx="27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цветы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256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нспорт, летающий в космо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ие кучи снега, которые наметает ветер зим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сты, на которых мы пиш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кет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гроб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маг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Овал 3"/>
          <p:cNvSpPr/>
          <p:nvPr/>
        </p:nvSpPr>
        <p:spPr>
          <a:xfrm>
            <a:off x="2124000" y="44370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3564000" y="44514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4835520" y="44370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183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асковое название отца цыпле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имняя обувь для ма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петуха на голо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тушок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пог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ебеш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Овал 3"/>
          <p:cNvSpPr/>
          <p:nvPr/>
        </p:nvSpPr>
        <p:spPr>
          <a:xfrm>
            <a:off x="2130480" y="429264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4"/>
          <p:cNvSpPr/>
          <p:nvPr/>
        </p:nvSpPr>
        <p:spPr>
          <a:xfrm>
            <a:off x="3486240" y="428796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"/>
          <p:cNvSpPr/>
          <p:nvPr/>
        </p:nvSpPr>
        <p:spPr>
          <a:xfrm>
            <a:off x="4700520" y="428796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256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′                                                                 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1476360" y="134136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4"/>
          <p:cNvSpPr/>
          <p:nvPr/>
        </p:nvSpPr>
        <p:spPr>
          <a:xfrm>
            <a:off x="2771640" y="13446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5"/>
          <p:cNvSpPr/>
          <p:nvPr/>
        </p:nvSpPr>
        <p:spPr>
          <a:xfrm>
            <a:off x="5508720" y="132084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6"/>
          <p:cNvSpPr/>
          <p:nvPr/>
        </p:nvSpPr>
        <p:spPr>
          <a:xfrm>
            <a:off x="6804000" y="132084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7"/>
          <p:cNvSpPr/>
          <p:nvPr/>
        </p:nvSpPr>
        <p:spPr>
          <a:xfrm>
            <a:off x="1619280" y="32130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8"/>
          <p:cNvSpPr/>
          <p:nvPr/>
        </p:nvSpPr>
        <p:spPr>
          <a:xfrm>
            <a:off x="2865600" y="32130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9"/>
          <p:cNvSpPr/>
          <p:nvPr/>
        </p:nvSpPr>
        <p:spPr>
          <a:xfrm>
            <a:off x="3995640" y="32130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10"/>
          <p:cNvSpPr/>
          <p:nvPr/>
        </p:nvSpPr>
        <p:spPr>
          <a:xfrm>
            <a:off x="1619280" y="501336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1"/>
          <p:cNvSpPr/>
          <p:nvPr/>
        </p:nvSpPr>
        <p:spPr>
          <a:xfrm>
            <a:off x="2865600" y="501336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12"/>
          <p:cNvSpPr/>
          <p:nvPr/>
        </p:nvSpPr>
        <p:spPr>
          <a:xfrm>
            <a:off x="3995640" y="501336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48:02Z</dcterms:created>
  <dc:creator>1</dc:creator>
  <dc:description/>
  <dc:language>en-US</dc:language>
  <cp:lastModifiedBy>Школа</cp:lastModifiedBy>
  <dcterms:modified xsi:type="dcterms:W3CDTF">2013-11-15T07:29:46Z</dcterms:modified>
  <cp:revision>78</cp:revision>
  <dc:subject/>
  <dc:title>Слайд 1</dc:title>
</cp:coreProperties>
</file>