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B24-71EE-460D-AA4A-9CEDF354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E51-9312-4715-B337-41C5172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1CE-66FD-4AD9-808B-54D62BF7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804-A3CD-4665-A1F2-39EC009A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E43-8C9F-488C-AFEF-630AD473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80F-F6D1-476E-8D09-7C859C06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5D6-AD4D-4E57-8E84-CE564480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BF8-3C08-4961-94CB-B8619D78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0B6-9932-4F11-8634-38227941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A64-72E4-4B50-A066-7B29C0E8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DF2-AAA5-4F92-AAA6-80C5B628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5A8-0A87-4F90-B156-68636B50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074E-ACC9-4346-893F-0930118F9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1856_ecu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476720" y="836640"/>
            <a:ext cx="64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«Вулканы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99640" y="5661000"/>
            <a:ext cx="510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а учитель ОБЖ МБ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Школа №76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доль Елена Владими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лассификация вулкан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412640" y="548640"/>
            <a:ext cx="63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тепени активности вулканы классифицирую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krakatay"/>
          <p:cNvPicPr/>
          <p:nvPr/>
        </p:nvPicPr>
        <p:blipFill>
          <a:blip r:embed="rId1"/>
          <a:stretch/>
        </p:blipFill>
        <p:spPr>
          <a:xfrm>
            <a:off x="179280" y="1413000"/>
            <a:ext cx="3106800" cy="240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2uzaz5HnvEY"/>
          <p:cNvPicPr/>
          <p:nvPr/>
        </p:nvPicPr>
        <p:blipFill>
          <a:blip r:embed="rId2"/>
          <a:stretch/>
        </p:blipFill>
        <p:spPr>
          <a:xfrm>
            <a:off x="5148360" y="1484280"/>
            <a:ext cx="3524040" cy="23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512e001690e99"/>
          <p:cNvPicPr/>
          <p:nvPr/>
        </p:nvPicPr>
        <p:blipFill>
          <a:blip r:embed="rId3"/>
          <a:stretch/>
        </p:blipFill>
        <p:spPr>
          <a:xfrm>
            <a:off x="2124000" y="3933720"/>
            <a:ext cx="4214880" cy="2529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173160" y="98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действ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142600" y="10526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дремл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414960" y="34290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потух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ы ву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Кальдера"/>
          <p:cNvPicPr/>
          <p:nvPr/>
        </p:nvPicPr>
        <p:blipFill>
          <a:blip r:embed="rId1"/>
          <a:stretch/>
        </p:blipFill>
        <p:spPr>
          <a:xfrm>
            <a:off x="611280" y="765000"/>
            <a:ext cx="3024000" cy="2222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4067280" y="105264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тся значительным провалом у вершины вулк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е образовано обрушением верхней части магматического оча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круглая или в форме подковы, если смотреть свер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900000" y="3068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шлаковый конус"/>
          <p:cNvPicPr/>
          <p:nvPr/>
        </p:nvPicPr>
        <p:blipFill>
          <a:blip r:embed="rId2"/>
          <a:stretch/>
        </p:blipFill>
        <p:spPr>
          <a:xfrm>
            <a:off x="468360" y="3645000"/>
            <a:ext cx="3313080" cy="23907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3924360" y="3933720"/>
            <a:ext cx="480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аковый конус образуется в результате накопления частиц магмы (шлак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выпадают вокруг жерла или кратера вулкана после извержения во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ренной взрыв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Сложный вулкан"/>
          <p:cNvPicPr/>
          <p:nvPr/>
        </p:nvPicPr>
        <p:blipFill>
          <a:blip r:embed="rId1"/>
          <a:stretch/>
        </p:blipFill>
        <p:spPr>
          <a:xfrm>
            <a:off x="468360" y="476280"/>
            <a:ext cx="3166920" cy="2308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780000" y="98100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лканическая структура, имеющая два или более жер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вовых купола или стратовулкана, часто формируется в разно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900000" y="3068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Жерловая трещина"/>
          <p:cNvPicPr/>
          <p:nvPr/>
        </p:nvPicPr>
        <p:blipFill>
          <a:blip r:embed="rId2"/>
          <a:stretch/>
        </p:blipFill>
        <p:spPr>
          <a:xfrm>
            <a:off x="468360" y="3429000"/>
            <a:ext cx="3166920" cy="2425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"/>
          <p:cNvSpPr/>
          <p:nvPr/>
        </p:nvSpPr>
        <p:spPr>
          <a:xfrm>
            <a:off x="3851280" y="3711600"/>
            <a:ext cx="43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лканическая структура, состоит из накопленного вулканического матери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бокам эруптивных трещи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авило, возникают в местах разломов земной к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Лавовый купол"/>
          <p:cNvPicPr/>
          <p:nvPr/>
        </p:nvPicPr>
        <p:blipFill>
          <a:blip r:embed="rId1"/>
          <a:stretch/>
        </p:blipFill>
        <p:spPr>
          <a:xfrm>
            <a:off x="395280" y="333360"/>
            <a:ext cx="3168720" cy="2455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924360" y="765000"/>
            <a:ext cx="41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ется путем накопление лавы в виде купола с крут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онами над эруптивным отверст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900000" y="3068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Щитовой вулкан"/>
          <p:cNvPicPr/>
          <p:nvPr/>
        </p:nvPicPr>
        <p:blipFill>
          <a:blip r:embed="rId2"/>
          <a:stretch/>
        </p:blipFill>
        <p:spPr>
          <a:xfrm>
            <a:off x="324000" y="3500280"/>
            <a:ext cx="3240000" cy="2021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3851280" y="38606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вулканическая структура с длинными пологими скл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а большей частью из лавовых пото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Сомма"/>
          <p:cNvPicPr/>
          <p:nvPr/>
        </p:nvPicPr>
        <p:blipFill>
          <a:blip r:embed="rId1"/>
          <a:stretch/>
        </p:blipFill>
        <p:spPr>
          <a:xfrm>
            <a:off x="755640" y="260280"/>
            <a:ext cx="2521080" cy="2211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140360" y="69192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вулкана, состоящий из двух вулканических кону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которых сформировалась внутри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Стратовулкан"/>
          <p:cNvPicPr/>
          <p:nvPr/>
        </p:nvPicPr>
        <p:blipFill>
          <a:blip r:embed="rId2"/>
          <a:stretch/>
        </p:blipFill>
        <p:spPr>
          <a:xfrm>
            <a:off x="755640" y="2577960"/>
            <a:ext cx="2521080" cy="2065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Туфовый конус"/>
          <p:cNvPicPr/>
          <p:nvPr/>
        </p:nvPicPr>
        <p:blipFill>
          <a:blip r:embed="rId3"/>
          <a:stretch/>
        </p:blipFill>
        <p:spPr>
          <a:xfrm>
            <a:off x="755640" y="4797360"/>
            <a:ext cx="2521080" cy="1757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3708360" y="2866680"/>
            <a:ext cx="502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лкан состоит из различных слоев или слое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м которых является лава и пирокластические пото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4211640" y="4724280"/>
            <a:ext cx="416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ус с довольно крутыми склонами состоит из мелкозернистых вулканических оскол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вшихся во время взрыва вулкана в результате взаимодействия магмы и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. Где встречаются вулкан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11280" y="123336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чаги плавления возникают там, где давление на глубинах резко ослабевает, чаще всего в зонах глубинных разломов земной к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 больше всего вулканов встречается в зонах интенсивной тектон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краины надвигающихся на океаны или друг на друга континентов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га Тихого океана, Средиземноморья, Кав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места раскола континентов гигантскими трещинами – рифтам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чная Афр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Точное число вулканов пока неизвестно, т.к. много их и на дне океана, особенно в срединно-океанических хреб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 континентах, среди обширных равнин, вулканы ред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 не так было в древние эпохи, когда большие пространства континентов заливала лава из трещин. Так возникли, например, Колумбийское плато, Среднесибирское плоскогорь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0006-006-Gek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224677364"/>
          <p:cNvPicPr/>
          <p:nvPr/>
        </p:nvPicPr>
        <p:blipFill>
          <a:blip r:embed="rId1"/>
          <a:srcRect l="0" t="0" r="0" b="5313"/>
          <a:stretch/>
        </p:blipFill>
        <p:spPr>
          <a:xfrm>
            <a:off x="0" y="0"/>
            <a:ext cx="90486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slide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1306228144_0"/>
          <p:cNvPicPr/>
          <p:nvPr/>
        </p:nvPicPr>
        <p:blipFill>
          <a:blip r:embed="rId1"/>
          <a:srcRect l="0" t="0" r="0" b="4399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21856_ecu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539640" y="33336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улканы, извержение вулкан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сположение вулканов на Земл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следствия извержения вулкан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щита насел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6. Защита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42920" y="981000"/>
            <a:ext cx="687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тивная власть устанавливает сигнал тревоги и вместе с вулканологической службой готовит план эвакуации; производит защитные и предупредительные меры, предложенные вулканологической служ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image012"/>
          <p:cNvPicPr/>
          <p:nvPr/>
        </p:nvPicPr>
        <p:blipFill>
          <a:blip r:embed="rId1"/>
          <a:srcRect l="0" t="19482" r="0" b="0"/>
          <a:stretch/>
        </p:blipFill>
        <p:spPr>
          <a:xfrm>
            <a:off x="1187280" y="2708280"/>
            <a:ext cx="7058160" cy="3909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7"/>
          <p:cNvSpPr/>
          <p:nvPr/>
        </p:nvSpPr>
        <p:spPr>
          <a:xfrm>
            <a:off x="1835280" y="2050920"/>
            <a:ext cx="551952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Алгоритм действия при извержении вул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Спасибо </a:t>
            </a:r>
            <a:br>
              <a:rPr sz="8000"/>
            </a:b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за </a:t>
            </a:r>
            <a:br>
              <a:rPr sz="8000"/>
            </a:b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учаемые вопрос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улканы, извержение вулканов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ипы вулканов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Где встречаются вулканы на Земле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пасные явления, возникающие во время извержения вулкан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оследствия извержения вулканов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Защита насел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улканы, извержение ву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улка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геологические образования на поверхности земной коры или коры другой планеты, где магма выходит на поверхность, образуя лаву, вулканические газы, камни (вулканические бомбы) и пирокластические пот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во «вулкан» происходит от имени древнеримского бога огня Вулк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аука, изучающая вулка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улканология, геоморф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Vulkan -Thorvaldsen - Rosenberg.jpg"/>
          <p:cNvPicPr/>
          <p:nvPr/>
        </p:nvPicPr>
        <p:blipFill>
          <a:blip r:embed="rId1"/>
          <a:stretch/>
        </p:blipFill>
        <p:spPr>
          <a:xfrm>
            <a:off x="7413480" y="3284640"/>
            <a:ext cx="164304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Извержение вулка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процесс выброса вулканом на земную поверхность раскалённых обломков, пепла, излияние магмы, которая, излившись на поверхность, становится лавой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вержение вулкана может иметь временной период от нескольких часов до многих л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0003-003-Vulkanicheskaja-bomb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_v01_18401562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3ff99983c_220787"/>
          <p:cNvPicPr/>
          <p:nvPr/>
        </p:nvPicPr>
        <p:blipFill>
          <a:blip r:embed="rId1"/>
          <a:stretch/>
        </p:blipFill>
        <p:spPr>
          <a:xfrm>
            <a:off x="-108000" y="0"/>
            <a:ext cx="1026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kluchevskaya-sopka"/>
          <p:cNvPicPr/>
          <p:nvPr/>
        </p:nvPicPr>
        <p:blipFill>
          <a:blip r:embed="rId1"/>
          <a:stretch/>
        </p:blipFill>
        <p:spPr>
          <a:xfrm>
            <a:off x="-828720" y="0"/>
            <a:ext cx="10530000" cy="877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4:01:18Z</dcterms:created>
  <dc:creator>USER</dc:creator>
  <dc:description/>
  <dc:language>en-US</dc:language>
  <cp:lastModifiedBy>user</cp:lastModifiedBy>
  <dcterms:modified xsi:type="dcterms:W3CDTF">2017-09-07T17:02:36Z</dcterms:modified>
  <cp:revision>4</cp:revision>
  <dc:subject/>
  <dc:title>Слайд 1</dc:title>
</cp:coreProperties>
</file>