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5A5-FB0F-405F-9164-23619B24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A24-3C8E-4FB1-A15B-34182D7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A75-E885-4003-BF65-4EB1B403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620-B7EC-491A-A404-AFFA66A2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31F-BD9B-4FB2-B5C9-F8B5696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A98-D778-42A6-ACE6-6665495C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1E9-2879-4AD0-9738-8BA9A366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EE4-4059-46B7-9A2F-7B7000C3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58A-A333-42CF-97A6-326E82C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176-5B98-413C-8D85-F2A56AF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230-54A3-4CA7-B142-7FE7F1D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4A0-0E55-48BB-92EC-9BB9CF4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86BB-D8D0-4FD8-9BC1-C6AEA92761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lex\AppData\Local\Temp\Rar$DI06.786\Радуга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nashi - Гимн Олимпиады 2014, Сочи 2014. Олимпийский гимн  (audiopoisk.com).mp3" descr=""/>
          <p:cNvPicPr/>
          <p:nvPr/>
        </p:nvPicPr>
        <p:blipFill>
          <a:blip r:embed="rId2"/>
          <a:stretch/>
        </p:blipFill>
        <p:spPr>
          <a:xfrm>
            <a:off x="97164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38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 –это крас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http://sochi-schools.ru/games2014/im/n_359foto.jpeg"/>
          <p:cNvPicPr/>
          <p:nvPr/>
        </p:nvPicPr>
        <p:blipFill>
          <a:blip r:embed="rId1"/>
          <a:stretch/>
        </p:blipFill>
        <p:spPr>
          <a:xfrm>
            <a:off x="0" y="76500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i1185.photobucket.com/albums/z343/feldsparta4/2011-Biathlon-1000px/IMG_2957.jpg"/>
          <p:cNvPicPr/>
          <p:nvPr/>
        </p:nvPicPr>
        <p:blipFill>
          <a:blip r:embed="rId2"/>
          <a:stretch/>
        </p:blipFill>
        <p:spPr>
          <a:xfrm>
            <a:off x="2843280" y="765000"/>
            <a:ext cx="3085920" cy="17956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98" name="Рисунок 5" descr="http://www.bolshoisport.ru/uploads/image/file/6163/screen_RIAN_01307730.HR.ru.jpg"/>
          <p:cNvPicPr/>
          <p:nvPr/>
        </p:nvPicPr>
        <p:blipFill>
          <a:blip r:embed="rId3"/>
          <a:stretch/>
        </p:blipFill>
        <p:spPr>
          <a:xfrm>
            <a:off x="0" y="2637000"/>
            <a:ext cx="2735280" cy="22161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99" name="Picture 2" descr="http://zdorovosport.ru/sport5.jpg"/>
          <p:cNvPicPr/>
          <p:nvPr/>
        </p:nvPicPr>
        <p:blipFill>
          <a:blip r:embed="rId4"/>
          <a:stretch/>
        </p:blipFill>
        <p:spPr>
          <a:xfrm>
            <a:off x="2916360" y="2708280"/>
            <a:ext cx="3125520" cy="20890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0" name="Picture 4" descr="http://www.stadium.ru/Content/NewsImages/MainImages/Big/240cbd04-c2db-4037-a808-1529447bf952.jpg"/>
          <p:cNvPicPr/>
          <p:nvPr/>
        </p:nvPicPr>
        <p:blipFill>
          <a:blip r:embed="rId5"/>
          <a:stretch/>
        </p:blipFill>
        <p:spPr>
          <a:xfrm>
            <a:off x="6156360" y="2708280"/>
            <a:ext cx="2962080" cy="20890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1" name="Picture 6" descr="http://static.eva.ru/eva/0-10000/32/channel/Zimnie_vidy_sporta_na_Olimpiade_interesnye_fakty_17529669890587133.jpg?H"/>
          <p:cNvPicPr/>
          <p:nvPr/>
        </p:nvPicPr>
        <p:blipFill>
          <a:blip r:embed="rId6"/>
          <a:stretch/>
        </p:blipFill>
        <p:spPr>
          <a:xfrm>
            <a:off x="-108000" y="5013360"/>
            <a:ext cx="2951280" cy="18446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2" name="Picture 8" descr="https://encrypted-tbn1.gstatic.com/images?q=tbn:ANd9GcQZ9cBUtIawSaLFApQN9CMqcVqUSfnwRkzG5zDe_00KR3tyzQwj"/>
          <p:cNvPicPr/>
          <p:nvPr/>
        </p:nvPicPr>
        <p:blipFill>
          <a:blip r:embed="rId7"/>
          <a:stretch/>
        </p:blipFill>
        <p:spPr>
          <a:xfrm>
            <a:off x="6300720" y="4941720"/>
            <a:ext cx="2833920" cy="1916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3" name="Picture 10" descr="http://i.eurosport.ru/2013/02/11/952603-15667132-640-360.jpg"/>
          <p:cNvPicPr/>
          <p:nvPr/>
        </p:nvPicPr>
        <p:blipFill>
          <a:blip r:embed="rId8"/>
          <a:stretch/>
        </p:blipFill>
        <p:spPr>
          <a:xfrm>
            <a:off x="2916360" y="4941720"/>
            <a:ext cx="3225600" cy="1916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4" name="Picture 12" descr="http://t3.gstatic.com/images?q=tbn:ANd9GcRB0_G8USc4gO5RURlmPyb4isxb6bi_ndJBRc-NPpfomeWnmYGy"/>
          <p:cNvPicPr/>
          <p:nvPr/>
        </p:nvPicPr>
        <p:blipFill>
          <a:blip r:embed="rId9"/>
          <a:stretch/>
        </p:blipFill>
        <p:spPr>
          <a:xfrm>
            <a:off x="6156360" y="765000"/>
            <a:ext cx="2806560" cy="1862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3708360" cy="29671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07" name="Picture 7" descr="C:\Users\lex\AppData\Local\Temp\Rar$DI04.677\атлеты4.jpg"/>
          <p:cNvPicPr/>
          <p:nvPr/>
        </p:nvPicPr>
        <p:blipFill>
          <a:blip r:embed="rId2"/>
          <a:stretch/>
        </p:blipFill>
        <p:spPr>
          <a:xfrm>
            <a:off x="2050920" y="3290760"/>
            <a:ext cx="2305080" cy="35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greece1"/>
          <p:cNvPicPr/>
          <p:nvPr/>
        </p:nvPicPr>
        <p:blipFill>
          <a:blip r:embed="rId3"/>
          <a:stretch/>
        </p:blipFill>
        <p:spPr>
          <a:xfrm>
            <a:off x="4427640" y="3573360"/>
            <a:ext cx="4189320" cy="29307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9" name="Picture 7" descr="http://www.klbviktoria.com/assets/images/Aprel2011-1/518e0c5e-5f83-4f.jpg"/>
          <p:cNvPicPr/>
          <p:nvPr/>
        </p:nvPicPr>
        <p:blipFill>
          <a:blip r:embed="rId4"/>
          <a:stretch/>
        </p:blipFill>
        <p:spPr>
          <a:xfrm>
            <a:off x="4664160" y="158760"/>
            <a:ext cx="4065480" cy="307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игурное катание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, пожалуй, не найдётся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видеть наяв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скусство создаёт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хрустальном звёздном льду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фигурного катань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нтастический успех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рт – «очей очарованье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здник радостный для вс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ыжки с трамплина </a:t>
            </a: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но чудо – исполи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и гор стоит трамплин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дивная картина –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прыгают с трамплина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уск с него – путь до прыж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ка очень высока!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ршив прыжок тако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осемь метров над землёй)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здухе спортсмен пари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тню метров он летит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жде чем земли коснётс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такое удаётся?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нировки и отваг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бсолютно всем на бла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1560600"/>
            <a:ext cx="77724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9138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лимпийские игры в Со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5"/>
          <p:cNvSpPr/>
          <p:nvPr/>
        </p:nvSpPr>
        <p:spPr>
          <a:xfrm>
            <a:off x="3924360" y="5805360"/>
            <a:ext cx="504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альный за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http://img.championat.com/i/news/34/90/1369903490_b_medal-paralimpijskikh-igr-v-sochi.jpg"/>
          <p:cNvPicPr/>
          <p:nvPr/>
        </p:nvPicPr>
        <p:blipFill>
          <a:blip r:embed="rId1"/>
          <a:stretch/>
        </p:blipFill>
        <p:spPr>
          <a:xfrm>
            <a:off x="0" y="1916280"/>
            <a:ext cx="2987640" cy="3241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1131244"/>
          <p:cNvPicPr/>
          <p:nvPr/>
        </p:nvPicPr>
        <p:blipFill>
          <a:blip r:embed="rId2"/>
          <a:stretch/>
        </p:blipFill>
        <p:spPr>
          <a:xfrm>
            <a:off x="2987640" y="1673280"/>
            <a:ext cx="5761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30072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      С     Б   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импийские чемпионы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564000" y="386064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http://img.ntv.ru/home/news/20140209/vil1.jpg"/>
          <p:cNvPicPr/>
          <p:nvPr/>
        </p:nvPicPr>
        <p:blipFill>
          <a:blip r:embed="rId1"/>
          <a:stretch/>
        </p:blipFill>
        <p:spPr>
          <a:xfrm>
            <a:off x="250920" y="620640"/>
            <a:ext cx="2305080" cy="1368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5" name="TextBox 8"/>
          <p:cNvSpPr/>
          <p:nvPr/>
        </p:nvSpPr>
        <p:spPr>
          <a:xfrm>
            <a:off x="2855160" y="198900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Ан (шорт-тре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9" descr="http://www.vedomosti.ru/img/photo/192431/198601_ns.jpg"/>
          <p:cNvPicPr/>
          <p:nvPr/>
        </p:nvPicPr>
        <p:blipFill>
          <a:blip r:embed="rId2"/>
          <a:stretch/>
        </p:blipFill>
        <p:spPr>
          <a:xfrm>
            <a:off x="179280" y="2349360"/>
            <a:ext cx="2376720" cy="1584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57" name="Рисунок 10" descr="http://img.sportal.ru/uploads/news/2014_07/images/00397382.jpg"/>
          <p:cNvPicPr/>
          <p:nvPr/>
        </p:nvPicPr>
        <p:blipFill>
          <a:blip r:embed="rId3"/>
          <a:stretch/>
        </p:blipFill>
        <p:spPr>
          <a:xfrm>
            <a:off x="5580000" y="2349360"/>
            <a:ext cx="3168720" cy="1656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58" name="Рисунок 11" descr="http://www.metronews.ru/_internal/gxml!0/2qijkhn0ctpwx8acoz5fxkpvtmr4nbh$86oqchcsu1w60q0tkwu86tfy85bnehy/000_DV1669897.jpeg"/>
          <p:cNvPicPr/>
          <p:nvPr/>
        </p:nvPicPr>
        <p:blipFill>
          <a:blip r:embed="rId4"/>
          <a:stretch/>
        </p:blipFill>
        <p:spPr>
          <a:xfrm>
            <a:off x="2916360" y="620640"/>
            <a:ext cx="2376360" cy="1368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59" name="Рисунок 12" descr="http://sport.mail.ru/pic/55/16/image163084_06dee24fbacb2f3339d631658d54e46f.jpg"/>
          <p:cNvPicPr/>
          <p:nvPr/>
        </p:nvPicPr>
        <p:blipFill>
          <a:blip r:embed="rId5"/>
          <a:stretch/>
        </p:blipFill>
        <p:spPr>
          <a:xfrm>
            <a:off x="5940360" y="620640"/>
            <a:ext cx="2592360" cy="1530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60" name="TextBox 14"/>
          <p:cNvSpPr/>
          <p:nvPr/>
        </p:nvSpPr>
        <p:spPr>
          <a:xfrm>
            <a:off x="329040" y="1989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га Вилу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6372360" y="2060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473040" y="39337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атлон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7" descr="http://www.tele.ru/upload/iblock/c83/olimpiyskie-igry-sochi-2014-olimpiada-figurnoe-katanie-ekaterina-bobrova-tatyana-volosozhar-elena-il.jpg"/>
          <p:cNvPicPr/>
          <p:nvPr/>
        </p:nvPicPr>
        <p:blipFill>
          <a:blip r:embed="rId6"/>
          <a:stretch/>
        </p:blipFill>
        <p:spPr>
          <a:xfrm>
            <a:off x="2843280" y="2421000"/>
            <a:ext cx="2520720" cy="15271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64" name="Рисунок 18" descr="http://news.mail.ru/pic/c9/69/image17093644_28e55817fc8c20d5f45940b70ce0f990.jpg"/>
          <p:cNvPicPr/>
          <p:nvPr/>
        </p:nvPicPr>
        <p:blipFill>
          <a:blip r:embed="rId7"/>
          <a:stretch/>
        </p:blipFill>
        <p:spPr>
          <a:xfrm>
            <a:off x="42840" y="4437000"/>
            <a:ext cx="2846520" cy="1944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65" name="TextBox 19"/>
          <p:cNvSpPr/>
          <p:nvPr/>
        </p:nvSpPr>
        <p:spPr>
          <a:xfrm>
            <a:off x="26208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Зубков и А Вое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http://photography.ice-dance.com/2012-13/cache/12CoR/Bonus/LSP/12CoR-LSP-0049-AS-NP_595.jpg"/>
          <p:cNvPicPr/>
          <p:nvPr/>
        </p:nvPicPr>
        <p:blipFill>
          <a:blip r:embed="rId8"/>
          <a:stretch/>
        </p:blipFill>
        <p:spPr>
          <a:xfrm>
            <a:off x="3224160" y="4260960"/>
            <a:ext cx="2067120" cy="2536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7"/>
          <p:cNvSpPr/>
          <p:nvPr/>
        </p:nvSpPr>
        <p:spPr>
          <a:xfrm>
            <a:off x="3206160" y="638172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елина Сотн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372360" y="630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5867280" y="393372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 Волосожар.    М.Тран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3" descr="http://ss.sport-express.ru/userfiles/press/imagesinsidetext/41/41572/4.jpg"/>
          <p:cNvPicPr/>
          <p:nvPr/>
        </p:nvPicPr>
        <p:blipFill>
          <a:blip r:embed="rId9"/>
          <a:stretch/>
        </p:blipFill>
        <p:spPr>
          <a:xfrm>
            <a:off x="5724360" y="4292640"/>
            <a:ext cx="3225960" cy="22320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71" name="TextBox 25"/>
          <p:cNvSpPr/>
          <p:nvPr/>
        </p:nvSpPr>
        <p:spPr>
          <a:xfrm>
            <a:off x="6157080" y="6550200"/>
            <a:ext cx="19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 Третья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имние олимпийск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Биатл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Лыжные го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Фрист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Прыжки с трам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Сноуборд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Боб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Сан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Конькобеж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Фигурное ка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Шорт-тр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Хокк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Кёрл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11680" y="1989000"/>
            <a:ext cx="5332320" cy="36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 –это крас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http://sochi-schools.ru/games2014/im/n_359foto.jpeg"/>
          <p:cNvPicPr/>
          <p:nvPr/>
        </p:nvPicPr>
        <p:blipFill>
          <a:blip r:embed="rId1"/>
          <a:stretch/>
        </p:blipFill>
        <p:spPr>
          <a:xfrm>
            <a:off x="0" y="76500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://i1185.photobucket.com/albums/z343/feldsparta4/2011-Biathlon-1000px/IMG_2957.jpg"/>
          <p:cNvPicPr/>
          <p:nvPr/>
        </p:nvPicPr>
        <p:blipFill>
          <a:blip r:embed="rId2"/>
          <a:stretch/>
        </p:blipFill>
        <p:spPr>
          <a:xfrm>
            <a:off x="2843280" y="765000"/>
            <a:ext cx="3085920" cy="17956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8" name="Рисунок 5" descr="http://www.bolshoisport.ru/uploads/image/file/6163/screen_RIAN_01307730.HR.ru.jpg"/>
          <p:cNvPicPr/>
          <p:nvPr/>
        </p:nvPicPr>
        <p:blipFill>
          <a:blip r:embed="rId3"/>
          <a:stretch/>
        </p:blipFill>
        <p:spPr>
          <a:xfrm>
            <a:off x="0" y="2637000"/>
            <a:ext cx="2735280" cy="22161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9" name="Picture 2" descr="http://zdorovosport.ru/sport5.jpg"/>
          <p:cNvPicPr/>
          <p:nvPr/>
        </p:nvPicPr>
        <p:blipFill>
          <a:blip r:embed="rId4"/>
          <a:stretch/>
        </p:blipFill>
        <p:spPr>
          <a:xfrm>
            <a:off x="2916360" y="2708280"/>
            <a:ext cx="3125520" cy="20890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0" name="Picture 4" descr="http://www.stadium.ru/Content/NewsImages/MainImages/Big/240cbd04-c2db-4037-a808-1529447bf952.jpg"/>
          <p:cNvPicPr/>
          <p:nvPr/>
        </p:nvPicPr>
        <p:blipFill>
          <a:blip r:embed="rId5"/>
          <a:stretch/>
        </p:blipFill>
        <p:spPr>
          <a:xfrm>
            <a:off x="6156360" y="2708280"/>
            <a:ext cx="2962080" cy="20890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1" name="Picture 6" descr="http://static.eva.ru/eva/0-10000/32/channel/Zimnie_vidy_sporta_na_Olimpiade_interesnye_fakty_17529669890587133.jpg?H"/>
          <p:cNvPicPr/>
          <p:nvPr/>
        </p:nvPicPr>
        <p:blipFill>
          <a:blip r:embed="rId6"/>
          <a:stretch/>
        </p:blipFill>
        <p:spPr>
          <a:xfrm>
            <a:off x="-108000" y="5013360"/>
            <a:ext cx="2951280" cy="18446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2" name="Picture 8" descr="https://encrypted-tbn1.gstatic.com/images?q=tbn:ANd9GcQZ9cBUtIawSaLFApQN9CMqcVqUSfnwRkzG5zDe_00KR3tyzQwj"/>
          <p:cNvPicPr/>
          <p:nvPr/>
        </p:nvPicPr>
        <p:blipFill>
          <a:blip r:embed="rId7"/>
          <a:stretch/>
        </p:blipFill>
        <p:spPr>
          <a:xfrm>
            <a:off x="6300720" y="4941720"/>
            <a:ext cx="2833920" cy="1916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3" name="Picture 10" descr="http://i.eurosport.ru/2013/02/11/952603-15667132-640-360.jpg"/>
          <p:cNvPicPr/>
          <p:nvPr/>
        </p:nvPicPr>
        <p:blipFill>
          <a:blip r:embed="rId8"/>
          <a:stretch/>
        </p:blipFill>
        <p:spPr>
          <a:xfrm>
            <a:off x="2916360" y="4941720"/>
            <a:ext cx="3225600" cy="1916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4" name="Picture 12" descr="http://t3.gstatic.com/images?q=tbn:ANd9GcRB0_G8USc4gO5RURlmPyb4isxb6bi_ndJBRc-NPpfomeWnmYGy"/>
          <p:cNvPicPr/>
          <p:nvPr/>
        </p:nvPicPr>
        <p:blipFill>
          <a:blip r:embed="rId9"/>
          <a:stretch/>
        </p:blipFill>
        <p:spPr>
          <a:xfrm>
            <a:off x="6156360" y="765000"/>
            <a:ext cx="2806560" cy="1862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1липнитская.avi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188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от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http://azerros.ru/uploads/posts/2013-12/1387444713_80c1b4728edbd943a9187e817085e7ba.jpg"/>
          <p:cNvPicPr/>
          <p:nvPr/>
        </p:nvPicPr>
        <p:blipFill>
          <a:blip r:embed="rId1"/>
          <a:stretch/>
        </p:blipFill>
        <p:spPr>
          <a:xfrm>
            <a:off x="0" y="1197000"/>
            <a:ext cx="4259160" cy="2682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http://i.tv.eurosport.ru/2014/01/21/1169484-21056646-317-238.jpg"/>
          <p:cNvPicPr/>
          <p:nvPr/>
        </p:nvPicPr>
        <p:blipFill>
          <a:blip r:embed="rId2"/>
          <a:stretch/>
        </p:blipFill>
        <p:spPr>
          <a:xfrm>
            <a:off x="4788000" y="1166760"/>
            <a:ext cx="4032000" cy="26938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0" name="Рисунок 5" descr="http://cdn.img.rsport.ru/images/71631/61/716316198.jpg"/>
          <p:cNvPicPr/>
          <p:nvPr/>
        </p:nvPicPr>
        <p:blipFill>
          <a:blip r:embed="rId3"/>
          <a:stretch/>
        </p:blipFill>
        <p:spPr>
          <a:xfrm>
            <a:off x="0" y="3933720"/>
            <a:ext cx="4284720" cy="25909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91" name="Рисунок 7" descr="http://www.olimpicblog.ru/wp-content/uploads/2012/12/%D0%95%D0%BB%D0%B8%D0%B7%D0%B0%D0%B2%D0%B5%D1%82%D0%B0.jpg"/>
          <p:cNvPicPr/>
          <p:nvPr/>
        </p:nvPicPr>
        <p:blipFill>
          <a:blip r:embed="rId4"/>
          <a:stretch/>
        </p:blipFill>
        <p:spPr>
          <a:xfrm>
            <a:off x="4670280" y="4005360"/>
            <a:ext cx="4149720" cy="251928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1560600"/>
            <a:ext cx="77724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ww</cp:lastModifiedBy>
  <dcterms:modified xsi:type="dcterms:W3CDTF">2017-09-13T14:07:33Z</dcterms:modified>
  <cp:revision>818</cp:revision>
  <dc:subject/>
  <dc:title>Diapositiva 1</dc:title>
</cp:coreProperties>
</file>