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D344-C64D-4354-AEF8-3AF13A03D3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043D-A6C6-4E51-A27B-F31006C459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аждый родитель получает «открытое письмо» своего ребёнк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CD8E-5A92-409D-B16A-5007418302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 отвечают на вопросы предыдущего слайда и заполняется сравнительная табли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B4BE-7C8E-455E-83F6-07BDE1AE58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акие проблемы возникли у ваших детей с переходом в 5 класс?» -вопрос родителям. Список дополняется ответами на этот вопрос учителями и деть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0705-12E1-4E39-BB7B-0B419CD24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3069-1424-475E-AB4A-B4E33659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613B-D84F-4D04-8C74-4F59F4DB6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8732-AF3D-486F-8670-1282B6FAD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8A53-1C4F-4C09-947D-1149E410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BC1E-A5CC-4092-A520-6EBC2966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D2B8-23AD-4A3B-9D09-A93D54CA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92EC-0074-4849-974D-3EBD85A9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C31C-B4B1-4B2E-A058-E0CF7C23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7AE9-390D-47B4-9E99-75BFC509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9F6F-28B0-4F9B-B78F-E1E4145B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EEC0-5CDC-4330-823D-0D960020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BFCF-A4A5-45A3-A1B2-A0FA4FFCB5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зрастные особенности младшего подрост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требность в достойном положении в коллективе сверстников, в семь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енная утомляемос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емление обзавестись верным друго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емление избежать изоляции, как в классе, так и в малом коллектив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енный интерес к вопросу о “соотношении сил” в класс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емление отмежеваться от всего подчеркнуто детского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авторитета возраст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ращение к необоснованным запрета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приимчивость к промахам учителе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оценка своих возможностей, реализация которых предполагается в отдаленном будуще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адаптации к неудача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адаптации к положению “худшего”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рко выраженная эмоциональнос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ебовательность к соответствию слова делу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енный интерес к спорту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влечение коллекционированием, увлечение музыкой и киноискусств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м можно помоч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е условие школьного успеха пятиклассника —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безусловное принятие ребенка, несмотря на те неудачи, с которыми он уже столкнулся или может столкнутьс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ас, что-то беспокоит в поведении ребенка, постарайтесь, как можно скорее встретиться и обсудить это с классным руководителем или психоло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 семье произошли какие то события, повлиявшие на психологическое состояние ребенка (развод, отъезд в долгую командировку кого-то из родителей, рождение еще одного ребенка и тд.) сообщите об этом классному руководите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яйте интерес к школьным делам, обсуждайте сложные ситуации, вместе ищите выход из конфликтов. Неформальное общение со своим ребенком после прошедшего школьного дн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огите ребенку выучить имена новых уч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следует сразу ослаблять контроль за учебной деятельностью ребенка, если в период начальной школы он привык к вашему контро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учайте его к самостоятельности постепе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17240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м можно помоч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язательное знакомство с его одноклассниками и возможность общения ребят после школ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допустимость физических мер воздействия, запугивания, критики в адрес ребенка, особенно в присутствии других людей (бабушек, дедушек, сверстников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лючение таких мер наказания, как лишение удовольствий, физические и психические наказ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т темперамента ребенка в период адаптации к школьному обучению. Медлительные и малообщительные дети гораздо труднее привыкают к классу, быстро теряют к нему интерес, если чувствуют со стороны взрослых и сверстников насилие, сарказм и жесток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оставление ребенку самостоятельности в учебной работе и организация обоснованного контроля за его учебной деятельност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ощрение ребенка, и не только за учебные успехи. Моральное стимулирование достижений ребен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ми помощниками родителей в сложных ситуациях являются терпение, внимание и понимание. Постарайтесь создать благоприятный климат в семье для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17240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м можно помоч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здавайте условия для развит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амостоятельности в поведении ребенка. У пятиклассника непременно должны быть домашние обязанности, за выполнение которых он несет ответствен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смотря на кажущуюся взрослость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ятиклассник нуждается в ненавязчивом контроле со стороны родителей, поскольку не всегда может сам сориентироваться в новых требованиях школьной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пятиклассника учит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уже не такой непререкаемый авторитет, как раньше, в адрес учителей могут звучать критические замечания. Важно обсудить с ребенком причины его недовольства, поддерживая при этом авторитет учите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ятикласснику уже не так интересна учеб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ама по себе, многим в школе интересно бывать потому, что там много друзей. Важно, чтобы у ребенка была возможность обсудить свои школьные дела, учебу и отношения с друзьями в семье, с родител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900000" y="115920"/>
            <a:ext cx="17240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Слова, которые поддерживают и которые разрушают его веру в себ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лова поддерж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я тебя, я уверен, что вы все сделали, хорош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ы делаешь это очень хорош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тебя есть некоторые соображения по этому поводу? Готов ли ты нач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серьезный вызов. Но я уверен. Что ты готов к н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3000" y="1600200"/>
            <a:ext cx="424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Слова разочар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я тебя и твои способности. Я думаю. Ты смог бы сделать это гораздо луч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 идея никогда не сможет быть реализов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для тебя слишком трудно, поэтому я сам это сдел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super027"/>
          <p:cNvPicPr/>
          <p:nvPr/>
        </p:nvPicPr>
        <p:blipFill>
          <a:blip r:embed="rId1"/>
          <a:stretch/>
        </p:blipFill>
        <p:spPr>
          <a:xfrm>
            <a:off x="7164360" y="5229360"/>
            <a:ext cx="152892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особы преодоления тревожнос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сравнивайте ребенка с окружающ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веряйте ребен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аще хвалите его, но так, чтобы он знал, за ч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монстрируйте образцы уверенного поведения, будьте во всем примером ребен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предъявляйте к ребенку завышенных требова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дьте последовательны в воспитании ребенка. Не запрещайте без всяких причин того, что разрешали ран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райтесь делать ребенку меньше замеч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уйте наказание лишь в крайних случа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унижайте ребенка, наказывая 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аясь с ребенком, не подрывайте авторитет других значимых взрослых людей. Например, нельзя говорить ребенку: «Много ваша учительница понимает, лучше меня слушай!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могите ему найти дело по ду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lands078"/>
          <p:cNvPicPr/>
          <p:nvPr/>
        </p:nvPicPr>
        <p:blipFill>
          <a:blip r:embed="rId1"/>
          <a:stretch/>
        </p:blipFill>
        <p:spPr>
          <a:xfrm>
            <a:off x="179280" y="189000"/>
            <a:ext cx="1440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Открытое письмо родителям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рогие 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т я и учусь в 5 класс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жде всего, хочу сообщить, что я 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сравнивать с учёбой в 4 классе, то сейчас 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огда я ________________________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ый интересный для меня предмет 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ещё я _________________________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кроме этого я хочу рассказать  о 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ым трудным для меня в 5 классе 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е всего я хочу 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в большинстве случаев настроение у меня 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щё хочу сказать, что учителя, которые ведут уроки в 5 классе 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наш классный руководитель 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чу признаться, что у меня совсем нет времени на 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вот то, что заинтересовало меня, так это 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5 классе меня удивило 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я с гордостью могу сказать, что теперь умею 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ль, но меня торопят 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пко 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а _________________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я 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i?id=36805925&amp;tov=5"/>
          <p:cNvPicPr/>
          <p:nvPr/>
        </p:nvPicPr>
        <p:blipFill>
          <a:blip r:embed="rId2"/>
          <a:stretch/>
        </p:blipFill>
        <p:spPr>
          <a:xfrm>
            <a:off x="7308720" y="4581360"/>
            <a:ext cx="172728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ими должны быть пятиклассни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ятиклассники долж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ть общаться с одноклассниками, иметь свое мнение и формировать его с учетом мнения других, уметь поддерживать отнош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ть правильно распределять и планировать свое время, проявлять самостоятельность в своих делах и в случае необходимости обращаться за помощью взрослы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раться учиться, стремиться овладевать знаниями, уметь заниматься самостоятель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ть дружить, иметь постоянного друга, общаться с мальчиками и девочками, самостоятельно разрешать возникающие конфликт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ть постоянные обязанности дома, выполнять их без напоминания, помогать родителя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ть общаться с продавцом, врачом и т. д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ть предвидеть последствия своих действий, делать безопасный, правильный выб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J0233966"/>
          <p:cNvPicPr/>
          <p:nvPr/>
        </p:nvPicPr>
        <p:blipFill>
          <a:blip r:embed="rId1"/>
          <a:stretch/>
        </p:blipFill>
        <p:spPr>
          <a:xfrm>
            <a:off x="324000" y="115920"/>
            <a:ext cx="235584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итерии готовности к обучению в средней школ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формированность основных компонентов учебной деятельности, успешное усвоение программного материа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вообразования младшего школьного возраста – произвольность, рефлексия, мышление в понятиях (в соответствующих возрасту формах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чественно иной, более «взрослый» тип взаимоотношений с учителями и одноклассни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просы родителя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учебных предметов изучалось Вашим ребёнком в 4 классе? В 5 класс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ва недельная учебная нагрузка была у Вашего ребёнка в 4 классе? В 5 класс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учителей обучало Вашего ребёнка в 4 классе? В 5 класс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времени в среднем тратил Ваш ребёнок на подготовку домашних заданий в 4 классе? В 5 класс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J0233964"/>
          <p:cNvPicPr/>
          <p:nvPr/>
        </p:nvPicPr>
        <p:blipFill>
          <a:blip r:embed="rId1"/>
          <a:stretch/>
        </p:blipFill>
        <p:spPr>
          <a:xfrm>
            <a:off x="468360" y="115920"/>
            <a:ext cx="194472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равнительная табл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11280" y="1557360"/>
          <a:ext cx="6337080" cy="5025960"/>
        </p:xfrm>
        <a:graphic>
          <a:graphicData uri="http://schemas.openxmlformats.org/drawingml/2006/table">
            <a:tbl>
              <a:tblPr/>
              <a:tblGrid>
                <a:gridCol w="619200"/>
                <a:gridCol w="2622240"/>
                <a:gridCol w="3095640"/>
              </a:tblGrid>
              <a:tr h="890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– 9 предмет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– 1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– 2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– 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– 1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-2,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42" descr="SCALES"/>
          <p:cNvPicPr/>
          <p:nvPr/>
        </p:nvPicPr>
        <p:blipFill>
          <a:blip r:embed="rId1"/>
          <a:stretch/>
        </p:blipFill>
        <p:spPr>
          <a:xfrm>
            <a:off x="6588000" y="1268280"/>
            <a:ext cx="231480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зникающие пробл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чень много разных учител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привычное расписа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ного новых кабинет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вые дети в класс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вый классный руководител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блемы со старшеклассник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росший темп рабо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росший объем работ в классе и д/з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согласованность, даже противоречивость требований отдельных педагог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лабление или отсутствие контрол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обходимость на каждом уроке приспосабливаться к своеобразном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мпу, особенностям речи учителей;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самостоятельность в работе с текст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зкий уровень развития реч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абое развитие навыков самостоятельной рабо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оеобразие подросткового возраста.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PE02288_"/>
          <p:cNvPicPr/>
          <p:nvPr/>
        </p:nvPicPr>
        <p:blipFill>
          <a:blip r:embed="rId1"/>
          <a:stretch/>
        </p:blipFill>
        <p:spPr>
          <a:xfrm>
            <a:off x="6516720" y="4249800"/>
            <a:ext cx="221760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знаки успешной адапта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влетворенность ребенка процессом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енок легко справляется с программ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пень самостоятельности ребенка при выполнении им учебных заданий, готовность прибегнуть к помощи взрослого лишь ПОСЛЕ попыток выполнить задание само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влетворенность межличностными отношениями – с одноклассниками и учител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изнаки дезадапт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лый, утомлённый внешний вид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желание ребёнка делиться своими впечатлениями о проведённом д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емление отвлечь взрослого от школьных событий, переключить внимание на другие 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желания выполнять домашние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гативные характеристики в адрес школы, учителей, однокласс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алобы на те или иные события, связанные со школ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спокойный с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ности утреннего пробуждения, вял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оянные жалобы на плохое самочувст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people1840"/>
          <p:cNvPicPr/>
          <p:nvPr/>
        </p:nvPicPr>
        <p:blipFill>
          <a:blip r:embed="rId1"/>
          <a:stretch/>
        </p:blipFill>
        <p:spPr>
          <a:xfrm>
            <a:off x="108000" y="549360"/>
            <a:ext cx="11509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зможные реак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ллектуаль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нарушение интеллектуальной деятельности. Отставание в развитии от сверст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еденче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несоответствие поведения ребёнка правовым и моральным нормам (агрессивность, асоциальное повед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муникативна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затруднения в общении со сверстниками и взросл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матиче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отклонения в здоровье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моциональ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моциональные трудности, тревоги по поводу переживания проблем в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30:51Z</dcterms:created>
  <dc:creator>http://www.psy.5igorsk.ru</dc:creator>
  <dc:description/>
  <dc:language>en-US</dc:language>
  <cp:lastModifiedBy>9</cp:lastModifiedBy>
  <dcterms:modified xsi:type="dcterms:W3CDTF">2016-10-27T06:53:40Z</dcterms:modified>
  <cp:revision>148</cp:revision>
  <dc:subject/>
  <dc:title>Родительское собрание в 5 классе</dc:title>
</cp:coreProperties>
</file>