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274400" y="1091880"/>
            <a:ext cx="479268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204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74760" y="1092240"/>
            <a:ext cx="48006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74760" y="1092240"/>
            <a:ext cx="48006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74760" y="1092240"/>
            <a:ext cx="4797360" cy="39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74760" y="1092240"/>
            <a:ext cx="48006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74760" y="1092240"/>
            <a:ext cx="48006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74760" y="1092240"/>
            <a:ext cx="48006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74760" y="1092240"/>
            <a:ext cx="48006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74760" y="1092240"/>
            <a:ext cx="48006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74760" y="1092240"/>
            <a:ext cx="4797360" cy="39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74760" y="1092240"/>
            <a:ext cx="48006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74760" y="1092240"/>
            <a:ext cx="479916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74760" y="1092240"/>
            <a:ext cx="48006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74760" y="1092240"/>
            <a:ext cx="48006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74760" y="1092240"/>
            <a:ext cx="48006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74760" y="1092240"/>
            <a:ext cx="48006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74760" y="1092240"/>
            <a:ext cx="4797360" cy="39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74760" y="1092240"/>
            <a:ext cx="48006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74760" y="1092240"/>
            <a:ext cx="4797360" cy="39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0640"/>
            <a:ext cx="85993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59932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703760"/>
            <a:ext cx="859932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0640"/>
            <a:ext cx="85993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6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5840" y="2101680"/>
            <a:ext cx="4196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703760"/>
            <a:ext cx="4196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5840" y="4703760"/>
            <a:ext cx="4196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0640"/>
            <a:ext cx="85993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6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7160" y="2101680"/>
            <a:ext cx="276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4520" y="2101680"/>
            <a:ext cx="276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703760"/>
            <a:ext cx="276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7160" y="4703760"/>
            <a:ext cx="276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4520" y="4703760"/>
            <a:ext cx="276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0640"/>
            <a:ext cx="85993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59932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0640"/>
            <a:ext cx="85993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59932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0640"/>
            <a:ext cx="85993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61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5840" y="2101680"/>
            <a:ext cx="41961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0640"/>
            <a:ext cx="85993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0640"/>
            <a:ext cx="85993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0640"/>
            <a:ext cx="85993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6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5840" y="2101680"/>
            <a:ext cx="41961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703760"/>
            <a:ext cx="4196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0640"/>
            <a:ext cx="85993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61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5840" y="2101680"/>
            <a:ext cx="4196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5840" y="4703760"/>
            <a:ext cx="4196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0640"/>
            <a:ext cx="85993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6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5840" y="2101680"/>
            <a:ext cx="4196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703760"/>
            <a:ext cx="859932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5120" y="0"/>
            <a:ext cx="961560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20640"/>
            <a:ext cx="85993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59932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900000" y="1440000"/>
            <a:ext cx="860760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ценка и самооценка в начальных класса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 деятельностном подходе обуч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рамках технолог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пособа диалектического обуч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фелова А.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БОУ «Ермаковская СОШ №2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72760" y="3419280"/>
            <a:ext cx="7707240" cy="30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исать, вставить пропущенные букв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900000"/>
            <a:ext cx="899964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Задание № 3:</a:t>
            </a:r>
            <a:br>
              <a:rPr sz="2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Поб..лели п..ля и луга. Льдом покрылась р..ка. На д..ревьях л..жат сн..говые шапки. Д..твора сделала л..дяную гор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280" y="720720"/>
            <a:ext cx="860436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Задание № 3:</a:t>
            </a:r>
            <a:br>
              <a:rPr sz="2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Поб..лели п..ля и луга. Льдом покрылась р..ка. На д..ревьях л..жат сн..говые шапки. Д..твора сделала л..дяную горк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640" y="2736360"/>
            <a:ext cx="896472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исать, вставить пропущенные букв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ооц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За каждую правильно вставленную букву1балл. Максимально 8 балл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2400" y="571320"/>
            <a:ext cx="860760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ние №1 - 8 баллов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Задание №2 — 5 баллов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Задание №3 — 8 баллов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го 21 бал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99640" y="2339640"/>
            <a:ext cx="789948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 15 учеников- 3 балл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 15 до 25 учеников — 2 балл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 26 учеников- 1 бал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4500720"/>
            <a:ext cx="789948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21 балл + 2 балла = 2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«5»  23 : 100 х 85 = 19 баллов и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«4»  23 : 100 х 67 = 15б.- 18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«3»  23 : 100 х 50 = 11б. - 14 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9440" y="608040"/>
            <a:ext cx="86072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ссчитать заявку на оценку, есл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19280" y="1618920"/>
            <a:ext cx="6099120" cy="27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дание №1 — 4 бал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дание №2 — 8 балл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дание № 3 — 7 балл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 в классе 23 чело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52400" y="899640"/>
            <a:ext cx="86076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 + 8 + 7 = 19 бал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9б. + 2б. = 21 бал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5» 21 : 100 х 85 = 17б. и больш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4»  21 : 100 х 67 = 14б.- 16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3»  21 : 100 х 50 = 10б. - 13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20720" y="1979640"/>
            <a:ext cx="882000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ие УУД развивались на данном урок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3600360"/>
            <a:ext cx="573876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00000" y="646200"/>
            <a:ext cx="8820360" cy="49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99640" y="178920"/>
            <a:ext cx="8604360" cy="71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гические УУ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анализ объектов с целью выделения признаков (существенных, несущественных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синтез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выбор оснований и критериев для сравнения, сериации, классификации объектов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построение логической цепи рассуждения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) доказательство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щеучебные УУ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осознанное и произвольное построение речевого высказывания в устной и письменной форме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выбор наиболее эффективных способов решения задач в зависимости от конкретных услов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280" y="539640"/>
            <a:ext cx="8604360" cy="55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гулятивные УУ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контроль в форме сличения способа действия и его результата с заданным эталоном с целью обнаружения отклонений и отличий от эталона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оценка — выделение и осознание того, что уже усвоено и что еще подлежит усвоению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муникативные УУ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умение слушать и вступать в диалог, участвовать в коллективном обсуждении проблем, интегрироваться в группу сверстников и строить продуктивное взаимодействие и сотрудничество со сверстниками и взрослы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52400" y="1260360"/>
            <a:ext cx="86076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ывод: ученик в начале урока знает, за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что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и на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какую оценку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он может  рассчитывать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620280"/>
            <a:ext cx="860580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ланируемые результаты при реализации ФГО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78920" y="2160360"/>
            <a:ext cx="324036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чност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146320"/>
            <a:ext cx="395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Метапредме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000" y="2160720"/>
            <a:ext cx="288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Предме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793880" y="1800360"/>
            <a:ext cx="271296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800360"/>
            <a:ext cx="144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00720" y="1800360"/>
            <a:ext cx="377964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79640" y="2146320"/>
            <a:ext cx="395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Метапредме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0720" y="3181320"/>
            <a:ext cx="3060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Регулятив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у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3149640"/>
            <a:ext cx="32400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Познавате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у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80000" y="3195720"/>
            <a:ext cx="3419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Коммуникативные у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512800" y="2700360"/>
            <a:ext cx="235260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2700360"/>
            <a:ext cx="270036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59280" y="2700360"/>
            <a:ext cx="180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0360" y="4500720"/>
            <a:ext cx="341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Логические У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19640" y="4500720"/>
            <a:ext cx="34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Общеучебные У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00720" y="4522680"/>
            <a:ext cx="3419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Постановка и решение задач/проб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152800" y="3959280"/>
            <a:ext cx="271296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3959280"/>
            <a:ext cx="287964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3959280"/>
            <a:ext cx="180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гулятивные УУ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20880" y="2281320"/>
            <a:ext cx="3759120" cy="18590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ценк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692440" y="1440000"/>
            <a:ext cx="1455840" cy="12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40360" y="1440000"/>
            <a:ext cx="1979280" cy="107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9800" y="2281320"/>
            <a:ext cx="375948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Самооце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3419640"/>
            <a:ext cx="918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-Информировать (предоставлять обратную связ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3600360"/>
            <a:ext cx="483876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-Стимулировать у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0720" y="4140360"/>
            <a:ext cx="755964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-Развивать объективное отношение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39440" y="2091960"/>
            <a:ext cx="860580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343080"/>
                <a:tab algn="l" pos="717480"/>
                <a:tab algn="l" pos="1441440"/>
                <a:tab algn="l" pos="2171880"/>
                <a:tab algn="l" pos="2889360"/>
                <a:tab algn="l" pos="3613320"/>
                <a:tab algn="l" pos="4336920"/>
                <a:tab algn="l" pos="5060880"/>
                <a:tab algn="l" pos="5784840"/>
                <a:tab algn="l" pos="6515280"/>
                <a:tab algn="l" pos="7232760"/>
                <a:tab algn="l" pos="795672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899640" y="1925640"/>
            <a:ext cx="860580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ценка, самооценка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— выделение и осознание учащихся того, что уже усвоено и что еще нужно усвоить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-233640"/>
            <a:ext cx="8604360" cy="29797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объективной самооценки на основе теории и технологии СДО</a:t>
            </a:r>
            <a:br>
              <a:rPr sz="3200"/>
            </a:br>
            <a:br>
              <a:rPr sz="2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явка на оценк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онент урока, определенный рейтинг каждого ученика и рассчитывается к каждому уро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79640" y="2548080"/>
            <a:ext cx="828036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msmincho"/>
              </a:rPr>
              <a:t>Зависит от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smincho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темы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- типа учебного занятия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-системы заданий и их трудоёмкости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-количества учащихся в класс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(до 15 учеников- 3 балл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от 15 до 25 учеников — 2 балл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от 26 учеников- 1 балл)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36560" y="2909880"/>
            <a:ext cx="86234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9440" y="671040"/>
            <a:ext cx="8607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дание №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20720" y="1596960"/>
            <a:ext cx="88200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...жди, с..ды, с..бака, р...бота, гр..за, ст...на, м...лок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0720" y="2871720"/>
            <a:ext cx="882000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Выписать слова с безударной гласной, проверяемой ударением и подобрать проверочно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37800"/>
            <a:ext cx="394020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дание №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1079640"/>
            <a:ext cx="8999640" cy="9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Д...жди, с..ды, с..бака, р...бота, гр..за, ст...на, м...ло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0720" y="2171880"/>
            <a:ext cx="893772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Выписать слова с безударной гласной, проверяемой ударением и подобрать проверочно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Самооц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(За каждое правильное записанное слово с проверочным словом 2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Максимально 8 бал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280" y="650520"/>
            <a:ext cx="8604360" cy="5807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 2:</a:t>
            </a:r>
            <a:br>
              <a:rPr sz="2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слова.</a:t>
            </a:r>
            <a:br>
              <a:rPr sz="2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В...лчата ,г..лчата, з..йчата, к..злят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Р..дник, п..рник, н..чник, ч..йни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С..сновый, д..ждливый, д..машний, б..льной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е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Списать в тетрад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уппу сл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 которой все слова с проверяемой безударной гласной «о», рядом написать проверочные слов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 одним из слов составить предложен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374760"/>
                <a:tab algn="l" pos="1098720"/>
                <a:tab algn="l" pos="1825560"/>
                <a:tab algn="l" pos="2546280"/>
                <a:tab algn="l" pos="3270240"/>
                <a:tab algn="l" pos="3994200"/>
                <a:tab algn="l" pos="4718160"/>
                <a:tab algn="l" pos="5442120"/>
                <a:tab algn="l" pos="6168960"/>
                <a:tab algn="l" pos="6889680"/>
                <a:tab algn="l" pos="7613640"/>
                <a:tab algn="l" pos="7737480"/>
                <a:tab algn="l" pos="8186760"/>
                <a:tab algn="l" pos="8636040"/>
                <a:tab algn="l" pos="9085320"/>
                <a:tab algn="l" pos="9534600"/>
                <a:tab algn="l" pos="9983880"/>
                <a:tab algn="l" pos="10436400"/>
                <a:tab algn="l" pos="1077912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280" y="360360"/>
            <a:ext cx="8604360" cy="65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 2:</a:t>
            </a:r>
            <a:br>
              <a:rPr sz="2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слова.</a:t>
            </a:r>
            <a:br>
              <a:rPr sz="2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В...лчата ,г..лчата, з..йчата, к..злят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Р..дник, п..рник, н..чник, ч..йни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С..сновый, д..ждливый, д..машний, б..льной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е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Списать в тетрад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уппу сл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 которой все слова с проверяемой безударной гласной «о», рядом написать проверочные слов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 одним из слов составить предложение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мооценк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Если выписана группа слов верно, то получаете 4 балла + 1 балл за предложение. Максимально 5 баллов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3-08-21T15:23:23Z</dcterms:modified>
  <cp:revision>9</cp:revision>
  <dc:subject/>
  <dc:title/>
</cp:coreProperties>
</file>