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DD2-80A2-4E95-8CF0-CCC4C4F9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C15-2827-4D7E-8C14-D5BF3A53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931-4208-4680-95F0-999A8628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ED9-968D-4187-B8E2-6808C411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B30F-0AD8-4875-AF6D-F925D5C4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091-7559-4B62-96F3-7B06A761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DAD-A5B0-4B98-8F5D-7C630AD1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12D-AE11-49B9-A6A3-6B27575F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998-1C31-4A39-A892-1390C41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64A-CBB1-4DC4-9CDF-C253E08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3127-573E-461A-8B68-31596E7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240-0438-4586-BA23-D538CAC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8EE6-5E52-4864-87E8-4ED71DB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7CB-C5A5-454A-9211-9BC1752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A14A-A632-4459-A593-02F4507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AF9-30FC-4A36-8778-CA8628E8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813F-DBA0-446C-AF95-7F1CF854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3AC0-F6EA-485A-8D6D-EED82CF6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E890-B2B4-444C-B0C3-37DE0E8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0441-9FE5-4477-90FA-9277051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DE91-B7F1-4B78-9DBF-3AC4D634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D759-D4C3-4205-AB5A-E276724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C44-553E-4AA2-AD4E-848D284C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E1AC-5F5D-4006-8838-18924FC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737E-4225-4AD9-A50C-85D7C94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7D79-D47C-4AA6-87E1-8CE3B59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8B58-1A80-4F3D-8B23-9D298CF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7790-44DF-459E-9090-818DEA6B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A198-80E9-4022-A1C7-C6C236C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ABC2-F2BC-4021-8DD2-27599B5C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B681-7C0B-46E0-82FE-C4CDA5C0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356C-1FA5-4426-9FDE-A41097B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6A6A-FF2C-486B-B765-51A21BC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C5B-55E0-4CE5-96BD-708D82D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E2BD-F451-400C-9715-0FDAE9A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00F5-5B14-479C-8EF8-B45E7A09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D66C-B3E7-44FA-817F-A3159B9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A753-343F-49A2-A157-E83D513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8E26-1A52-452B-BF1B-1B66BA4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C509-FE6D-4540-8755-EC36F60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9C7C-3300-4BFA-8865-9347BA5A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983A-018F-47A4-95D8-B74FB165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6D9A-F5B2-420B-BEA1-F1549CA5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4D97-9CFA-4744-B590-EAD2833D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F0C-14C1-4503-B80B-E4A990F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B239-9A67-43FA-B64F-F5ECCB18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A59D-A95A-4BAD-A35A-E8F5B32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74F7-0A23-4F45-A540-CFE1F0EC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B9BF-8517-4F12-8581-E342E81D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6EB1-6C8F-44D4-BC7B-512D9B0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1BE3-C4E7-4534-8308-390BC17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8A93-A065-406B-8B7A-756ADCB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83D4-3795-4664-B1E0-291F94D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9DFD-6789-4701-AC04-6BB2C83B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D3D9-F034-4C53-A707-D593E9B3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C41-D0A0-4B1E-BCBE-623CD8A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D287-336E-404B-9FC4-523AD6E2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04-298C-4974-8636-A843B5D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64C-0B51-47D6-8D74-194A837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E18-5223-497B-A8AF-F253058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C986-C99C-43E4-A6E7-CB891A00268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4CF-405A-41C3-B367-215E0F2099E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A53-3EAB-4D0E-9D33-C4FC9EC6066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8426-5379-43AD-9B5C-7BC90ED73BC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EC9-85D4-48DF-9094-095D46104C4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05120"/>
            <a:ext cx="9144000" cy="710892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IX ГОРОДСКАЯ ОТКРЫТАЯ НАУЧНО-ПРАКТИЧЕСКАЯ КОНФЕРЕНЦИЯ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АКАДЕМИИ ЮНЫХ ИССЛЕДОВАТЕЛЕЙ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правление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Творчество юных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 »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Секция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Лингвистика и литературоведение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 »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звание работы: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  <a:ea typeface="Times New Roman"/>
              </a:rPr>
              <a:t>В поисках счастья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Автор работы: Горунова Карина Алексеевна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Место выполнения работы: Лагутнинская СОШ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Научный руководитель: Борисова Г.А.</a:t>
            </a:r>
            <a:br>
              <a:rPr sz="28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Times New Roman"/>
              </a:rPr>
              <a:t>2017 г.</a:t>
            </a:r>
            <a:endParaRPr b="0" lang="en-US" sz="2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2987640" y="15573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частье есть нечто совершен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 нельзя почувствовать взгля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 можно лишь ощутить серд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сточная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0" y="3168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0000"/>
                </a:solidFill>
                <a:uFillTx/>
                <a:latin typeface="Candara"/>
              </a:rPr>
              <a:t>Актуальность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в последние десятилетия термин «концепт» стал объектом острых научных дискуссий не только  лингвистов и литературовед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0000"/>
                </a:solidFill>
                <a:uFillTx/>
                <a:latin typeface="Candara"/>
              </a:rPr>
              <a:t>Цель работы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сследовать рассказы В.М. Шукшина с целью рассмотрения концепта «счастье» и выявления авторского отношения к данному концеп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0" y="2494080"/>
            <a:ext cx="831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ndara"/>
              </a:rPr>
              <a:t>Задачи работы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существить  сбор информации по данн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овести словарные наблюдения, проанализировать представленные результаты эксперимента среди студентов, осуществить опрос учащихся с целью получения модели концепта  «счаст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на основе отобранных рассказов В.М. Шукшина провести лексический анализ, анализ фразеологических и синтаксических единиц, а также рассмотреть «причины» счастья геро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939000" cy="2016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Corbel"/>
              </a:rPr>
              <a:t>ПОНЯТИЕ «КОНЦЕПТ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      ОБЗОР НАУЧНОЙ ЛИТЕРАТУРЫ ПОКАЗЫВАЕТ, ЧТО В СОВРЕМЕННОЙ ЛИНГВИСТИКЕ НЕТ ЕДИНОГО ПОНИМАНИЯ ТЕРМИНА «КОНЦЕПТ». </a:t>
            </a:r>
            <a:br>
              <a:rPr sz="3200"/>
            </a:br>
            <a:endParaRPr b="0" lang="en-US" sz="20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6920" y="2491920"/>
            <a:ext cx="7490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.С.Лихач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дполагает, что концепт «не непосредственно возникает из значения слова, а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результатом столкновения словарного значения слова с личным и народным опытом человека..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и концепта тем шире и богаче, чем шире и богаче культурный опыт человека»</a:t>
            </a:r>
            <a:endParaRPr b="0" lang="en-US" sz="2800" spc="-1" strike="noStrike">
              <a:solidFill>
                <a:srgbClr val="262626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71220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01600" y="2366640"/>
            <a:ext cx="6940800" cy="168444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01960" rIns="201960" tIns="201960" bIns="2019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6" name="Picture 4" descr="export"/>
          <p:cNvPicPr/>
          <p:nvPr/>
        </p:nvPicPr>
        <p:blipFill>
          <a:blip r:embed="rId1">
            <a:alphaModFix amt="23000"/>
          </a:blip>
          <a:stretch/>
        </p:blipFill>
        <p:spPr>
          <a:xfrm>
            <a:off x="539640" y="476280"/>
            <a:ext cx="8280360" cy="6211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-1800" y="46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3e40"/>
                </a:solidFill>
                <a:latin typeface="Arial"/>
              </a:rPr>
              <a:t>Модель «счастья» молод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Diagram 2"/>
          <p:cNvGrpSpPr/>
          <p:nvPr/>
        </p:nvGrpSpPr>
        <p:grpSpPr>
          <a:xfrm>
            <a:off x="363240" y="1347840"/>
            <a:ext cx="5669280" cy="5392800"/>
            <a:chOff x="363240" y="1347840"/>
            <a:chExt cx="5669280" cy="5392800"/>
          </a:xfrm>
        </p:grpSpPr>
        <p:sp>
          <p:nvSpPr>
            <p:cNvPr id="219" name="_s1028"/>
            <p:cNvSpPr/>
            <p:nvPr/>
          </p:nvSpPr>
          <p:spPr>
            <a:xfrm>
              <a:off x="363240" y="2179440"/>
              <a:ext cx="4326480" cy="4561200"/>
            </a:xfrm>
            <a:prstGeom prst="donut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99"/>
              </a:solidFill>
              <a:miter/>
            </a:ln>
            <a:effectLst>
              <a:outerShdw dist="71785" dir="81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9"/>
            <p:cNvSpPr/>
            <p:nvPr/>
          </p:nvSpPr>
          <p:spPr>
            <a:xfrm>
              <a:off x="5154120" y="5136480"/>
              <a:ext cx="865440" cy="38088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ружб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30"/>
            <p:cNvSpPr/>
            <p:nvPr/>
          </p:nvSpPr>
          <p:spPr>
            <a:xfrm>
              <a:off x="672120" y="2504880"/>
              <a:ext cx="3708360" cy="3909600"/>
            </a:xfrm>
            <a:prstGeom prst="donut">
              <a:avLst>
                <a:gd name="adj" fmla="val 50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71785" dir="81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31"/>
            <p:cNvSpPr/>
            <p:nvPr/>
          </p:nvSpPr>
          <p:spPr>
            <a:xfrm>
              <a:off x="5146560" y="4505040"/>
              <a:ext cx="885960" cy="37944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ень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2"/>
            <p:cNvSpPr/>
            <p:nvPr/>
          </p:nvSpPr>
          <p:spPr>
            <a:xfrm>
              <a:off x="1599480" y="3482640"/>
              <a:ext cx="2169000" cy="2355840"/>
            </a:xfrm>
            <a:prstGeom prst="donut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3"/>
            <p:cNvSpPr/>
            <p:nvPr/>
          </p:nvSpPr>
          <p:spPr>
            <a:xfrm>
              <a:off x="4997160" y="2902320"/>
              <a:ext cx="865440" cy="37800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Удача,  успе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1908360" y="3808080"/>
              <a:ext cx="1428120" cy="1516680"/>
            </a:xfrm>
            <a:prstGeom prst="donut">
              <a:avLst>
                <a:gd name="adj" fmla="val 50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71785" dir="81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5"/>
            <p:cNvSpPr/>
            <p:nvPr/>
          </p:nvSpPr>
          <p:spPr>
            <a:xfrm>
              <a:off x="5146560" y="1888920"/>
              <a:ext cx="865440" cy="38016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ад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6"/>
            <p:cNvSpPr/>
            <p:nvPr/>
          </p:nvSpPr>
          <p:spPr>
            <a:xfrm>
              <a:off x="2217600" y="4134240"/>
              <a:ext cx="617760" cy="651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7"/>
            <p:cNvSpPr/>
            <p:nvPr/>
          </p:nvSpPr>
          <p:spPr>
            <a:xfrm>
              <a:off x="5146560" y="1347840"/>
              <a:ext cx="865440" cy="379440"/>
            </a:xfr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емья, здоровь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2"/>
          <p:cNvSpPr/>
          <p:nvPr/>
        </p:nvSpPr>
        <p:spPr>
          <a:xfrm>
            <a:off x="484920" y="3333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«счастья» детей и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436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970080" cy="297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-181080" y="2492280"/>
            <a:ext cx="4415040" cy="48578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4233960" y="40449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в результате сравнения видно, что наиболее важные компоненты совпадают, но есть и различия, которые показывают, что изменения в структуре концепта возможны, и они обусловлены изменениями социально-культурных условий обитани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7" descr="Шукшин_Василий_Макарович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9"/>
          <p:cNvSpPr/>
          <p:nvPr/>
        </p:nvSpPr>
        <p:spPr>
          <a:xfrm>
            <a:off x="4462560" y="13824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Макарович Шукшин родился 25 июля 1929 года в селе Сростки Алтайского края в крестьянской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54 году Шукшин поступил во ВГИК на режиссерское отделение. Свою первую небольшую роль Василий Макарович сыграл в 1956 году в фильме С. Герасимова «Тихий Д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63 года Василий Шукшин, биография которого была пестра на разные профессии, работает режиссером в ЦКДЮФ. Вскоре в журнале «Новый мир» вышли рассказы «Классный водитель», «Гринька Малюгин» и первая книга писателя «Сельские жите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4 году был закончен первый полнометражный фильм Шукшина – «Живет такой парен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Diagram 2"/>
          <p:cNvGrpSpPr/>
          <p:nvPr/>
        </p:nvGrpSpPr>
        <p:grpSpPr>
          <a:xfrm>
            <a:off x="0" y="115920"/>
            <a:ext cx="6516360" cy="3658680"/>
            <a:chOff x="0" y="115920"/>
            <a:chExt cx="6516360" cy="3658680"/>
          </a:xfrm>
        </p:grpSpPr>
        <p:sp>
          <p:nvSpPr>
            <p:cNvPr id="237" name="_s2052"/>
            <p:cNvSpPr/>
            <p:nvPr/>
          </p:nvSpPr>
          <p:spPr>
            <a:xfrm>
              <a:off x="0" y="646200"/>
              <a:ext cx="4788000" cy="3128400"/>
            </a:xfrm>
            <a:prstGeom prst="donut">
              <a:avLst>
                <a:gd name="adj" fmla="val 1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053"/>
            <p:cNvSpPr/>
            <p:nvPr/>
          </p:nvSpPr>
          <p:spPr>
            <a:xfrm>
              <a:off x="5454720" y="2347200"/>
              <a:ext cx="959040" cy="3463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Candara"/>
                  <a:ea typeface="Times New Roman"/>
                </a:rPr>
                <a:t>Удача, вез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054"/>
            <p:cNvSpPr/>
            <p:nvPr/>
          </p:nvSpPr>
          <p:spPr>
            <a:xfrm>
              <a:off x="483120" y="955800"/>
              <a:ext cx="3830760" cy="2502360"/>
            </a:xfrm>
            <a:prstGeom prst="donut">
              <a:avLst>
                <a:gd name="adj" fmla="val 125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2055"/>
            <p:cNvSpPr/>
            <p:nvPr/>
          </p:nvSpPr>
          <p:spPr>
            <a:xfrm>
              <a:off x="5432040" y="1889280"/>
              <a:ext cx="957600" cy="347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Candara"/>
                  <a:ea typeface="Times New Roman"/>
                </a:rPr>
                <a:t>Семья, де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>
              <a:off x="962280" y="1269000"/>
              <a:ext cx="2873160" cy="1876680"/>
            </a:xfrm>
            <a:prstGeom prst="donut">
              <a:avLst>
                <a:gd name="adj" fmla="val 16666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57"/>
            <p:cNvSpPr/>
            <p:nvPr/>
          </p:nvSpPr>
          <p:spPr>
            <a:xfrm>
              <a:off x="5312520" y="1496520"/>
              <a:ext cx="959040" cy="348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andara"/>
                  <a:ea typeface="Times New Roman"/>
                </a:rPr>
                <a:t>Вообще ж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2058"/>
            <p:cNvSpPr/>
            <p:nvPr/>
          </p:nvSpPr>
          <p:spPr>
            <a:xfrm>
              <a:off x="1440720" y="1581480"/>
              <a:ext cx="1915560" cy="1251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59"/>
            <p:cNvSpPr/>
            <p:nvPr/>
          </p:nvSpPr>
          <p:spPr>
            <a:xfrm>
              <a:off x="5170680" y="965880"/>
              <a:ext cx="958320" cy="275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andara"/>
                  <a:ea typeface="Times New Roman"/>
                </a:rPr>
                <a:t>Жизнь в дерев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60"/>
            <p:cNvSpPr/>
            <p:nvPr/>
          </p:nvSpPr>
          <p:spPr>
            <a:xfrm>
              <a:off x="1919880" y="1894320"/>
              <a:ext cx="957600" cy="6253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061"/>
            <p:cNvSpPr/>
            <p:nvPr/>
          </p:nvSpPr>
          <p:spPr>
            <a:xfrm>
              <a:off x="5099760" y="115920"/>
              <a:ext cx="1416600" cy="726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Состояние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души,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andara"/>
                  <a:ea typeface="Times New Roman"/>
                </a:rPr>
                <a:t>вызванное положительными эмоц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Прямоугольник 2"/>
          <p:cNvSpPr/>
          <p:nvPr/>
        </p:nvSpPr>
        <p:spPr>
          <a:xfrm>
            <a:off x="0" y="3789360"/>
            <a:ext cx="912492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 Шукшина ядром модели является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остояние души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, в котором находятся герои в момент высшего удовлетвор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мпонент </a:t>
            </a:r>
            <a:r>
              <a:rPr b="1" lang="ru-RU" sz="1100" spc="-1" strike="noStrike">
                <a:solidFill>
                  <a:srgbClr val="000000"/>
                </a:solidFill>
                <a:latin typeface="Trebuchet MS"/>
              </a:rPr>
              <a:t>удача, везение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присутствует в обоих случаях. Это вполне объяснимо: русский человек всегда надеется на удачу – эта его характерная черта учтена и составителями словарей и, конечно, писателем, который достаточно хорошо знал особенности русской душ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ледующий компонент особенно характерен для рассказов Шукшина. Автор  сам очень любил русскую деревню, естественно, что эту любовь он перенес и на своих героев. Поэтому Шукшин и связывает счастье с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проживанием в деревне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А вот структурный компонент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жить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объяснить непросто. Дело в том, что иногда писатель показывает, что люди, как философы, тоже задумываются о жизни вообще, и в минуты наивысшего удовлетворения рады, что просто живу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нтересно, что счастье, связанное </a:t>
            </a: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 семьей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не рассматривается на традиционном уровне. Зато мы видим совпадения в этом вопросе с ответами современных студентов и подрост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до отметить, что нынешнее поколение обязательно видит счастье и в материальном достатке, чего мы не встречали  в рассказах В.М. Шукшина.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днятая проблема, на наш взгляд, очень интересна. Кажется, при очередном прочтении рассказа, опять открываешь что-то новое. Одно определенно ясно в рассказах Василия Макаровича Шукшина, чт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rebuchet MS"/>
              </a:rPr>
              <a:t>Счастье</a:t>
            </a:r>
            <a:r>
              <a:rPr b="0" i="1" lang="ru-RU" sz="1100" spc="-1" strike="noStrike">
                <a:solidFill>
                  <a:srgbClr val="000000"/>
                </a:solidFill>
                <a:latin typeface="Trebuchet MS"/>
              </a:rPr>
              <a:t> – это прежде всего состояние души, зависящее в значительной мере от характера человека.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4T15:49:45Z</dcterms:created>
  <dc:creator>Вика</dc:creator>
  <dc:description/>
  <dc:language>en-US</dc:language>
  <cp:lastModifiedBy>user</cp:lastModifiedBy>
  <dcterms:modified xsi:type="dcterms:W3CDTF">2017-02-02T06:11:08Z</dcterms:modified>
  <cp:revision>19</cp:revision>
  <dc:subject/>
  <dc:title>Презентация PowerPoint</dc:title>
</cp:coreProperties>
</file>