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9193-F920-4104-A992-30D5F490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25A0-EF41-4B64-A10C-67EA9995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93C8-4DA5-47FD-9BD0-1FF5C7157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DFEE-251A-41D3-9FB8-B8DF2514F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0B24-3FF3-43DE-A6E0-DD634713F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4D2F-E944-4034-A89B-95465483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ACAF-7F3D-4391-8AC8-3C81E823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18F0-CF47-47DB-8832-68ABD240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7D2C-7E26-49B8-B4D0-73E34943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C70A-8F10-4D30-A162-685F533A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99B7-12D0-4941-91F3-99BD210D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0B67-B57F-4DCD-8B5B-091D44D2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C071-81CC-4CA2-83A0-DCE37D5E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2657-E401-47FB-BE76-194D7117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0B81-220C-46F9-A503-0E84C69D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0A08-67CD-432F-BB28-9E77F0C3F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A087-59B5-49EC-AD78-AFD2675AD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1145D-90AE-432D-BC88-14CFE600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2BBF6-3B05-4F29-A643-E308C26B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F0C76-3DDF-4F75-A5F8-C7CDB2DF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02ABE-02FD-40EC-BB5C-8A55EBFC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DCFD8-4C3D-4527-BC93-4AEFC9B0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E71F-69E5-4147-B413-8CEC6FF8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A5FF3-7926-4066-843A-76900751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33074-C02A-487F-9892-0EAB1887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E1B10-4CE7-47CF-B186-676E74D1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EC6E8-6771-49AF-81EC-8EEE0AD9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95D41-8CEE-43BF-85BC-51534842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93E05-DBDD-4B06-BC6B-8D490B528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D49E8-E41D-454E-AA35-0285E511B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44413-2AA9-495A-ABFA-21AAD5C8D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F4833-9BD1-431E-8710-F0C6D5C1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82183-1CE0-433E-8F12-2F211630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A0AC-94D5-4BC3-9340-4816BD6F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25B8C-6BFF-4936-93C5-A09AB8A7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913FD-D939-4CFD-BE44-C5A0B37F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A2546-ECCE-4A51-B4D8-1B4D3B96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D7EE6-B743-478F-A560-49F726B8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37244-FDF3-42DA-9F3E-B3E417BF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695A5-994F-48B2-8347-0CE9A501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CCEA1-7525-4EEC-95EE-7B8933C9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C76F1-7A39-46AD-985A-5E8517880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EE5F5-B00B-4DD0-8BBC-F84B65F0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FC08E-8AD4-4A53-93CB-4AD2DF8F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9601-EE53-482B-8C27-BAE90C5F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79621-D2E0-4429-9C7B-583B8BAF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0891A-5600-4E89-9E02-85BF1235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80C9C-09C2-4E63-A797-3E0D645E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D0A3D-51D8-4512-9449-38DED961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DB87F-5216-4AC4-B161-D6501CA8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5AC40-0063-46AB-9101-D8A34258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A39F5-BAC1-4132-876D-9E8E1976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4616D-B1C1-446B-99CC-AD41EE9D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CDA96-96E5-4A94-997F-39EEFA7F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B5643-3D8B-4866-8D5A-B45DB35AC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48F9-EED5-4E8D-9D1C-E4841A08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64343-8D6D-4072-8A3B-AE6F8B04B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1A02-6031-4F24-9455-0ACFE754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1A40-10A3-44E5-AF8E-05A0DBF1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BA84-A70F-4D18-8524-C18766C9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rbel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5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6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FD96-7131-4A06-9AB8-A097C75162D5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af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rbel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5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6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812C-5901-4238-A3BE-FFC3AD8F2D17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21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rbel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5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6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1AA4-A00A-4645-A83D-3C530CE78D3B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5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ba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rbel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5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6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641520" y="6235200"/>
            <a:ext cx="38052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E62B-F947-479D-A7F0-6F48F4B865CE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7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ba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rbel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5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6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639720" y="6235200"/>
            <a:ext cx="3803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EC9E-068E-4C63-A321-BEF948B13BC7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105120"/>
            <a:ext cx="9144000" cy="7108920"/>
          </a:xfrm>
          <a:prstGeom prst="rect">
            <a:avLst/>
          </a:prstGeom>
          <a:solidFill>
            <a:srgbClr val="9baf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Times New Roman"/>
              </a:rPr>
              <a:t>IX ГОРОДСКАЯ ОТКРЫТАЯ НАУЧНО-ПРАКТИЧЕСКАЯ КОНФЕРЕНЦИЯ</a:t>
            </a:r>
            <a:br>
              <a:rPr sz="1200"/>
            </a:b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Times New Roman"/>
              </a:rPr>
              <a:t>АКАДЕМИИ ЮНЫХ ИССЛЕДОВАТЕЛЕЙ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1200"/>
            </a:b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Times New Roman"/>
              </a:rPr>
              <a:t>Направление: </a:t>
            </a:r>
            <a:r>
              <a:rPr b="1" lang="ru-RU" sz="2800" spc="-1" strike="noStrike">
                <a:solidFill>
                  <a:srgbClr val="000000"/>
                </a:solidFill>
                <a:latin typeface="Candara"/>
                <a:ea typeface="Times New Roman"/>
              </a:rPr>
              <a:t>«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ndara"/>
                <a:ea typeface="Times New Roman"/>
              </a:rPr>
              <a:t>Творчество юных</a:t>
            </a:r>
            <a:r>
              <a:rPr b="1" lang="ru-RU" sz="2800" spc="-1" strike="noStrike">
                <a:solidFill>
                  <a:srgbClr val="000000"/>
                </a:solidFill>
                <a:latin typeface="Candara"/>
                <a:ea typeface="Times New Roman"/>
              </a:rPr>
              <a:t> »</a:t>
            </a:r>
            <a:br>
              <a:rPr sz="1200"/>
            </a:b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Times New Roman"/>
              </a:rPr>
              <a:t>Секция: </a:t>
            </a:r>
            <a:r>
              <a:rPr b="1" lang="ru-RU" sz="2800" spc="-1" strike="noStrike">
                <a:solidFill>
                  <a:srgbClr val="000000"/>
                </a:solidFill>
                <a:latin typeface="Candara"/>
                <a:ea typeface="Times New Roman"/>
              </a:rPr>
              <a:t>«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ndara"/>
                <a:ea typeface="Times New Roman"/>
              </a:rPr>
              <a:t>Лингвистика и литературоведение</a:t>
            </a:r>
            <a:r>
              <a:rPr b="1" lang="ru-RU" sz="2800" spc="-1" strike="noStrike">
                <a:solidFill>
                  <a:srgbClr val="000000"/>
                </a:solidFill>
                <a:latin typeface="Candara"/>
                <a:ea typeface="Times New Roman"/>
              </a:rPr>
              <a:t> »</a:t>
            </a:r>
            <a:br>
              <a:rPr sz="1200"/>
            </a:b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Times New Roman"/>
              </a:rPr>
              <a:t>Название работы: </a:t>
            </a:r>
            <a:r>
              <a:rPr b="1" lang="ru-RU" sz="2800" spc="-1" strike="noStrike">
                <a:solidFill>
                  <a:srgbClr val="000000"/>
                </a:solidFill>
                <a:latin typeface="Candara"/>
                <a:ea typeface="Times New Roman"/>
              </a:rPr>
              <a:t>«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ndara"/>
                <a:ea typeface="Times New Roman"/>
              </a:rPr>
              <a:t>В поисках счастья»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1200"/>
            </a:b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Times New Roman"/>
              </a:rPr>
              <a:t>Автор работы: Горунова Карина Алексеевна</a:t>
            </a:r>
            <a:br>
              <a:rPr sz="1200"/>
            </a:b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Times New Roman"/>
              </a:rPr>
              <a:t>Место выполнения работы: Лагутнинская СОШ</a:t>
            </a:r>
            <a:br>
              <a:rPr sz="1200"/>
            </a:b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Times New Roman"/>
              </a:rPr>
              <a:t>Научный руководитель: Борисова Г.А.</a:t>
            </a:r>
            <a:br>
              <a:rPr sz="2800"/>
            </a:br>
            <a:br>
              <a:rPr sz="1200"/>
            </a:b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Times New Roman"/>
              </a:rPr>
              <a:t>2017 г.</a:t>
            </a:r>
            <a:endParaRPr b="0" lang="en-US" sz="2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2021040" y="4352760"/>
            <a:ext cx="510192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af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4"/>
          <p:cNvSpPr/>
          <p:nvPr/>
        </p:nvSpPr>
        <p:spPr>
          <a:xfrm>
            <a:off x="2987640" y="1557360"/>
            <a:ext cx="676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частье есть нечто совершенно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его нельзя почувствовать взгляд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его можно лишь ощутить сердц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осточная мудр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3"/>
          <p:cNvSpPr/>
          <p:nvPr/>
        </p:nvSpPr>
        <p:spPr>
          <a:xfrm>
            <a:off x="0" y="31680"/>
            <a:ext cx="8675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0000"/>
                </a:solidFill>
                <a:uFillTx/>
                <a:latin typeface="Candara"/>
              </a:rPr>
              <a:t>Актуальность</a:t>
            </a: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в последние десятилетия термин «концепт» стал объектом острых научных дискуссий не только  лингвистов и литературовед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0000"/>
                </a:solidFill>
                <a:uFillTx/>
                <a:latin typeface="Candara"/>
              </a:rPr>
              <a:t>Цель работы</a:t>
            </a: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исследовать рассказы В.М. Шукшина с целью рассмотрения концепта «счастье» и выявления авторского отношения к данному концепт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3"/>
          <p:cNvSpPr/>
          <p:nvPr/>
        </p:nvSpPr>
        <p:spPr>
          <a:xfrm>
            <a:off x="0" y="2494080"/>
            <a:ext cx="8317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Candara"/>
              </a:rPr>
              <a:t>Задачи работы</a:t>
            </a: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осуществить  сбор информации по данной т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провести словарные наблюдения, проанализировать представленные результаты эксперимента среди студентов, осуществить опрос учащихся с целью получения модели концепта  «счасть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на основе отобранных рассказов В.М. Шукшина провести лексический анализ, анализ фразеологических и синтаксических единиц, а также рассмотреть «причины» счастья геро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6939000" cy="201600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404040"/>
            </a:solidFill>
            <a:miter/>
          </a:ln>
        </p:spPr>
        <p:txBody>
          <a:bodyPr lIns="274320" rIns="274320" tIns="182880" bIns="1828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262626"/>
                </a:solidFill>
                <a:latin typeface="Corbel"/>
              </a:rPr>
              <a:t>ПОНЯТИЕ «КОНЦЕПТ»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262626"/>
                </a:solidFill>
                <a:latin typeface="Corbel"/>
              </a:rPr>
              <a:t>      ОБЗОР НАУЧНОЙ ЛИТЕРАТУРЫ ПОКАЗЫВАЕТ, ЧТО В СОВРЕМЕННОЙ ЛИНГВИСТИКЕ НЕТ ЕДИНОГО ПОНИМАНИЯ ТЕРМИНА «КОНЦЕПТ». </a:t>
            </a:r>
            <a:br>
              <a:rPr sz="3200"/>
            </a:br>
            <a:endParaRPr b="0" lang="en-US" sz="20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826920" y="2491920"/>
            <a:ext cx="74901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.С.Лихаче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редполагает, что концепт «не непосредственно возникает из значения слова, а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вляется результатом столкновения словарного значения слова с личным и народным опытом человека...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и концепта тем шире и богаче, чем шире и богаче культурный опыт человека»</a:t>
            </a:r>
            <a:endParaRPr b="0" lang="en-US" sz="2800" spc="-1" strike="noStrike">
              <a:solidFill>
                <a:srgbClr val="262626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1187280" y="0"/>
            <a:ext cx="6712200" cy="774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01600" y="2366640"/>
            <a:ext cx="6940800" cy="168444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404040"/>
            </a:solidFill>
            <a:miter/>
          </a:ln>
        </p:spPr>
        <p:txBody>
          <a:bodyPr lIns="201960" rIns="201960" tIns="201960" bIns="20196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5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021040" y="4352760"/>
            <a:ext cx="510192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9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16" name="Picture 4" descr="export"/>
          <p:cNvPicPr/>
          <p:nvPr/>
        </p:nvPicPr>
        <p:blipFill>
          <a:blip r:embed="rId1">
            <a:alphaModFix amt="23000"/>
          </a:blip>
          <a:stretch/>
        </p:blipFill>
        <p:spPr>
          <a:xfrm>
            <a:off x="539640" y="476280"/>
            <a:ext cx="8280360" cy="6211800"/>
          </a:xfrm>
          <a:prstGeom prst="rect">
            <a:avLst/>
          </a:prstGeom>
          <a:ln w="0">
            <a:noFill/>
          </a:ln>
        </p:spPr>
      </p:pic>
      <p:sp>
        <p:nvSpPr>
          <p:cNvPr id="217" name="TextBox 3"/>
          <p:cNvSpPr/>
          <p:nvPr/>
        </p:nvSpPr>
        <p:spPr>
          <a:xfrm>
            <a:off x="-1800" y="4680"/>
            <a:ext cx="35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3e40"/>
                </a:solidFill>
                <a:latin typeface="Arial"/>
              </a:rPr>
              <a:t>Модель «счастья» молоде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Diagram 2"/>
          <p:cNvGrpSpPr/>
          <p:nvPr/>
        </p:nvGrpSpPr>
        <p:grpSpPr>
          <a:xfrm>
            <a:off x="363240" y="1347840"/>
            <a:ext cx="5669280" cy="5392800"/>
            <a:chOff x="363240" y="1347840"/>
            <a:chExt cx="5669280" cy="5392800"/>
          </a:xfrm>
        </p:grpSpPr>
        <p:sp>
          <p:nvSpPr>
            <p:cNvPr id="219" name="_s1028"/>
            <p:cNvSpPr/>
            <p:nvPr/>
          </p:nvSpPr>
          <p:spPr>
            <a:xfrm>
              <a:off x="363240" y="2179440"/>
              <a:ext cx="4326480" cy="4561200"/>
            </a:xfrm>
            <a:prstGeom prst="donut">
              <a:avLst>
                <a:gd name="adj" fmla="val 500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333399"/>
              </a:solidFill>
              <a:miter/>
            </a:ln>
            <a:effectLst>
              <a:outerShdw dist="71785" dir="81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9"/>
            <p:cNvSpPr/>
            <p:nvPr/>
          </p:nvSpPr>
          <p:spPr>
            <a:xfrm>
              <a:off x="5154120" y="5136480"/>
              <a:ext cx="865440" cy="380880"/>
            </a:xfrm>
            <a:solidFill>
              <a:srgbClr val="99cc00"/>
            </a:solid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дружб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30"/>
            <p:cNvSpPr/>
            <p:nvPr/>
          </p:nvSpPr>
          <p:spPr>
            <a:xfrm>
              <a:off x="672120" y="2504880"/>
              <a:ext cx="3708360" cy="3909600"/>
            </a:xfrm>
            <a:prstGeom prst="donut">
              <a:avLst>
                <a:gd name="adj" fmla="val 500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9999"/>
              </a:solidFill>
              <a:miter/>
            </a:ln>
            <a:effectLst>
              <a:outerShdw dist="71785" dir="81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31"/>
            <p:cNvSpPr/>
            <p:nvPr/>
          </p:nvSpPr>
          <p:spPr>
            <a:xfrm>
              <a:off x="5146560" y="4505040"/>
              <a:ext cx="885960" cy="379440"/>
            </a:xfrm>
            <a:solidFill>
              <a:srgbClr val="99cc00"/>
            </a:solid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Деньг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32"/>
            <p:cNvSpPr/>
            <p:nvPr/>
          </p:nvSpPr>
          <p:spPr>
            <a:xfrm>
              <a:off x="1599480" y="3482640"/>
              <a:ext cx="2169000" cy="2355840"/>
            </a:xfrm>
            <a:prstGeom prst="donut">
              <a:avLst>
                <a:gd name="adj" fmla="val 500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8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33"/>
            <p:cNvSpPr/>
            <p:nvPr/>
          </p:nvSpPr>
          <p:spPr>
            <a:xfrm>
              <a:off x="4997160" y="2902320"/>
              <a:ext cx="865440" cy="378000"/>
            </a:xfrm>
            <a:solidFill>
              <a:srgbClr val="99cc00"/>
            </a:solid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Удача,  успе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34"/>
            <p:cNvSpPr/>
            <p:nvPr/>
          </p:nvSpPr>
          <p:spPr>
            <a:xfrm>
              <a:off x="1908360" y="3808080"/>
              <a:ext cx="1428120" cy="1516680"/>
            </a:xfrm>
            <a:prstGeom prst="donut">
              <a:avLst>
                <a:gd name="adj" fmla="val 5000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71785" dir="8100000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35"/>
            <p:cNvSpPr/>
            <p:nvPr/>
          </p:nvSpPr>
          <p:spPr>
            <a:xfrm>
              <a:off x="5146560" y="1888920"/>
              <a:ext cx="865440" cy="380160"/>
            </a:xfrm>
            <a:solidFill>
              <a:srgbClr val="99cc00"/>
            </a:solid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Рад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36"/>
            <p:cNvSpPr/>
            <p:nvPr/>
          </p:nvSpPr>
          <p:spPr>
            <a:xfrm>
              <a:off x="2217600" y="4134240"/>
              <a:ext cx="617760" cy="6512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37"/>
            <p:cNvSpPr/>
            <p:nvPr/>
          </p:nvSpPr>
          <p:spPr>
            <a:xfrm>
              <a:off x="5146560" y="1347840"/>
              <a:ext cx="865440" cy="379440"/>
            </a:xfrm>
            <a:solidFill>
              <a:srgbClr val="99cc00"/>
            </a:solid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Семья, здоровь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Box 2"/>
          <p:cNvSpPr/>
          <p:nvPr/>
        </p:nvSpPr>
        <p:spPr>
          <a:xfrm>
            <a:off x="484920" y="333360"/>
            <a:ext cx="46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дель «счастья» детей и подрост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787920" cy="4368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"/>
          <p:cNvPicPr/>
          <p:nvPr/>
        </p:nvPicPr>
        <p:blipFill>
          <a:blip r:embed="rId2"/>
          <a:stretch/>
        </p:blipFill>
        <p:spPr>
          <a:xfrm>
            <a:off x="4140360" y="333360"/>
            <a:ext cx="3970080" cy="2978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"/>
          <p:cNvPicPr/>
          <p:nvPr/>
        </p:nvPicPr>
        <p:blipFill>
          <a:blip r:embed="rId3"/>
          <a:stretch/>
        </p:blipFill>
        <p:spPr>
          <a:xfrm>
            <a:off x="-181080" y="2492280"/>
            <a:ext cx="4415040" cy="485784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"/>
          <p:cNvSpPr/>
          <p:nvPr/>
        </p:nvSpPr>
        <p:spPr>
          <a:xfrm>
            <a:off x="4233960" y="404496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, в результате сравнения видно, что наиболее важные компоненты совпадают, но есть и различия, которые показывают, что изменения в структуре концепта возможны, и они обусловлены изменениями социально-культурных условий обитания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7" descr="Шукшин_Василий_Макарович"/>
          <p:cNvPicPr/>
          <p:nvPr/>
        </p:nvPicPr>
        <p:blipFill>
          <a:blip r:embed="rId1"/>
          <a:stretch/>
        </p:blipFill>
        <p:spPr>
          <a:xfrm>
            <a:off x="0" y="0"/>
            <a:ext cx="440856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19"/>
          <p:cNvSpPr/>
          <p:nvPr/>
        </p:nvSpPr>
        <p:spPr>
          <a:xfrm>
            <a:off x="4462560" y="138240"/>
            <a:ext cx="468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силий Макарович Шукшин родился 25 июля 1929 года в селе Сростки Алтайского края в крестьянской семь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954 году Шукшин поступил во ВГИК на режиссерское отделение. Свою первую небольшую роль Василий Макарович сыграл в 1956 году в фильме С. Герасимова «Тихий Д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1963 года Василий Шукшин, биография которого была пестра на разные профессии, работает режиссером в ЦКДЮФ. Вскоре в журнале «Новый мир» вышли рассказы «Классный водитель», «Гринька Малюгин» и первая книга писателя «Сельские жител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964 году был закончен первый полнометражный фильм Шукшина – «Живет такой парен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af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Diagram 2"/>
          <p:cNvGrpSpPr/>
          <p:nvPr/>
        </p:nvGrpSpPr>
        <p:grpSpPr>
          <a:xfrm>
            <a:off x="0" y="115920"/>
            <a:ext cx="6516360" cy="3658680"/>
            <a:chOff x="0" y="115920"/>
            <a:chExt cx="6516360" cy="3658680"/>
          </a:xfrm>
        </p:grpSpPr>
        <p:sp>
          <p:nvSpPr>
            <p:cNvPr id="237" name="_s2052"/>
            <p:cNvSpPr/>
            <p:nvPr/>
          </p:nvSpPr>
          <p:spPr>
            <a:xfrm>
              <a:off x="0" y="646200"/>
              <a:ext cx="4788000" cy="3128400"/>
            </a:xfrm>
            <a:prstGeom prst="donut">
              <a:avLst>
                <a:gd name="adj" fmla="val 1000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2053"/>
            <p:cNvSpPr/>
            <p:nvPr/>
          </p:nvSpPr>
          <p:spPr>
            <a:xfrm>
              <a:off x="5454720" y="2347200"/>
              <a:ext cx="959040" cy="34632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Candara"/>
                  <a:ea typeface="Times New Roman"/>
                </a:rPr>
                <a:t>Удача, вез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2054"/>
            <p:cNvSpPr/>
            <p:nvPr/>
          </p:nvSpPr>
          <p:spPr>
            <a:xfrm>
              <a:off x="483120" y="955800"/>
              <a:ext cx="3830760" cy="2502360"/>
            </a:xfrm>
            <a:prstGeom prst="donut">
              <a:avLst>
                <a:gd name="adj" fmla="val 1250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2055"/>
            <p:cNvSpPr/>
            <p:nvPr/>
          </p:nvSpPr>
          <p:spPr>
            <a:xfrm>
              <a:off x="5432040" y="1889280"/>
              <a:ext cx="957600" cy="3474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Candara"/>
                  <a:ea typeface="Times New Roman"/>
                </a:rPr>
                <a:t>Семья, де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2056"/>
            <p:cNvSpPr/>
            <p:nvPr/>
          </p:nvSpPr>
          <p:spPr>
            <a:xfrm>
              <a:off x="962280" y="1269000"/>
              <a:ext cx="2873160" cy="1876680"/>
            </a:xfrm>
            <a:prstGeom prst="donut">
              <a:avLst>
                <a:gd name="adj" fmla="val 16666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2057"/>
            <p:cNvSpPr/>
            <p:nvPr/>
          </p:nvSpPr>
          <p:spPr>
            <a:xfrm>
              <a:off x="5312520" y="1496520"/>
              <a:ext cx="959040" cy="34812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Candara"/>
                  <a:ea typeface="Times New Roman"/>
                </a:rPr>
                <a:t>Вообще жи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2058"/>
            <p:cNvSpPr/>
            <p:nvPr/>
          </p:nvSpPr>
          <p:spPr>
            <a:xfrm>
              <a:off x="1440720" y="1581480"/>
              <a:ext cx="1915560" cy="1251000"/>
            </a:xfrm>
            <a:prstGeom prst="donut">
              <a:avLst>
                <a:gd name="adj" fmla="val 25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2059"/>
            <p:cNvSpPr/>
            <p:nvPr/>
          </p:nvSpPr>
          <p:spPr>
            <a:xfrm>
              <a:off x="5170680" y="965880"/>
              <a:ext cx="958320" cy="2754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Candara"/>
                  <a:ea typeface="Times New Roman"/>
                </a:rPr>
                <a:t>Жизнь в деревн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2060"/>
            <p:cNvSpPr/>
            <p:nvPr/>
          </p:nvSpPr>
          <p:spPr>
            <a:xfrm>
              <a:off x="1919880" y="1894320"/>
              <a:ext cx="957600" cy="62532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2061"/>
            <p:cNvSpPr/>
            <p:nvPr/>
          </p:nvSpPr>
          <p:spPr>
            <a:xfrm>
              <a:off x="5099760" y="115920"/>
              <a:ext cx="1416600" cy="72612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andara"/>
                  <a:ea typeface="Times New Roman"/>
                </a:rPr>
                <a:t>Состояние</a:t>
              </a:r>
              <a:r>
                <a:rPr b="0" lang="en-US" sz="1400" spc="-1" strike="noStrike">
                  <a:solidFill>
                    <a:srgbClr val="ff0000"/>
                  </a:solidFill>
                  <a:latin typeface="Candara"/>
                </a:rPr>
                <a:t> </a:t>
              </a:r>
              <a:r>
                <a:rPr b="0" lang="en-US" sz="1400" spc="-1" strike="noStrike">
                  <a:solidFill>
                    <a:srgbClr val="ff0000"/>
                  </a:solidFill>
                  <a:latin typeface="Candara"/>
                  <a:ea typeface="Times New Roman"/>
                </a:rPr>
                <a:t>души, </a:t>
              </a:r>
              <a:r>
                <a:rPr b="0" lang="en-US" sz="1400" spc="-1" strike="noStrike">
                  <a:solidFill>
                    <a:srgbClr val="ff0000"/>
                  </a:solidFill>
                  <a:latin typeface="Candara"/>
                </a:rPr>
                <a:t> </a:t>
              </a:r>
              <a:r>
                <a:rPr b="0" lang="en-US" sz="1400" spc="-1" strike="noStrike">
                  <a:solidFill>
                    <a:srgbClr val="ff0000"/>
                  </a:solidFill>
                  <a:latin typeface="Candara"/>
                  <a:ea typeface="Times New Roman"/>
                </a:rPr>
                <a:t>вызванное положительными эмоция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Прямоугольник 2"/>
          <p:cNvSpPr/>
          <p:nvPr/>
        </p:nvSpPr>
        <p:spPr>
          <a:xfrm>
            <a:off x="0" y="3789360"/>
            <a:ext cx="9124920" cy="32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У Шукшина ядром модели является </a:t>
            </a:r>
            <a:r>
              <a:rPr b="1" i="1" lang="ru-RU" sz="1100" spc="-1" strike="noStrike">
                <a:solidFill>
                  <a:srgbClr val="000000"/>
                </a:solidFill>
                <a:latin typeface="Trebuchet MS"/>
              </a:rPr>
              <a:t>состояние души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, в котором находятся герои в момент высшего удовлетворени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Компонент </a:t>
            </a:r>
            <a:r>
              <a:rPr b="1" lang="ru-RU" sz="1100" spc="-1" strike="noStrike">
                <a:solidFill>
                  <a:srgbClr val="000000"/>
                </a:solidFill>
                <a:latin typeface="Trebuchet MS"/>
              </a:rPr>
              <a:t>удача, везение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 присутствует в обоих случаях. Это вполне объяснимо: русский человек всегда надеется на удачу – эта его характерная черта учтена и составителями словарей и, конечно, писателем, который достаточно хорошо знал особенности русской душ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Следующий компонент особенно характерен для рассказов Шукшина. Автор  сам очень любил русскую деревню, естественно, что эту любовь он перенес и на своих героев. Поэтому Шукшин и связывает счастье с </a:t>
            </a:r>
            <a:r>
              <a:rPr b="1" i="1" lang="ru-RU" sz="1100" spc="-1" strike="noStrike">
                <a:solidFill>
                  <a:srgbClr val="000000"/>
                </a:solidFill>
                <a:latin typeface="Trebuchet MS"/>
              </a:rPr>
              <a:t>проживанием в деревне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А вот структурный компонент </a:t>
            </a:r>
            <a:r>
              <a:rPr b="1" i="1" lang="ru-RU" sz="1100" spc="-1" strike="noStrike">
                <a:solidFill>
                  <a:srgbClr val="000000"/>
                </a:solidFill>
                <a:latin typeface="Trebuchet MS"/>
              </a:rPr>
              <a:t>жить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 объяснить непросто. Дело в том, что иногда писатель показывает, что люди, как философы, тоже задумываются о жизни вообще, и в минуты наивысшего удовлетворения рады, что просто живу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Интересно, что счастье, связанное </a:t>
            </a:r>
            <a:r>
              <a:rPr b="1" i="1" lang="ru-RU" sz="1100" spc="-1" strike="noStrike">
                <a:solidFill>
                  <a:srgbClr val="000000"/>
                </a:solidFill>
                <a:latin typeface="Trebuchet MS"/>
              </a:rPr>
              <a:t>с семьей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 не рассматривается на традиционном уровне. Зато мы видим совпадения в этом вопросе с ответами современных студентов и подростк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Надо отметить, что нынешнее поколение обязательно видит счастье и в материальном достатке, чего мы не встречали  в рассказах В.М. Шукшина.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Поднятая проблема, на наш взгляд, очень интересна. Кажется, при очередном прочтении рассказа, опять открываешь что-то новое. Одно определенно ясно в рассказах Василия Макаровича Шукшина, что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rebuchet MS"/>
              </a:rPr>
              <a:t>Счастье</a:t>
            </a:r>
            <a:r>
              <a:rPr b="0" i="1" lang="ru-RU" sz="1100" spc="-1" strike="noStrike">
                <a:solidFill>
                  <a:srgbClr val="000000"/>
                </a:solidFill>
                <a:latin typeface="Trebuchet MS"/>
              </a:rPr>
              <a:t> – это прежде всего состояние души, зависящее в значительной мере от характера человека.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4T15:49:45Z</dcterms:created>
  <dc:creator>Вика</dc:creator>
  <dc:description/>
  <dc:language>en-US</dc:language>
  <cp:lastModifiedBy>user</cp:lastModifiedBy>
  <dcterms:modified xsi:type="dcterms:W3CDTF">2017-02-02T06:11:08Z</dcterms:modified>
  <cp:revision>19</cp:revision>
  <dc:subject/>
  <dc:title>Презентация PowerPoint</dc:title>
</cp:coreProperties>
</file>